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2C54-023E-4ADD-A25E-58B0EDFBB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6EAB-6363-43A7-BCC9-BBF50DB3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C4F9-D0FD-4F92-B606-08F899A10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51A9-3D0E-40C8-8294-B541BFE20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602C-4451-4441-BF7E-ED95E4DBB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4E6E6-C906-4EEC-B0DA-97CE2532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ED4DD-5258-4481-807C-D6B98AF9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A920C-DC62-42A3-A1CC-1F718999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21BA-919D-47F5-B364-4092578E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F30E-FEE8-4002-B400-45C5C6EA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6238-E57A-4764-8D51-9E97C97A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532F-241D-44D6-AC9E-BFAE2430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E43B4-3D5B-45F2-96F2-0A2154CB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1E58D-9133-4891-B8E0-32C405B9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8CBD-8577-46F9-8C67-89239C5F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A1BF8-5E52-4FF3-BC8E-6D1D33C39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3375-3E28-4072-A0EC-7FFF3D6C6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2BFF-B1E3-473B-A1D6-9398EFF0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FC47-752A-4BED-8010-855C5F8D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9D3E-9765-4BA4-BBE0-6D38BF20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97BB-978D-4B21-98AA-9452BDE4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9335-06B1-4AE4-B851-EB03BEFF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9124-ABF2-4F1C-AD9E-C1A1106B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EEFD-77BC-44B9-B6BF-4A20DEA4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F85F-F245-46A4-BF4D-31DEE73918EC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4694-A405-424D-A0B9-E98EF9D1624B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Espera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IN71K: Gestión de Operaciones en la Industria de Servicio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6 de agosto de 2007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Gestión de Percep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Básicos: Decoración, espejos, audiovisuales, comi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rvice-Relate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Ver el proces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ié en la puerta: Ficha médica, men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eshows: Experiencia memora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xpectativa del tiemp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obreestimación: Colas rápidas, reserv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ertidumbre: Seguridad al cliente, aproximación, explicaciones, ojo con las reservas y los númer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apacity Plan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s decidi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Número de servido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ceso de aten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ntidades en co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Capacity Planning: Atributos de una Solució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Variables del sistema (relacion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ersonas en siste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Tiempo de espera, tiempo en siste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Utiliza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tadístico (probabilidad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Medi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Máxim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ercenti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tal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Servidor, estación, r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liente, segmento, pobla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apacity Planning: Objetiv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neging, balk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pe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ten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s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ervic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pe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Capacity Planning: Metamodelos de Simulació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untos de diseñ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elección de variables de decis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Ej: Tiempo de reposición </a:t>
            </a:r>
            <a:r>
              <a:rPr b="0" i="1" lang="es-ES" sz="20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, distancias de movimiento </a:t>
            </a:r>
            <a:r>
              <a:rPr b="0" i="1" lang="es-ES" sz="2000" spc="-1" strike="noStrike">
                <a:solidFill>
                  <a:srgbClr val="003366"/>
                </a:solidFill>
                <a:latin typeface="Arial"/>
              </a:rPr>
              <a:t>D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y tamaño de flota </a:t>
            </a:r>
            <a:r>
              <a:rPr b="0" i="1" lang="es-E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pecificar posibles valo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lección aleator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juste de una fun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71640" y="5519880"/>
            <a:ext cx="735336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mentarios Fin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26920" y="2276280"/>
            <a:ext cx="76932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ercepción y capacidad interactú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ofistic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imulación versus solución analít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xponencial vs Little (varía con capacidad) vs Brownia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Otras soluci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Gestión de la oferta y la deman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ortancia del pronósti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gital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ortancia en el servic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imera impresión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Tiempo perdid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ortancia en los cos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cisiones a todo ni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Nuevos negoci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oyectos de invers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ejora continu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stema de Espe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racteriz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cisi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Herramientas de Solu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Gestión de Percepci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pacity Plan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mentarios Fin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istema de Espe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ntida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ceso de lleg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ipo de fi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ceso de aten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lección de entida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istema de Espe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ntida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egmentació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Tamañ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ceso de lleg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alidad versus información disponi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xponenci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Balking, reneg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pac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istema de Espe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26920" y="2320920"/>
            <a:ext cx="769320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ipo de fi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la ún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la múltip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Discriminación: Vip, banca, aerolíne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Jockey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pac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istema de Espera: Fila ún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uce institucion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upera expectativ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Ocupa más espac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enor espera promed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vita que las entidades se atasqu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ayor camaraderí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ayor justi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enor reneging, mayor bal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iempo de elección de servid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istema de Espe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ceso de aten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stribu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oper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tandariz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Interfaz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Tecnologí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Sistema de Espe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lección de entidad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CF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P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ehempt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CF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ezcl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ound Rob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5T19:26:17Z</dcterms:created>
  <dc:creator>Joselyn Bravo</dc:creator>
  <dc:description/>
  <dc:language>en-US</dc:language>
  <cp:lastModifiedBy>JMOSQUERA</cp:lastModifiedBy>
  <dcterms:modified xsi:type="dcterms:W3CDTF">2007-08-06T15:10:39Z</dcterms:modified>
  <cp:revision>37</cp:revision>
  <dc:subject/>
  <dc:title>Esper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