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C490-BEED-4EED-B4EA-307565BAF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C425-786F-4B80-9F1E-48DE1A9F1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4AD3-64DB-481A-93EA-6E8CFE02A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36F5-133C-41DF-95AE-C2BF3478C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9E741-5D32-48D8-A28F-18B08F26B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1D810-98C7-4144-88C2-CD444F56F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32CBF-4905-4EBA-8DE6-F78915382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E47AC-55E7-440F-8A93-09E582C5B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4E079-8739-463D-9B4E-F674CA4D2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CB40D-E9F8-4AA9-9A79-092758F6C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BCF4E-CFEF-482E-A37C-4725EA14B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32BA-DB33-42B3-B9A2-C27A1DB3C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473B5-34C7-458D-9E08-1BACC0E10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C5D93-93E8-40B0-BCF2-DF4A2B110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6AD3E-6E9B-40F1-9902-73BD516F3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DD9D0-FDF0-4857-8772-95410EB88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F8ED0-1DD7-471A-A5B6-1A255FFED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0D44-51D1-4AD9-800A-C86CE8680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C068-8E4B-43F4-B7B3-05225E507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B088-F82E-47C7-BED1-30B08386B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D144-5F8D-4D5E-951E-C943186D7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9D89-275E-4D24-811C-288855F3E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D7B4-5A8E-4B17-84BB-150BEF92D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FBC8-CDF1-4C36-BB12-523AB61E1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C6D23-CAD7-4E82-BFA8-26F2D8B3F8B1}" type="slidenum"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7114E-CE40-4D88-8025-98785EF4644C}" type="slidenum"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66"/>
                </a:solidFill>
                <a:latin typeface="Arial"/>
              </a:rPr>
              <a:t>Espera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66"/>
                </a:solidFill>
                <a:latin typeface="Arial"/>
              </a:rPr>
              <a:t>IN71K: Gestión de Operaciones en la Industria de Servicio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66"/>
                </a:solidFill>
                <a:latin typeface="Arial"/>
              </a:rPr>
              <a:t>6 de agosto de 2007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Gestión de Percepcion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Básicos: Decoración, espejos, audiovisuales, comid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ervice-Related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Ver el proces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ié en la puerta: Ficha médica, menú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reshows: Experiencia memorab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xpectativa del tiemp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Sobreestimación: Colas rápidas, reserv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ertidumbre: Seguridad al cliente, aproximación, explicaciones, ojo con las reservas y los númer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Capacity Plann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s decidir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Número de servidor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roceso de aten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ntidades en col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Capacity Planning: Atributos de una Solució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Variables del sistema (relacione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Personas en sistem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Tiempo de espera, tiempo en sistem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Utilizació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stadístico (probabilidad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Medi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Máxim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Percenti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etal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Servidor, estación, r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Cliente, segmento, població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Capacity Planning: Objetiv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ali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Reneging, balk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sper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Aten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ost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Servici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sper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Capacity Planning: Metamodelos de Simulació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untos de diseñ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Selección de variables de decis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Ej: Tiempo de reposición </a:t>
            </a:r>
            <a:r>
              <a:rPr b="0" i="1" lang="es-ES" sz="20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, distancias de movimiento </a:t>
            </a:r>
            <a:r>
              <a:rPr b="0" i="1" lang="es-ES" sz="2000" spc="-1" strike="noStrike">
                <a:solidFill>
                  <a:srgbClr val="003366"/>
                </a:solidFill>
                <a:latin typeface="Arial"/>
              </a:rPr>
              <a:t>D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 y tamaño de flota </a:t>
            </a:r>
            <a:r>
              <a:rPr b="0" i="1" lang="es-ES" sz="20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specificar posibles valor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elección aleator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juste de una fun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971640" y="5519880"/>
            <a:ext cx="7353360" cy="13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Comentarios Fina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26920" y="2276280"/>
            <a:ext cx="76932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ercepción y capacidad interactú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ofistic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Simulación versus solución analític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xponencial vs Little (varía con capacidad) vs Brownian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Otras solucion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Gestión de la oferta y la demand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mportancia del pronóstic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igitaliz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Introduc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mportancia en el servici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rimera impresión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Tiempo perdid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mportancia en los cost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ecisiones a todo ni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Nuevos negoci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royectos de invers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Mejora continu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istema de Esper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aracteriz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ecision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Herramientas de Solu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Gestión de Percepcion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apacity Plann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omentarios Fina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Sistema de Espe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ntidad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roceso de llegad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Tipo de fil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roceso de aten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elección de entidad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Sistema de Espe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ntidad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Segmentación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Tamañ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roceso de llegad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Realidad versus información disponib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xponenci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Balking, reneg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spaci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Sistema de Espe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26920" y="2320920"/>
            <a:ext cx="769320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Tipo de fil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ola únic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ola múltip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Discriminación: Vip, banca, aerolíne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Jockey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apacida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Sistema de Espera: Fila únic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Luce institucion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upera expectativ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Ocupa más espaci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Menor espera promedi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vita que las entidades se atasqu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Mayor camaraderí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Mayor justic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Menor reneging, mayor balk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Tiempo de elección de servid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Sistema de Espe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roceso de aten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istribu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ooper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standariz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Interfaz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Tecnologí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Sistema de Espe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elección de entidade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FCF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SP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rehemptiv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LCF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Mezcl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Round Robi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5T19:26:17Z</dcterms:created>
  <dc:creator>Joselyn Bravo</dc:creator>
  <dc:description/>
  <dc:language>en-US</dc:language>
  <cp:lastModifiedBy>JMOSQUERA</cp:lastModifiedBy>
  <dcterms:modified xsi:type="dcterms:W3CDTF">2007-08-06T15:10:39Z</dcterms:modified>
  <cp:revision>37</cp:revision>
  <dc:subject/>
  <dc:title>Esper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