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6F9-B033-402F-B1E8-25D79444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924-695E-459D-A20E-FA84A232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0DC-4E4E-4390-A491-FB877ADC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F04-7FF8-47AB-BB79-A2D5C9FE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1560-3BFF-4405-9ADB-68C8B55D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40B0-CF38-40C4-AAEB-8438A061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7688-2FC2-484A-980D-E246104F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B73F-DEBD-44E1-AA22-852DC3A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24C8-EB19-49B9-86A7-B3D51871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023B-8A5B-4793-BB0D-4FBDBAEF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4B24-093A-4299-9643-4C092253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3EB-D244-4ED8-B192-B4F708A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0CE9-44B2-462F-8003-A1FC10AF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9BC-0BA6-4E93-80BE-6FBF5042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8FCB-9B52-4B91-ACBB-81A5E92E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A099-4DDB-4132-B0AA-D21E7499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94FB-E078-4C02-A42B-48E6333B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B6B-5DE1-4607-9FCA-DF243E65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75C-64F6-4740-9E09-2626DFA9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03D-E1B7-4CE5-BF6B-FA60DB01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E25-F2FF-4823-B70F-8EE67FE1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DC9-7BA6-4404-9640-DE859AA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BCE-B23B-40F3-A5B8-20AA7EB7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9A4-71ED-4B2B-AC46-6BBE753F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A6C9-E80C-4F6C-934C-442B3218E135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B324-317F-40ED-913C-C0928A8E26E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6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Gestión de Percep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ásicos: Decoración, espejos, audiovisuales, com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-Rela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r el proce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é en la puerta: Ficha médica, men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hows: Experiencia memo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ectativa del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breestimación: Colas rápidas, 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tidumbre: Seguridad al cliente, aproximación, explicaciones, ojo con las reservas y los núm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decidi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serv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 en co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Atributos de una Solu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s del sistema (re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sonas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iempo de espera, tiempo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Uti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dístico (probabi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áx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cen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dor, estación, 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iente, segmento, pobl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: 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neging, b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Metamodelos de Simul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untos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lección de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j: Tiempo de reposi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distancias de movimi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y tamaño de flota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cificar posibles val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alea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juste de una fu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5519880"/>
            <a:ext cx="7353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y capacidad interactú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fist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mulación versus solución analí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 vs Little (varía con capacidad) vs Brown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as solu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oferta y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del pronó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git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a impresió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 perd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los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ones a todo ni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uevos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sp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rramientas de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Percep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entario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 versus información dispon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lking, reneg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20920"/>
            <a:ext cx="7693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ú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: Vip, banca, aerolí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Jocke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: Fila ún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ce institu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era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cupa más espa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espera pro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ita que las entidades se atasqu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camarade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reneging, mayor b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empo de elección de serv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ope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hem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zc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9:26:17Z</dcterms:created>
  <dc:creator>Joselyn Bravo</dc:creator>
  <dc:description/>
  <dc:language>en-US</dc:language>
  <cp:lastModifiedBy>JMOSQUERA</cp:lastModifiedBy>
  <dcterms:modified xsi:type="dcterms:W3CDTF">2007-08-06T15:10:39Z</dcterms:modified>
  <cp:revision>37</cp:revision>
  <dc:subject/>
  <dc:title>Espe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