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0C9-3E53-4C86-8EB4-E09D7559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BCA-141F-4C3B-9CC9-42A73E8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B15-D5A4-48B7-8C8D-1B40EB11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721-6D03-4A79-B64E-9BA36CEB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1616-8DB9-471A-9AD9-BFB634E0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332D-5A63-4745-A7BF-650E4B12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B56C-ABAF-4011-B6C6-2E0E6DFF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B142-D46E-4AD7-B908-19D6AB6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C3C6-B60E-4EFA-827F-46D1667D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9F6A-74A0-4FC6-8832-8EAF521C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1F11-1DF1-4470-9896-849072D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6F0-7E3B-45D9-8E4F-0D20F6F0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8FCC-0255-4099-B8BF-5A81C26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CCCF-BADB-497D-8B0A-44E68DA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7C02-D83A-437C-A93B-D6B7AEC1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D797-0F0C-4326-8F90-711B64F9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BAE7-9C81-46DD-B47F-2E3EC1F8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06E-6BD6-4B3C-A281-3307028A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470-DFFB-4B58-B712-5B2B8079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4D3-A145-48BA-B767-9490DA7D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B53-D05D-43C2-B53E-B0B8F54B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504-40CA-4806-B0D9-378D857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F66-0491-40B7-9100-37B13E3B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FAC-642D-44E1-8CDC-5C9EFF9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7BE5-08A2-46E1-BE5D-40F984C2D81B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80DB-E462-429E-A312-9A08A9DE8D0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6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Gestión de Percep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ásicos: Decoración, espejos, audiovisuales, com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-Rela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r el proce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é en la puerta: Ficha médica, men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hows: Experiencia memo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ectativa del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breestimación: Colas rápidas, 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tidumbre: Seguridad al cliente, aproximación, explicaciones, ojo con las reservas y los núm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decidi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serv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 en co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Atributos de una Solu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s del sistema (re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sonas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iempo de espera, tiempo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Uti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dístico (probabi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áx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cen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dor, estación, 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iente, segmento, pobl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: 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neging, b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Metamodelos de Simul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untos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lección de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j: Tiempo de reposi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distancias de movimi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y tamaño de flota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cificar posibles val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alea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juste de una fu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5519880"/>
            <a:ext cx="7353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y capacidad interactú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fist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mulación versus solución analí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 vs Little (varía con capacidad) vs Brown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as solu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oferta y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del pronó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git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a impresió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 perd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los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ones a todo ni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uevos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sp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rramientas de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Percep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entario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 versus información dispon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lking, reneg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20920"/>
            <a:ext cx="7693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ú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: Vip, banca, aerolí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Jocke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: Fila ún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ce institu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era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cupa más espa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espera pro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ita que las entidades se atasqu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camarade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reneging, mayor b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empo de elección de serv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ope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hem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zc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9:26:17Z</dcterms:created>
  <dc:creator>Joselyn Bravo</dc:creator>
  <dc:description/>
  <dc:language>en-US</dc:language>
  <cp:lastModifiedBy>JMOSQUERA</cp:lastModifiedBy>
  <dcterms:modified xsi:type="dcterms:W3CDTF">2007-08-06T15:10:39Z</dcterms:modified>
  <cp:revision>37</cp:revision>
  <dc:subject/>
  <dc:title>Espe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