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0" y="-14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779640" y="-14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sldNum" idx="9"/>
          </p:nvPr>
        </p:nvSpPr>
        <p:spPr>
          <a:xfrm>
            <a:off x="377964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6CC52-8B10-4491-B69B-F2C1E6FD220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Img"/>
          </p:nvPr>
        </p:nvSpPr>
        <p:spPr>
          <a:xfrm>
            <a:off x="861480" y="750600"/>
            <a:ext cx="4945320" cy="3708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945400" y="9510120"/>
            <a:ext cx="93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800DF-4062-4A29-92D2-52347C9AA20D}" type="slidenum"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861840" y="750960"/>
            <a:ext cx="4945320" cy="370836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Rol de la tecnologí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861840" y="750960"/>
            <a:ext cx="4945320" cy="370836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Riesgo: perder clientes renta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861840" y="750960"/>
            <a:ext cx="4945320" cy="370836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Unicidad. Riesgo: Perder din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861840" y="750960"/>
            <a:ext cx="4945320" cy="370836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oncepto: valor del servicio para los clientes (Formato, concepto de servicio, concepto estratégico). Evaluación vs Estrateg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861840" y="750960"/>
            <a:ext cx="4945320" cy="370836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Instalaciones: si tiene o no cocina, si tiene o no microond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861840" y="750960"/>
            <a:ext cx="4945320" cy="370836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Límite entre localización y lay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5BA2-CFEC-4FE5-A286-D4EB0FAF7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3D82-41FE-4223-A42C-A9DA13B60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CAFD-C736-47F6-AB6A-D3D52746E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796B-DB47-4980-A4A3-59B37E741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54FCE-BF5B-473C-9BFC-98A39B0C3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D4C97-0ECA-4703-B994-8AEEEBD97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304FA-A020-4E75-A31F-E1E42B6FC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D6208-72E7-42C2-8FB1-BBAA2B5D6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61B5F-195B-4BF1-8B74-C3F2E1228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074BE-E398-46B7-A65F-287DEF3A9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2B0AF-A8AE-4950-8782-C388DA6FB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4EC9-2AD5-4D14-B126-480752C15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AD8DA-025E-4DCB-AEA6-645158A97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F76CB-1B68-448D-A995-F8ADBF118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77694-D70E-454F-A65A-AB500E530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57A70-EF87-43B5-A266-0B081EC69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CD5E1-4A61-4AAC-ACE0-62375E78A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FAED-D8A6-41FB-A11E-1378B6A2D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085C-C021-4462-A0D7-9344FE19E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42B1-4536-4077-8AD8-8FDE4029F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0155-97B1-4634-A2CF-F90E592F7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AC9A-BA75-49DB-A98D-4814DC18D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39D0-0911-4D18-BA11-680BDB9BF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5C58-D30F-4D67-92EB-4BF4006F8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6DE31-7A2A-4D66-9CDD-DA82EED20614}" type="slidenum">
              <a:rPr b="1" lang="es-E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1D389-A40E-488A-B512-C7589ADABACB}" type="slidenum">
              <a:rPr b="1" lang="es-E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66"/>
                </a:solidFill>
                <a:latin typeface="Arial"/>
              </a:rPr>
              <a:t>Estrategia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6666"/>
                </a:solidFill>
                <a:latin typeface="Arial"/>
              </a:rPr>
              <a:t>IN71K: Gestión de Operaciones en la Industria de Servicios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6666"/>
                </a:solidFill>
                <a:latin typeface="Arial"/>
              </a:rPr>
              <a:t>30 de julio de 2007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Concepto: Elementos Blando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Interfaz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Interacción con el client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Perfil del personal: Reclutamiento, Capacitación, Tipo de contrat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alida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Percepció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Realidad: Indicadores, Controles, Acciones Correctiv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Concepto: Elementos Blando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Gestión de la Oferta y Demand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Flexibilización de la Ofert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Aplanamiento de la Demand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Informa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Externa: Clientes, Inversionist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Intern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Relacion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116000" y="1074600"/>
            <a:ext cx="7704000" cy="574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Tipos de Estrategi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Liderazgo en Cost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Diferencia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Foc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Liderazgo en Costo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atisfacer clientes poco costos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standarización: </a:t>
            </a:r>
            <a:r>
              <a:rPr b="0" i="1" lang="es-ES" sz="2800" spc="-1" strike="noStrike">
                <a:solidFill>
                  <a:srgbClr val="003366"/>
                </a:solidFill>
                <a:latin typeface="Arial"/>
              </a:rPr>
              <a:t>routin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Intensidad en capita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upply Chain Managem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Back Office “Offline”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Liderazgo en Diferenciació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Tangibilización”: Imagen, visit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ustomiza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Gestión de Percepciones (ansiedad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apacita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alida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Foc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Liderazgo en Costos y Diferencia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Foc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Liderazgo en Costos y Diferencia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egmentos de mercado más pequeñ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Necesidad específic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Bellez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Salu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Distribución espacia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Introduc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Definición de Concepto Estratégic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lementos de la Estrateg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Relación con la clase pasad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Tipos de Estrateg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Introducció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0" y="2133720"/>
          <a:ext cx="4643280" cy="405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133720"/>
                    <a:ext cx="4643280" cy="405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4524480" y="2133720"/>
          <a:ext cx="4619520" cy="4152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24480" y="2133720"/>
                    <a:ext cx="4619520" cy="415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Introducció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68360" y="3645000"/>
            <a:ext cx="1081080" cy="82404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Target Market Element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92360" y="4076640"/>
            <a:ext cx="1008000" cy="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547640" y="3571920"/>
            <a:ext cx="12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Positioning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844720" y="3645000"/>
            <a:ext cx="1081080" cy="58068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Service Concept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068720" y="4076640"/>
            <a:ext cx="1008000" cy="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924360" y="335592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Value-Cost Leveraging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292720" y="3645000"/>
            <a:ext cx="1225440" cy="58068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Operating Strategy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661080" y="4076640"/>
            <a:ext cx="1008000" cy="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516720" y="3213000"/>
            <a:ext cx="1295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Strategy-Systems Integration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813800" y="3645000"/>
            <a:ext cx="1081080" cy="82404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Service Delivery System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1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trategic Service Vis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Definició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187280" y="3500280"/>
            <a:ext cx="1944720" cy="459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Producto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419640" y="3716280"/>
            <a:ext cx="2881080" cy="0"/>
          </a:xfrm>
          <a:prstGeom prst="line">
            <a:avLst/>
          </a:prstGeom>
          <a:ln w="28440">
            <a:solidFill>
              <a:srgbClr val="003366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588000" y="3429000"/>
            <a:ext cx="1944720" cy="459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Concepto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Concepto: Elementos Duro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istema de Entreg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Diseño de las instalacion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Localiza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Planificación de Capacida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Concepto: Elementos Blando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Interfaz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alida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Gestión de la Oferta y Demand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Informa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Concepto: Elementos Duro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istema de Entrega (Delivery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Back Office: Automatizació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Front Office: Participación del Client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Diseño de las instalacion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Equipamient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Layout: Tamaño, Distribució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Concepto: Elementos Duro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Localiza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Nivel de desagregació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Cercanía al client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Cercanía a la competenci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Arquitectura: Tamaño, Orientación, Acces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Planificación de Capacida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Nivel de congestió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Estructura de las redes de esper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Entidad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1-13T13:42:34Z</dcterms:created>
  <dc:creator>Máximo Bosch</dc:creator>
  <dc:description/>
  <dc:language>en-US</dc:language>
  <cp:lastModifiedBy>Joselyn Bravo</cp:lastModifiedBy>
  <cp:lastPrinted>1997-05-16T15:38:36Z</cp:lastPrinted>
  <dcterms:modified xsi:type="dcterms:W3CDTF">2007-07-30T19:31:05Z</dcterms:modified>
  <cp:revision>113</cp:revision>
  <dc:subject/>
  <dc:title>Role of Services in an Economy</dc:title>
</cp:coreProperties>
</file>