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779640" y="-14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7BF4-AB1D-4493-9951-E0955AC61E1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Img"/>
          </p:nvPr>
        </p:nvSpPr>
        <p:spPr>
          <a:xfrm>
            <a:off x="861480" y="750600"/>
            <a:ext cx="494532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5400" y="951012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2BF6-9593-49D1-B62C-48AB541EC5DC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ol de la 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iesgo: perder clientes ren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nicidad. Riesgo: Perder din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cepto: valor del servicio para los clientes (Formato, concepto de servicio, concepto estratégico). Evaluación vs 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stalaciones: si tiene o no cocina, si tiene o no microon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ímite entre localización y lay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7CF-2EA2-4CB4-A8D7-4040A9AC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D40-0DF0-487E-9E3E-954D6AE9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94D-A4D5-4302-9C2A-593B3105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499-8D2A-4555-91B0-3E544E00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5585-5BE5-4448-866A-A12629B4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3044-96FC-4610-AA3B-0DEEFD04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BE6D-27F6-4F48-B1E9-625E5490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802C-19EB-46C1-BF23-6D5B7FFC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BCA0-1F6C-46D8-9DD7-CE9FD8CF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F678-2373-4872-8705-8DA79D5E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7753-7BA8-4DFB-88CE-2CEAB6BD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68C-7773-467F-88B2-250AD22A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EFC2-A110-488B-BB6C-FFCC1691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A143-CF52-484A-93BF-3EBC76BC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E472-2843-4EC4-AC83-678516DE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C808-6765-4E78-A7B7-2B063E10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5F04-E8D2-483E-81D8-6240EE9C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461-FE77-4847-810E-0A485B5F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081-7BB6-48BC-9C1E-871DC97F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315-503D-4DB5-9591-CD7F8356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89D-5DB5-4EF3-B20F-0810A5ED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8FAC-4386-4B9D-9633-8B1D27E7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A95-FE52-4694-8876-5918B114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B06-E09A-4A9A-B92F-9328B101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3C23-C838-496F-ACB3-1ED122C345C4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7B58-316A-4C9D-88BA-004FB709D3ED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Estrateg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30 de juli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acción con 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fil del personal: Reclutamiento, Capacitación, Tipo de contra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lidad: Indicadores, Controles, Acciones Correc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la Oferta y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lexibilización de la Ofe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planamiento de la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terna: Clientes, Inversionis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1074600"/>
            <a:ext cx="770400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ipos de Estrateg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Liderazgo en Co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atisfacer clientes poco costo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ndarización: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rout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nsidad en capi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pply Chain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ck Office “Offlin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Liderazgo en Diferenci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ilización”: Imagen, visit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sto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Percepciones (ansied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 y 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 y 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gmentos de mercado más pequeñ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ecesidad específ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elle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alu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ribución espa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finición de Concepto Estratég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de la Estra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ón con la clase pas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Estra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2133720"/>
          <a:ext cx="464328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64328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24480" y="2133720"/>
          <a:ext cx="4619520" cy="415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4480" y="2133720"/>
                    <a:ext cx="46195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645000"/>
            <a:ext cx="1081080" cy="82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Target Market Elemen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3571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osition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4720" y="3645000"/>
            <a:ext cx="1081080" cy="580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ervice Concep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6872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3559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Value-Cost Leverag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3645000"/>
            <a:ext cx="1225440" cy="580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Operating Strateg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6108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32130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trategy-Systems Integr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13800" y="3645000"/>
            <a:ext cx="1081080" cy="82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ervice Delivery Syste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ategic Service 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3500280"/>
            <a:ext cx="19447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3716280"/>
            <a:ext cx="2881080" cy="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88000" y="3429000"/>
            <a:ext cx="19447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cep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ntre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las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lanificación de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la Oferta y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ntrega (Deliver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ck Office: Automat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ront Office: Participación d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las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yout: Tamaño, Distrib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vel de desagreg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canía a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canía a la compet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rquitectura: Tamaño, Orientación, Ac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lanificación de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vel de congest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ructura de las redes de 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3T13:42:34Z</dcterms:created>
  <dc:creator>Máximo Bosch</dc:creator>
  <dc:description/>
  <dc:language>en-US</dc:language>
  <cp:lastModifiedBy>Joselyn Bravo</cp:lastModifiedBy>
  <cp:lastPrinted>1997-05-16T15:38:36Z</cp:lastPrinted>
  <dcterms:modified xsi:type="dcterms:W3CDTF">2007-07-30T19:31:05Z</dcterms:modified>
  <cp:revision>113</cp:revision>
  <dc:subject/>
  <dc:title>Role of Services in an Economy</dc:title>
</cp:coreProperties>
</file>