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779640" y="-14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3A73-3F24-4DC7-A10E-AE8DDC51F4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Img"/>
          </p:nvPr>
        </p:nvSpPr>
        <p:spPr>
          <a:xfrm>
            <a:off x="861480" y="750600"/>
            <a:ext cx="494532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5400" y="951012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2799-DF41-49D7-8EC8-62AD390A3D08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ol de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iesgo: perder clientes ren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nicidad. Riesgo: Perder din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pto: valor del servicio para los clientes (Formato, concepto de servicio, concepto estratégico). Evaluación vs 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stalaciones: si tiene o no cocina, si tiene o no microon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ímite entre localización y lay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B0B-EC95-4A0F-8ED3-77C1B03D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B2D-3753-4D5F-B524-0396C80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B80-2E2B-4B54-973B-2F70EBB7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576-84E9-48FE-A935-CE12ED5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8894-34BA-426C-9D06-9BBF4E10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ADEC-8FF0-4948-9809-2945CE9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20BC-9A52-417C-BF7E-C8A5B885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1955-125A-4691-8771-2A93BF54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2B58-C726-44B4-A86D-3E4F614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14A2-6C21-41D2-93FB-70B4C29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8B8E-48EA-4650-97E9-E2AD90E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089-0B47-4379-A017-43ABA38C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28E-D51A-48BA-A04C-9E04BF1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EF3D-63A4-4D49-840B-D887193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C012-9FEE-49EF-8DBC-5E5D66A8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B5EC-77B6-4300-9F42-17F213D6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6C58-689A-46EE-98EF-B331C7A9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A25-65EB-4851-87D9-BED8848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F5B-8EA8-411F-A63C-37E739C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5BD-F8AF-4C8A-9945-A040182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D31-053B-4EC4-ADBC-76438EB4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8BE-B5E3-448E-9AA0-1C11598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240A-8072-4A91-A926-8ED7CA8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75B-75BB-445F-9354-4BAC9D7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B541-6E20-4116-846E-BEA9D187523D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2DB-58F6-4B30-80D2-FA840C146CE1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trategi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30 de juli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ción con 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fil del personal: Reclutamiento, Capacitación, Tipo de contr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: Indicadores, Controles, 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zación de la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planamiento de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rna: Clientes, Inversionis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l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1074600"/>
            <a:ext cx="770400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ipos de Estrateg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Co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atisfacer clientes poco costo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: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nsidad en capit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ply Chain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ck Office “Offlin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Liderazgo en Diferenci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ilización”: Imagen, visi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sto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Percepciones (ansie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iderazgo en Costos y Diferenci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gmentos de mercado más pequeñ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específ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ell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al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 espa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 Concepto Estratég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ementos de la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la clase pas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2133720"/>
          <a:ext cx="4643280" cy="40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64328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24480" y="2133720"/>
          <a:ext cx="4619520" cy="415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4480" y="2133720"/>
                    <a:ext cx="4619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arget Market Elemen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57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645000"/>
            <a:ext cx="108108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Conc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872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355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Value-Cost Leverag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3645000"/>
            <a:ext cx="1225440" cy="5806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perating Strateg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1080" y="4076640"/>
            <a:ext cx="10080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213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trategy-Systems Integr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3800" y="3645000"/>
            <a:ext cx="1081080" cy="824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Service Deliver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ategic Service 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350028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716280"/>
            <a:ext cx="288108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88000" y="3429000"/>
            <a:ext cx="1944720" cy="459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cep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Blan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estión de la Oferta y Deman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ntrega (Delive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Automat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Participación de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eño de las instala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yout: Tamaño, 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ncepto: Elementos Du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desagre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canía a la 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quitectura: Tamaño, Orientación, 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lanificación de Capac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vel de congest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ructura de las redes de 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3T13:42:34Z</dcterms:created>
  <dc:creator>Máximo Bosch</dc:creator>
  <dc:description/>
  <dc:language>en-US</dc:language>
  <cp:lastModifiedBy>Joselyn Bravo</cp:lastModifiedBy>
  <cp:lastPrinted>1997-05-16T15:38:36Z</cp:lastPrinted>
  <dcterms:modified xsi:type="dcterms:W3CDTF">2007-07-30T19:31:05Z</dcterms:modified>
  <cp:revision>113</cp:revision>
  <dc:subject/>
  <dc:title>Role of Services in an Economy</dc:title>
</cp:coreProperties>
</file>