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779640" y="-14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6BCF-DE1A-47EE-B0BE-6B7645A3938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Img"/>
          </p:nvPr>
        </p:nvSpPr>
        <p:spPr>
          <a:xfrm>
            <a:off x="861480" y="750600"/>
            <a:ext cx="4945320" cy="37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5400" y="951012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A42F-A95A-4FD3-A51A-399C6A773FFE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ol de la 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iesgo: perder clientes ren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nicidad. Riesgo: Perder din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ncepto: valor del servicio para los clientes (Formato, concepto de servicio, concepto estratégico). Evaluación vs Estrat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stalaciones: si tiene o no cocina, si tiene o no microon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ímite entre localización y lay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BED-020C-437D-93C3-765CB109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5B6-2CDA-4322-8E96-4DD82E88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E02-4EEA-48DE-A4A9-3492266C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9B24-3942-4EFA-8BAE-BF5CFC3C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3B9C-1925-43C9-8C8A-A9C52024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B1D3-31E8-47A5-B426-1CE3FA3C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6BD1-B16C-4BAE-9A81-332B42DC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FBF4-B3C2-4682-9194-DF34A680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2147-E06C-4FCA-8274-4EB21F3F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F693-3B20-4E6C-84FF-F915669B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A00B-2F93-4C84-A5AE-1BA05D1D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91C4-97FB-4A95-99E2-F6911FCF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26D9-6E33-4C91-943E-E7DEA5A3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FC8F-1076-4484-99F8-38604C90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02FD-F405-45A3-8098-B8FEBA12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AECF-4101-4764-A1AC-8428FE11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6AAA-2E09-40A9-BCF4-34614458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D13F-078D-4FEC-9F86-FA44F553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FFDE-89D6-4ED9-A440-2FAD243C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BCA5-B3D9-400E-818D-FF33FEF9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2DBF-4459-4482-BD49-1225198F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5328-96A5-47F5-A611-D712C1C7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F8F-B23E-47F5-9E9D-64CF0B6B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C57A-90FA-465F-B83C-3E916FDA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0656-8905-4973-94D1-63A91AB690FC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78F3-785D-4F17-BCF6-9087B5EBA2A4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Estrategi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30 de juli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Blan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acción con e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fil del personal: Reclutamiento, Capacitación, Tipo de contra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cep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alidad: Indicadores, Controles, Acciones Correc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Blan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stión de la Oferta y Dema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lexibilización de la Ofer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planamiento de la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terna: Clientes, Inversionist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l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16000" y="1074600"/>
            <a:ext cx="770400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ipos de Estrateg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iderazgo en 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ci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Liderazgo en Cos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atisfacer clientes poco costo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andarización: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rout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nsidad en capit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pply Chain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ack Office “Offlin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Liderazgo en Diferenci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ngibilización”: Imagen, visit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ustom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stión de Percepciones (ansieda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iderazgo en Costos y Diferenci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iderazgo en Costos y Diferenci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gmentos de mercado más pequeñ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ecesidad específ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ellez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alu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tribución espaci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finición de Concepto Estratég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 de la Estrate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ción con la clase pas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s de Estrate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2133720"/>
          <a:ext cx="4643280" cy="40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64328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524480" y="2133720"/>
          <a:ext cx="4619520" cy="415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24480" y="2133720"/>
                    <a:ext cx="461952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645000"/>
            <a:ext cx="1081080" cy="824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Target Market Elemen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4076640"/>
            <a:ext cx="10080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47640" y="35719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Position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4720" y="3645000"/>
            <a:ext cx="1081080" cy="5806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ervice Concep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68720" y="4076640"/>
            <a:ext cx="10080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33559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Value-Cost Leverag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3645000"/>
            <a:ext cx="1225440" cy="5806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Operating Strateg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61080" y="4076640"/>
            <a:ext cx="10080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321300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trategy-Systems Integra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13800" y="3645000"/>
            <a:ext cx="1081080" cy="824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ervice Delivery Syste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trategic Service V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3500280"/>
            <a:ext cx="1944720" cy="459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3716280"/>
            <a:ext cx="2881080" cy="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88000" y="3429000"/>
            <a:ext cx="1944720" cy="459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cep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Du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de Entreg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eño de las instal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lanificación de Capac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Blan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stión de la Oferta y Dema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Du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de Entrega (Deliver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ck Office: Automat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ront Office: Participación de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eño de las instal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quipa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yout: Tamaño, Distribu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Du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ivel de desagreg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ercanía a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ercanía a la competen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rquitectura: Tamaño, Orientación, Acce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lanificación de Capac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ivel de congest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ructura de las redes de 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tida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3T13:42:34Z</dcterms:created>
  <dc:creator>Máximo Bosch</dc:creator>
  <dc:description/>
  <dc:language>en-US</dc:language>
  <cp:lastModifiedBy>Joselyn Bravo</cp:lastModifiedBy>
  <cp:lastPrinted>1997-05-16T15:38:36Z</cp:lastPrinted>
  <dcterms:modified xsi:type="dcterms:W3CDTF">2007-07-30T19:31:05Z</dcterms:modified>
  <cp:revision>113</cp:revision>
  <dc:subject/>
  <dc:title>Role of Services in an Economy</dc:title>
</cp:coreProperties>
</file>