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6D81-29DB-441E-B977-5D79E51A0D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AF9B-5618-4879-91A4-94B19E0436E8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l de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iesgo: perder clientes ren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icidad. Riesgo: Perder din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epto: valor del servicio para los clientes (Formato, concepto de servicio, concepto estratégico). Evaluación vs 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stalaciones: si tiene o no cocina, si tiene o no microon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ímite entre localización y lay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F63-6BA7-4A33-9142-08F753C2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4F0-0F25-4F53-8598-4FE3B773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E0C-09FF-47D1-8780-A358F177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B17-1A4D-4640-B57D-4EF2D34A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9EA1-919E-40CC-81C8-F5696E64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05F6-6157-4F16-B3AB-45681434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9F1-44DB-4827-92E8-28419B45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E8DB-B715-49C9-BFA2-A71FAC3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07D0-0768-4273-9758-B3A0B621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053-9489-40FA-BD75-D0397EC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E311-FD27-4E3F-A4BD-90859931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785-4315-4689-A917-859CD449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A90B-8A6C-4944-9AEE-9D5FD4E2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60B2-573D-4E23-A8D9-8EFD4EF0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C6A0-5DBB-427B-89DF-E47B85DE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C6C2-DA56-4AE6-B032-89BBFED6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66EB-0C43-4105-A067-72A3DD00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A4E-A5CA-4ADC-8201-DDF0A741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2C8-E221-4863-A289-45E22E91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C5E-0654-428C-A367-95DD3EEA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759-618D-4325-B7FB-AA99E572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338-5BAE-446B-A7AA-31742E5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FD7-40D5-4311-AC81-21FB210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12F-9DFF-4C26-8FD4-E286A087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F341-2E3B-4741-B47B-1252C7D6CD8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7C3D-0ADF-4300-9E5D-C436B744B31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trateg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30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fil del personal: Reclutamiento, Capacitación, Tipo de contr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: Indicadores, Controles, Acciones Correc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zación de la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terna: Clientes, Inversionis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074600"/>
            <a:ext cx="77040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ipos de Estrateg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Co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atisfacer clientes poco costo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: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rou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ck Office “Offlin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Diferenci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ilización”: Imagen, visi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Percepciones (ansie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gmentos de mercado más pequeñ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ecesidad específ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ell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alu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 espa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Concepto Estratég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de la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la clase pas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133720"/>
          <a:ext cx="46432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6432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24480" y="2133720"/>
          <a:ext cx="4619520" cy="415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2133720"/>
                    <a:ext cx="4619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arget Market Elem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357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sition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3645000"/>
            <a:ext cx="108108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355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Value-Cost Leverag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645000"/>
            <a:ext cx="122544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perating Strateg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108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3213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trategy-Systems Integr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380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Deliver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ic Service 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350028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3716280"/>
            <a:ext cx="288108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342900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cep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 (Delive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Automat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Participa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: Tamaño, 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desagre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 la 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quitectura: Tamaño, Orientación, 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congest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ructura de las redes de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oselyn Bravo</cp:lastModifiedBy>
  <cp:lastPrinted>1997-05-16T15:38:36Z</cp:lastPrinted>
  <dcterms:modified xsi:type="dcterms:W3CDTF">2007-07-30T19:31:05Z</dcterms:modified>
  <cp:revision>113</cp:revision>
  <dc:subject/>
  <dc:title>Role of Services in an Economy</dc:title>
</cp:coreProperties>
</file>