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C2D-7FE8-422F-9994-3B2706E5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1B0-D5F6-4EF2-B199-4655BA9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F3F-B8BF-46F7-8F92-A7CB7481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952-EEE8-4E38-8E13-06B001B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8113-DC04-4781-8B6C-746231C8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5BC-7D15-4F5F-8182-53332BF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BDD-55B1-489A-97FB-49DF657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E25-553F-4923-BC5B-BB083654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5882-6A8F-489A-A7FB-5F33054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5491-FE14-4711-8F2F-4334725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7FB-517E-405E-B7E4-462264E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88D-EC1E-4BA3-ADA0-FF539D2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77C8-7E40-4D2A-B12B-04B7F3A2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2BC9-E5D7-4078-AF71-E9812B2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D2D-3DBD-4C14-B64C-D904AB9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057D-4D39-4A7E-B8D6-C6BB8C28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527-8CAF-4D00-8D35-F8BA1875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01D-A7BD-4B33-834B-53E872F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658-54CF-4851-8263-A3C951A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81C-DF10-414D-A256-5F677F6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533-8CCC-474F-8DE9-AA597FB8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3E5-4C6A-49A8-B8E0-34719B5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05A-8698-4F08-BFDE-532EA31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C31-C0F9-48A4-A2D8-19F4762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EF4-770D-4E6F-BC1C-9D4E810394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E2A-B51D-47F8-B845-A6C9926E71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 al Retai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48044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74804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7770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7770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un Restaur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da ráp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cafet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en lín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ención en m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Farmac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tilla la variabilidad del gasto y por lo tanto la 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on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t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re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 en Supermercados (200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3141720"/>
          <a:ext cx="8388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141720"/>
                    <a:ext cx="8388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cimi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17880" y="3105000"/>
          <a:ext cx="33336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7880" y="3105000"/>
                    <a:ext cx="33336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394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ción de bienes a consumidore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a minorista o al det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existe un consumidor existe un Retai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os b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ad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as prop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iendo de herramien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cos y financi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Mercaderí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2349360"/>
          <a:ext cx="6913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6913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Propie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pend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ndas de especi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porativa (Mass Retail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rma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anquicia (Brand Retail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stu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astr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s atributos de clasif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riedad: Número de Categorí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rtido: Número de SKUs por Categ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: Eficiencia en Oper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s de los servicios e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nsidad en mano de 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349360"/>
          <a:ext cx="763272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276640"/>
          <a:ext cx="8064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064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8:54Z</dcterms:created>
  <dc:creator>Joselyn Bravo</dc:creator>
  <dc:description/>
  <dc:language>en-US</dc:language>
  <cp:lastModifiedBy>Joselyn Bravo</cp:lastModifiedBy>
  <dcterms:modified xsi:type="dcterms:W3CDTF">2007-07-23T03:01:37Z</dcterms:modified>
  <cp:revision>5</cp:revision>
  <dc:subject/>
  <dc:title>Retail</dc:title>
</cp:coreProperties>
</file>