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880-D888-4516-BA80-443E8D74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65B-5517-437C-9CF1-FC9D8AF7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27B-0155-45CE-93A2-E5484A7B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473-8659-45DC-BD26-77434EFA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1C84-484B-4CEA-BA53-F1549BE3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60ED-0D5B-4F2D-9DF4-AC80B630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6501-6691-49B3-BF56-46F9DBB0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B24A-1546-4859-BBE2-DED8543D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AF35-63F9-4ED2-87A1-13DA9AE3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654B-8450-4545-9976-1E01705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3DD3-3E86-443C-B3EF-EBB261F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FAE-FA5A-4CA8-9654-277FAB81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63A4-EE12-46D1-B36C-7E59E60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C3D9-D9EB-48E8-A452-CD8CD56E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F30F-1D78-4C61-A08B-F84ADF55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934E-0C0F-4278-B7EC-A41401F6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5BE5-3079-4759-8C87-951B0B5B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806-D240-4CC6-B77F-4CD0897B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A54-D42C-45F7-AFCA-D4633AB8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AA6-2C4F-4BFF-AB92-6E2D1E5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799-982B-445E-BA0C-451D012F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A03-F6C9-4E03-B0DA-383C4299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E86-3DCE-4B5B-B587-8290C9E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53A-4ED5-4371-8B4E-2A04002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B919-5014-4B5D-BBE0-7909A6E66D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59D6-22BF-4D33-B78B-48E4F373B3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Introducción al Retai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3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349360"/>
          <a:ext cx="7480440" cy="39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74804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7770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77770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s de un Restaura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ida ráp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servicio cafet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servicio en lín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ención en me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s de Farmaci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tilla la variabilidad del gasto y por lo tanto la 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compone 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rt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re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 en Supermercados (200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55640" y="3141720"/>
          <a:ext cx="83883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141720"/>
                    <a:ext cx="8388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cimi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17880" y="3105000"/>
          <a:ext cx="333360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7880" y="3105000"/>
                    <a:ext cx="333360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2394000"/>
            <a:ext cx="769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ribución de bienes a consumidore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nta minorista o al deta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 existe un consumidor existe un Retai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os bo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nad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as prop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riendo de herramien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ncos y financier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ificación por tipo de Mercaderí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2349360"/>
          <a:ext cx="691380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69138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ificación por tipo de Propied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depend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ndas de especi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porativa (Mass Retail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ermer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arma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anquicia (Brand Retail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stu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astronom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s atributos de clasif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ariedad: Número de Categorí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rtido: Número de SKUs por Categ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: Eficiencia en Oper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tributos de los servicios e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nsidad en mano de o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2349360"/>
          <a:ext cx="7632720" cy="41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55640" y="2276640"/>
          <a:ext cx="8064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76640"/>
                    <a:ext cx="8064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08:54Z</dcterms:created>
  <dc:creator>Joselyn Bravo</dc:creator>
  <dc:description/>
  <dc:language>en-US</dc:language>
  <cp:lastModifiedBy>Joselyn Bravo</cp:lastModifiedBy>
  <dcterms:modified xsi:type="dcterms:W3CDTF">2007-07-23T03:01:37Z</dcterms:modified>
  <cp:revision>5</cp:revision>
  <dc:subject/>
  <dc:title>Retail</dc:title>
</cp:coreProperties>
</file>