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12E-46FC-416C-AAD3-3A62CA64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E7D-FFDC-4633-BF32-F0FD125F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5DA-AF80-4023-9983-DCCA32DE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3C8-37CD-4100-898A-2DC9E8D8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1EF1-4A62-41AC-80AD-2B5C4DF0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B766-91B2-4BC4-A44A-4F61DE04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EAE1-88AF-4838-B1D6-428B0FE5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EFDB-F209-482E-AE72-3B5E9CFF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6F30-5CC0-4415-B96E-195EB85D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B460-6472-4C90-A284-2E322DDA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78F6-2C66-4FE7-9FE1-207DFCA8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AB1-7D6D-4DD1-99BA-C6629CBD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A009-3308-454A-BC56-8AA489CC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0E1D-177F-4B66-A424-EDA36C0E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F339-FC5C-482F-8A1C-18E35ACF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A35E-D2B2-442D-863D-A4B4A091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FC66-E11D-4ABC-A35F-FC702515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4B7-37B0-496E-8DA1-E3E8FDDE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87D7-3FB4-4DAA-9CC6-34BB99E4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2F4-817F-4EA0-8697-88DF1885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789-9F13-4FF1-8036-0A316B47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523-1577-4BEA-82B9-BAF9988C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F7A-0C5A-472C-A03F-0EAE9AAB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893-EA95-4A70-A30A-C3655D76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B1FF-68F7-4125-8FBB-ECD908EDA66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3498-446E-4B96-BE63-B3811FCB01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Introducción al Retai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3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42920" y="2349360"/>
          <a:ext cx="7480440" cy="39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74804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7770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77770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s de un Restaura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ida ráp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servicio cafet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servicio en lín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ención en me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s de Farmaci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tilla la variabilidad del gasto y por lo tanto la compet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compone 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rt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re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o en Supermercados (200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55640" y="3141720"/>
          <a:ext cx="838836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141720"/>
                    <a:ext cx="83883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cimi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17880" y="3105000"/>
          <a:ext cx="333360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7880" y="3105000"/>
                    <a:ext cx="333360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fin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x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Reta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26920" y="2394000"/>
            <a:ext cx="769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ribución de bienes a consumidore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nta minorista o al detal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 existe un consumidor existe un Retai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sos bo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nad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cas prop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riendo de herramien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ncos y financier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ificación por tipo de Mercaderí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26920" y="2349360"/>
          <a:ext cx="6913800" cy="44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69138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lasificación por tipo de Propieda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depend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ndas de especi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c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porativa (Mass Retail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permer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armac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ranquicia (Brand Retail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stu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astronom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ros atributos de clasif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ariedad: Número de Categorí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rtido: Número de SKUs por Categ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: Eficiencia en Oper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tributos de los servicios en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ción con 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nsidad en mano de ob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2349360"/>
          <a:ext cx="7632720" cy="41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32720" cy="41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55640" y="2276640"/>
          <a:ext cx="80643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76640"/>
                    <a:ext cx="80643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08:54Z</dcterms:created>
  <dc:creator>Joselyn Bravo</dc:creator>
  <dc:description/>
  <dc:language>en-US</dc:language>
  <cp:lastModifiedBy>Joselyn Bravo</cp:lastModifiedBy>
  <dcterms:modified xsi:type="dcterms:W3CDTF">2007-07-23T03:01:37Z</dcterms:modified>
  <cp:revision>5</cp:revision>
  <dc:subject/>
  <dc:title>Retail</dc:title>
</cp:coreProperties>
</file>