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0" y="-14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779640" y="-144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ftr" idx="8"/>
          </p:nvPr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sldNum" idx="9"/>
          </p:nvPr>
        </p:nvSpPr>
        <p:spPr>
          <a:xfrm>
            <a:off x="3779640" y="942984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660A0-83F1-4FC3-AE82-2290B3D1BC87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body"/>
          </p:nvPr>
        </p:nvSpPr>
        <p:spPr>
          <a:xfrm>
            <a:off x="888480" y="4714560"/>
            <a:ext cx="489132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Img"/>
          </p:nvPr>
        </p:nvSpPr>
        <p:spPr>
          <a:xfrm>
            <a:off x="861480" y="750600"/>
            <a:ext cx="4945320" cy="3708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945400" y="9510120"/>
            <a:ext cx="933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850AC-4844-43DC-AE6F-43A105F0538C}" type="slidenum"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861840" y="750960"/>
            <a:ext cx="4945320" cy="370836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888480" y="4714560"/>
            <a:ext cx="489132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Reputación - Estandariz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861840" y="750960"/>
            <a:ext cx="4945320" cy="370836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888480" y="4714560"/>
            <a:ext cx="489132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Pregunta abierta: qué es más customizado, el almacén o el hipermercad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861840" y="750960"/>
            <a:ext cx="4945320" cy="3708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888480" y="4714560"/>
            <a:ext cx="489132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Intangibilidad, presencia de cuentas, necesidad de defin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861840" y="750960"/>
            <a:ext cx="4945320" cy="370836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888480" y="4714560"/>
            <a:ext cx="489132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Paquete, producto, producto servicio, service pack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D0E46-12A4-4B13-A228-7B434B19C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F5571-62B0-459A-A1EE-1B9B2B4D9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740AB-6FB6-42F0-B467-BCB15FDE4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33C54-D016-4FB2-A3D9-9A83E1B47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50275-93A6-4BAF-9693-9365A70E7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F2BA1-9307-4B54-B428-E5B4ACD4C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15067-966F-4B87-A3CB-7957400DD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D92FF-03E9-45EB-9359-5230A55EA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427C5-D24C-43F1-AF2B-EFD056C39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E0C32-40D6-4AC3-9E86-D921F7489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70A90-90F9-4F6B-8345-CA5AEC555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BB3EF-8CDA-4996-894E-E3C96AA53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F23A2-970C-41B8-B9D8-8D31949F2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C9178-CAD7-4545-8857-1C270DE14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604FD-7AEF-4B8C-9A7E-269DF61E7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CACB1-87B8-42A1-BF67-E69A1FCCC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48D47-492F-4218-8DD1-55BCBA9EE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14474-FECB-4255-BE8B-342AF125B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7B417-9875-4867-A0BA-2303AFC70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4DA5F-B3FB-4004-814B-B679B8F7E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0DDF6-C152-4C0A-A8F2-232A41282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E93FF-0F1F-4D89-AAF7-601E011AC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85704-99F4-4C29-B580-0F972760D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47FE6-4E35-426F-AC75-1701B4942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07576-00C4-4F9E-863D-0162FD0AE12A}" type="slidenum">
              <a:rPr b="1" lang="es-E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7B601-A6B3-42FB-99AF-AC5EF934A730}" type="slidenum">
              <a:rPr b="1" lang="es-E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3366"/>
                </a:solidFill>
                <a:latin typeface="Arial"/>
              </a:rPr>
              <a:t>Introducción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6666"/>
                </a:solidFill>
                <a:latin typeface="Arial"/>
              </a:rPr>
              <a:t>IN71K: Gestión de Operaciones en la Industria de Servicios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6666"/>
                </a:solidFill>
                <a:latin typeface="Arial"/>
              </a:rPr>
              <a:t>23 de julio de 2007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6666"/>
                </a:solidFill>
                <a:latin typeface="Arial"/>
              </a:rPr>
              <a:t>Evaluación de un producto - servicio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50920" y="234936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Servicios explícito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Entrenamiento del persona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Indicadores duro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Disponibilida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Servicios implícito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Actitu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Atmósfer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Percepción de la esper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Privacidad y segurida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Accesibilida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Características de los servicio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Cliente participa en el proces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Colaboración (supermercado, comida rápida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Medida de desempeño (educación, salud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Simultáne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Gestión de demand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Gestión de ofert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Gestión de la esper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Intangibl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Productor (franquicias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Cliente (garantía, regulación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Heterogéne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Fuerza labora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Estandarizació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Características de los servicio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Clasificación de Servicio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Rol en la economí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Intensidad en mano de obra (en comparación a la infraestructura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Interacción con el consumido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Otros atributo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Rol en la economí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Arial"/>
              </a:rPr>
              <a:t>Servicios para Negocios:</a:t>
            </a: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 Seguros, créditos, consultorí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Arial"/>
              </a:rPr>
              <a:t>Servcios de Intercambio:</a:t>
            </a: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 Retailing, mantenimiento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Arial"/>
              </a:rPr>
              <a:t>Servicios Personales:</a:t>
            </a: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 Belleza, restaurantes, salud, banca de persona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Arial"/>
              </a:rPr>
              <a:t>Servicios de Infraestructura:</a:t>
            </a: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 Transporte, comunicaciones, servicios básico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Arial"/>
              </a:rPr>
              <a:t>Adminstración Pública:</a:t>
            </a: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 Gobierno, educació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ol en la economí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606680" y="2592360"/>
            <a:ext cx="1206360" cy="520560"/>
          </a:xfrm>
          <a:prstGeom prst="rect">
            <a:avLst/>
          </a:prstGeom>
          <a:noFill/>
          <a:ln w="1908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Servicio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Industriale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378080" y="4653000"/>
            <a:ext cx="1739880" cy="520560"/>
          </a:xfrm>
          <a:prstGeom prst="rect">
            <a:avLst/>
          </a:prstGeom>
          <a:noFill/>
          <a:ln w="1908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Administración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Pública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130560" y="3736800"/>
            <a:ext cx="1587600" cy="597240"/>
          </a:xfrm>
          <a:prstGeom prst="rect">
            <a:avLst/>
          </a:prstGeom>
          <a:noFill/>
          <a:ln w="1908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Servicios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de Infraestructura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330960" y="3889440"/>
            <a:ext cx="1336680" cy="522360"/>
          </a:xfrm>
          <a:prstGeom prst="rect">
            <a:avLst/>
          </a:prstGeom>
          <a:noFill/>
          <a:ln w="1908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Servicios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de Intercambio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816360" y="2057400"/>
            <a:ext cx="1816200" cy="598320"/>
          </a:xfrm>
          <a:prstGeom prst="ellipse">
            <a:avLst/>
          </a:prstGeom>
          <a:noFill/>
          <a:ln w="1908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Sector Extractivo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740040" y="5186520"/>
            <a:ext cx="1892520" cy="598320"/>
          </a:xfrm>
          <a:prstGeom prst="ellipse">
            <a:avLst/>
          </a:prstGeom>
          <a:noFill/>
          <a:ln w="1908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Sector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manufacturero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397640" y="2668680"/>
            <a:ext cx="1130400" cy="1131840"/>
          </a:xfrm>
          <a:prstGeom prst="ellipse">
            <a:avLst/>
          </a:prstGeom>
          <a:noFill/>
          <a:ln w="1908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Consumidor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711840" y="4653000"/>
            <a:ext cx="1739880" cy="520560"/>
          </a:xfrm>
          <a:prstGeom prst="rect">
            <a:avLst/>
          </a:prstGeom>
          <a:noFill/>
          <a:ln w="1908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Servicio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Personale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2133720" y="2355480"/>
            <a:ext cx="0" cy="230040"/>
          </a:xfrm>
          <a:prstGeom prst="line">
            <a:avLst/>
          </a:prstGeom>
          <a:ln w="1908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2355840"/>
            <a:ext cx="1676160" cy="0"/>
          </a:xfrm>
          <a:prstGeom prst="line">
            <a:avLst/>
          </a:prstGeom>
          <a:ln w="19080">
            <a:solidFill>
              <a:srgbClr val="6666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2209680" y="5562720"/>
            <a:ext cx="1524240" cy="0"/>
          </a:xfrm>
          <a:prstGeom prst="line">
            <a:avLst/>
          </a:prstGeom>
          <a:ln w="19080">
            <a:solidFill>
              <a:srgbClr val="666699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819520" y="2738520"/>
            <a:ext cx="3886200" cy="1908000"/>
          </a:xfrm>
          <a:prstGeom prst="line">
            <a:avLst/>
          </a:prstGeom>
          <a:ln w="19080">
            <a:solidFill>
              <a:srgbClr val="666699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981080" y="3119400"/>
            <a:ext cx="1981440" cy="2214720"/>
          </a:xfrm>
          <a:prstGeom prst="line">
            <a:avLst/>
          </a:prstGeom>
          <a:ln w="19080">
            <a:solidFill>
              <a:srgbClr val="6666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3124080" y="3502080"/>
            <a:ext cx="4343400" cy="1373040"/>
          </a:xfrm>
          <a:prstGeom prst="line">
            <a:avLst/>
          </a:prstGeom>
          <a:ln w="19080">
            <a:solidFill>
              <a:srgbClr val="6666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819520" y="2890800"/>
            <a:ext cx="3504960" cy="1068480"/>
          </a:xfrm>
          <a:prstGeom prst="line">
            <a:avLst/>
          </a:prstGeom>
          <a:ln w="19080">
            <a:solidFill>
              <a:srgbClr val="666699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724280" y="4111560"/>
            <a:ext cx="1600200" cy="0"/>
          </a:xfrm>
          <a:prstGeom prst="line">
            <a:avLst/>
          </a:prstGeom>
          <a:ln w="19080">
            <a:solidFill>
              <a:srgbClr val="666699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828440" y="2508120"/>
            <a:ext cx="2133720" cy="2138400"/>
          </a:xfrm>
          <a:prstGeom prst="line">
            <a:avLst/>
          </a:prstGeom>
          <a:ln w="19080">
            <a:solidFill>
              <a:srgbClr val="666699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52480" y="3119400"/>
            <a:ext cx="0" cy="1527120"/>
          </a:xfrm>
          <a:prstGeom prst="line">
            <a:avLst/>
          </a:prstGeom>
          <a:ln w="19080">
            <a:solidFill>
              <a:srgbClr val="666699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2590920" y="4339800"/>
            <a:ext cx="1066680" cy="306360"/>
          </a:xfrm>
          <a:prstGeom prst="line">
            <a:avLst/>
          </a:prstGeom>
          <a:ln w="19080">
            <a:solidFill>
              <a:srgbClr val="666699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3124080" y="4417920"/>
            <a:ext cx="3733920" cy="533520"/>
          </a:xfrm>
          <a:prstGeom prst="line">
            <a:avLst/>
          </a:prstGeom>
          <a:ln w="19080">
            <a:solidFill>
              <a:srgbClr val="666699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209680" y="5180040"/>
            <a:ext cx="0" cy="382680"/>
          </a:xfrm>
          <a:prstGeom prst="line">
            <a:avLst/>
          </a:prstGeom>
          <a:ln w="1908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124080" y="5027760"/>
            <a:ext cx="3581640" cy="0"/>
          </a:xfrm>
          <a:prstGeom prst="line">
            <a:avLst/>
          </a:prstGeom>
          <a:ln w="19080">
            <a:solidFill>
              <a:srgbClr val="666699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H="1" flipV="1">
            <a:off x="2819160" y="2661840"/>
            <a:ext cx="4647960" cy="228600"/>
          </a:xfrm>
          <a:prstGeom prst="line">
            <a:avLst/>
          </a:prstGeom>
          <a:ln w="19080">
            <a:solidFill>
              <a:srgbClr val="666699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3733920" y="2662200"/>
            <a:ext cx="761760" cy="1068480"/>
          </a:xfrm>
          <a:prstGeom prst="line">
            <a:avLst/>
          </a:prstGeom>
          <a:ln w="19080">
            <a:solidFill>
              <a:srgbClr val="666699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4724280" y="3119040"/>
            <a:ext cx="2667240" cy="763560"/>
          </a:xfrm>
          <a:prstGeom prst="line">
            <a:avLst/>
          </a:prstGeom>
          <a:ln w="19080">
            <a:solidFill>
              <a:srgbClr val="6666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086600" y="3654000"/>
            <a:ext cx="533520" cy="228600"/>
          </a:xfrm>
          <a:prstGeom prst="line">
            <a:avLst/>
          </a:prstGeom>
          <a:ln w="19080">
            <a:solidFill>
              <a:srgbClr val="6666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924680" y="3807000"/>
            <a:ext cx="0" cy="839520"/>
          </a:xfrm>
          <a:prstGeom prst="line">
            <a:avLst/>
          </a:prstGeom>
          <a:ln w="19080">
            <a:solidFill>
              <a:srgbClr val="666699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86600" y="4417920"/>
            <a:ext cx="685800" cy="228600"/>
          </a:xfrm>
          <a:prstGeom prst="line">
            <a:avLst/>
          </a:prstGeom>
          <a:ln w="19080">
            <a:solidFill>
              <a:srgbClr val="666699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724280" y="4264200"/>
            <a:ext cx="1981440" cy="610920"/>
          </a:xfrm>
          <a:prstGeom prst="line">
            <a:avLst/>
          </a:prstGeom>
          <a:ln w="19080">
            <a:solidFill>
              <a:srgbClr val="666699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666880" y="3119400"/>
            <a:ext cx="685800" cy="611280"/>
          </a:xfrm>
          <a:prstGeom prst="line">
            <a:avLst/>
          </a:prstGeom>
          <a:ln w="19080">
            <a:solidFill>
              <a:srgbClr val="666699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962520" y="4340160"/>
            <a:ext cx="838080" cy="839880"/>
          </a:xfrm>
          <a:prstGeom prst="line">
            <a:avLst/>
          </a:prstGeom>
          <a:ln w="19080">
            <a:solidFill>
              <a:srgbClr val="666699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352680" y="6324480"/>
            <a:ext cx="54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Times New Roman"/>
              </a:rPr>
              <a:t>Fte. Dorothy Riddle, Service led Growth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Intensidad en mano de obr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468360" y="907920"/>
          <a:ext cx="8229600" cy="4772160"/>
        </p:xfrm>
        <a:graphic>
          <a:graphicData uri="http://schemas.openxmlformats.org/drawingml/2006/table">
            <a:tbl>
              <a:tblPr/>
              <a:tblGrid>
                <a:gridCol w="4824360"/>
                <a:gridCol w="3405240"/>
              </a:tblGrid>
              <a:tr h="819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Industria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Costos de Personal / Costos de Capital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Electricidad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14,2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Comunicaciones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5,3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Salud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1,6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Mecánica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1,6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Banca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1,2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Hotelería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1,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Retail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0,6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Tiendas especializadas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0,5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Seguros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0,2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Corretajes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0,2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"/>
          <p:cNvSpPr/>
          <p:nvPr/>
        </p:nvSpPr>
        <p:spPr>
          <a:xfrm>
            <a:off x="324000" y="5851440"/>
            <a:ext cx="8305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66"/>
                </a:solidFill>
                <a:latin typeface="Times New Roman"/>
              </a:rPr>
              <a:t>Fuente: “How can Service Business Survive and Prosper” de Roger W. Schmenner, Sloan Management Review, Spring 1986. Son válidos para Estados Unidos en base a datos de 1980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Intensidad en mano de obr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Desafíos para la gestió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Alta importancia del persona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Contratació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Capacitació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Programas de beneficio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Schedulin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Control geográfic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Intensidad en mano de obr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Desafíos para la gestió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Alta importancia del Capita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Decisiones de inversió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Avances Tecnológico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Pricin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Deliver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Interacción con el consumido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Habilidad del cliente de afectar personalmente la naturaleza del servicio entregado”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Relacionado con el grado de customizació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No confundir con percepción de la customizació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Agend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Definición de Servici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Componentes de un Product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Características de los Servicio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Clasificación de Servicio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Interacción con el consumido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Desafíos para la gestió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Alta interacción con el consumido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Trade-off entre costos y calida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Percepción del client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Diseño de interfaz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Aplanamiento de jerarquía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Lealtad de los empleado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Interacción con el consumido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Desafíos para la gestió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Baja interacción con el consumido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Marketin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Localizació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Estandarizació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533520" y="1676520"/>
            <a:ext cx="7543800" cy="403848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419720" y="1676520"/>
            <a:ext cx="0" cy="40384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3733920"/>
            <a:ext cx="746784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5120" y="1219320"/>
            <a:ext cx="60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Grado de Interacción y Customización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981000"/>
            <a:ext cx="395280" cy="59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Intes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Mano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Obra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62120" y="182880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Arial"/>
              </a:rPr>
              <a:t>Fábrica de Servicio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066680" y="2514600"/>
            <a:ext cx="3124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Aerolíneas/Hoteles/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Transport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572000" y="197316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Arial"/>
              </a:rPr>
              <a:t>Talleres de Servicio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724280" y="2743200"/>
            <a:ext cx="335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Hospitales/ Mecánico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85800" y="403848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Arial"/>
              </a:rPr>
              <a:t>Servicios Masivo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38080" y="4724280"/>
            <a:ext cx="327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Retailing/ Escuelas/ Comida rápida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643280" y="3860640"/>
            <a:ext cx="3200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Arial"/>
              </a:rPr>
              <a:t>Servicios profesionale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4572000"/>
            <a:ext cx="3353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Médicos/ Arquitectos Abogados/Contadore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8305920" y="213372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3366"/>
                </a:solidFill>
                <a:latin typeface="Arial"/>
              </a:rPr>
              <a:t>Alta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8305920" y="480060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3366"/>
                </a:solidFill>
                <a:latin typeface="Arial"/>
              </a:rPr>
              <a:t>Baja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934320" y="594360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3366"/>
                </a:solidFill>
                <a:latin typeface="Arial"/>
              </a:rPr>
              <a:t>Alta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990720" y="586728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3366"/>
                </a:solidFill>
                <a:latin typeface="Arial"/>
              </a:rPr>
              <a:t>Baja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6666"/>
                </a:solidFill>
                <a:latin typeface="Arial"/>
              </a:rPr>
              <a:t>Clasificación</a:t>
            </a:r>
            <a:br>
              <a:rPr sz="3200"/>
            </a:br>
            <a:r>
              <a:rPr b="1" lang="es-ES" sz="3200" spc="-1" strike="noStrike">
                <a:solidFill>
                  <a:srgbClr val="006666"/>
                </a:solidFill>
                <a:latin typeface="Arial"/>
              </a:rPr>
              <a:t> por tipo de proceso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Otros atributo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Cantidad de objetos que reciben el servicio antes de el cliente”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Perceptibilidad del resultad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Membresía del client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Continuidad del servici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Estacionalidad de la demand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Flexibilidad de la ofert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Lugar de interacción con el client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efinición de Servici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efinición de Servici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9640" y="2349000"/>
            <a:ext cx="8229600" cy="424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rvices are deeds, processes, and performances.”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Valarie Zeithaml &amp; Mary Jo Bitne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 service is an activity or series of activities of more or less intangible nature that normally, but not necessarily take place in interactions between customer and service employees and/or physical resources or goods and/or systems of the service provider, which are provided as solutions to customer problems.”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ristian Gonro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efinición de Servici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ll economic activities whose output is not a physical product or construction, is generally consumed at the time it is produced, and provides added value in intangible forms ”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Quinn, Jordan, Baruch &amp; Cushma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 Service is a Time-perishable, Intangible Experience Performed for a Customer Acting in the Role of a Coproducer.”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James Fitzsimmon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efinición de Servici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ien: Objet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rvicio: Experiencia intangible; Elaborado y consumido de manera simultáne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aquete: Combinación de Bienes y Servicios orientados a un client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Proporción de servici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838080" y="2362320"/>
          <a:ext cx="7693200" cy="3644640"/>
        </p:xfrm>
        <a:graphic>
          <a:graphicData uri="http://schemas.openxmlformats.org/drawingml/2006/table">
            <a:tbl>
              <a:tblPr/>
              <a:tblGrid>
                <a:gridCol w="5261040"/>
                <a:gridCol w="24321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PRODUCTO (PAQUETE)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% SERVICIO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Gasolinera auto servicio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5%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Computador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5%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Restaurante de comida rápida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50%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Restaurante gourmet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65%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Reparación de auto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75%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Vuelo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85%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Corte de pelo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00%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6666"/>
                </a:solidFill>
                <a:latin typeface="Arial"/>
              </a:rPr>
              <a:t>Componentes de un producto - servicio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66"/>
                </a:solidFill>
                <a:latin typeface="Arial"/>
              </a:rPr>
              <a:t>Instalaciones: 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Recursos físicos disponibles antes del consum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66"/>
                </a:solidFill>
                <a:latin typeface="Arial"/>
              </a:rPr>
              <a:t>Bienes: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 Recursos físicos disponibles durante el consum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66"/>
                </a:solidFill>
                <a:latin typeface="Arial"/>
              </a:rPr>
              <a:t>Servicios explícitos: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 Beneficios observabl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66"/>
                </a:solidFill>
                <a:latin typeface="Arial"/>
              </a:rPr>
              <a:t>Servicios implícitos: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 Beneficios sicológico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6666"/>
                </a:solidFill>
                <a:latin typeface="Arial"/>
              </a:rPr>
              <a:t>Evaluación de un producto - servicio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95280" y="22050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Instalacion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Localizació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Decoració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Equipamient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Layou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Bien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Calida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Cantida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Disponibilida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5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1-13T13:42:34Z</dcterms:created>
  <dc:creator>Máximo Bosch</dc:creator>
  <dc:description/>
  <dc:language>en-US</dc:language>
  <cp:lastModifiedBy>JMOSQUERA</cp:lastModifiedBy>
  <cp:lastPrinted>1997-05-16T15:38:36Z</cp:lastPrinted>
  <dcterms:modified xsi:type="dcterms:W3CDTF">2007-07-24T14:01:07Z</dcterms:modified>
  <cp:revision>102</cp:revision>
  <dc:subject/>
  <dc:title>Role of Services in an Economy</dc:title>
</cp:coreProperties>
</file>