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EA6-1803-419B-8018-16A8607F1C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BD8-FD7E-4A2A-AB60-96E58953D18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putación - Estanda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gunta abierta: qué es más customizado, el almacén o el hiper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angibilidad, presencia de cuentas, necesidad de defi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quete, producto, producto servicio,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635-3A75-4BCD-A510-06224468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C67-8A1B-4664-A98E-85301401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8C0-ECEA-4F01-8FEE-B09FE8E1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CAA-8985-4034-9ECC-1322D103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2FE8-2B1D-4097-8C29-F9C5E29A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FCB9-D505-4EEC-8DED-312BA421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D64E-6E56-4DF0-9627-EF4C5D9D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0C4-0B14-45FD-9FA4-D0DC3F17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2AFC-0CB0-4EF0-ABAD-2B8AAFA1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C118-163B-45B6-961D-FF01B16F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3DAD-7408-49D8-89C8-FFBAFAB9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13B-FADC-4625-A69B-B6DC272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55A5-4FC0-46DF-B98B-DED0E362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3D44-2C27-4FBB-9C4E-0E91B93A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8E03-65D8-4FF4-A5E6-CC1E88DF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B2E9-3E8A-4E7A-A38C-8F5084D3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6927-49BB-48A2-BFCB-D9FCE705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9AC-920B-4609-A587-A57BEECB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C5B-12F0-47B8-8881-99BCE7AB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D15-2292-4B89-984C-20E78107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64C-B0C3-440E-9594-8114A785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951-CF7A-4E5A-8267-B1483BAC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4B0-24DD-4DF1-8096-0C760640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782-EA47-48A3-AEFB-F2F7AEF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18F9-7DBA-4615-9C78-B2128D6EC96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389A-1519-425E-A277-C58882F8F28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3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valuación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 explíc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namiento del 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dicadores du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 implíc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tit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mósf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 de la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vacidad y segur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racterísticas de l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 participa en el proc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boración (supermercado, comida rápi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dida de desempeño (educación, salu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multán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ang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r (franquici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iente (garantía, regul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terogén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erza labo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racterísticas de l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lasificación de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ol en la econom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mano de obra (en comparación a la infraestruc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atribu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ol en la econom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para Negocio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eguros, créditos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cios de Intercambi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Retailing, mantenimient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Personale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elleza, restaurantes, salud, banca de pers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de Infraestructur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Transporte, comunicaciones, servicios bás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dminstración Públic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Gobierno, educ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en la econom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6680" y="2592360"/>
            <a:ext cx="120636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ndustri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4653000"/>
            <a:ext cx="173988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dministra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úblic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0560" y="3736800"/>
            <a:ext cx="1587600" cy="59724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 Infraestruct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0960" y="3889440"/>
            <a:ext cx="1336680" cy="5223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 Intercamb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6360" y="2057400"/>
            <a:ext cx="1816200" cy="59832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ctor Extractiv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0040" y="5186520"/>
            <a:ext cx="1892520" cy="59832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cto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anufacturer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7640" y="2668680"/>
            <a:ext cx="1130400" cy="113184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sumi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1840" y="4653000"/>
            <a:ext cx="173988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133720" y="2355480"/>
            <a:ext cx="0" cy="23004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355840"/>
            <a:ext cx="1676160" cy="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5562720"/>
            <a:ext cx="152424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738520"/>
            <a:ext cx="3886200" cy="19080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119400"/>
            <a:ext cx="1981440" cy="221472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3502080"/>
            <a:ext cx="4343400" cy="137304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890800"/>
            <a:ext cx="3504960" cy="10684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11560"/>
            <a:ext cx="160020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28440" y="2508120"/>
            <a:ext cx="2133720" cy="21384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119400"/>
            <a:ext cx="0" cy="15271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90920" y="4339800"/>
            <a:ext cx="1066680" cy="30636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24080" y="4417920"/>
            <a:ext cx="3733920" cy="5335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180040"/>
            <a:ext cx="0" cy="38268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5027760"/>
            <a:ext cx="358164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819160" y="2661840"/>
            <a:ext cx="4647960" cy="2286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920" y="2662200"/>
            <a:ext cx="761760" cy="10684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3119040"/>
            <a:ext cx="2667240" cy="76356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086600" y="3654000"/>
            <a:ext cx="533520" cy="22860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4680" y="3807000"/>
            <a:ext cx="0" cy="8395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4417920"/>
            <a:ext cx="685800" cy="2286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264200"/>
            <a:ext cx="1981440" cy="6109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3119400"/>
            <a:ext cx="685800" cy="6112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4340160"/>
            <a:ext cx="838080" cy="8398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6324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te. Dorothy Riddle, Service led Growt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907920"/>
          <a:ext cx="8229600" cy="4772160"/>
        </p:xfrm>
        <a:graphic>
          <a:graphicData uri="http://schemas.openxmlformats.org/drawingml/2006/table">
            <a:tbl>
              <a:tblPr/>
              <a:tblGrid>
                <a:gridCol w="4824360"/>
                <a:gridCol w="3405240"/>
              </a:tblGrid>
              <a:tr h="81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dustr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stos de Personal / Costos de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lectricida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munic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cán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an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otelerí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et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iendas especializad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egur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rretaj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24000" y="585144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uente: “How can Service Business Survive and Prosper” de Roger W. Schmenner, Sloan Management Review, Spring 1986. Son válidos para Estados Unidos en base a datos de 198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mportancia del 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ra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gramas de benefi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rol geográf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mportancia del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vances Tecnológ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c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ive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abilidad del cliente de afectar personalmente la naturaleza del servicio entregado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onado con el grado de 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confundir con percepción de la 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onentes de un Produ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racterísticas de los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asificación de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de-off entre costos y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eño de interfa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jerarquí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ealtad de los emple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ja 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676520"/>
            <a:ext cx="7543800" cy="4038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1676520"/>
            <a:ext cx="0" cy="4038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733920"/>
            <a:ext cx="7467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rado de Interacción y Customiz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81000"/>
            <a:ext cx="3952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Int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an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Ob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828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Fábrica de Servic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51460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erolíneas/Hoteles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9731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Talleres de Servi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743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Hospitales/ Mecáni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Servicios Mas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724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Retailing/ Escuelas/ Comida rápi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38606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Servicios profesiona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572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édicos/ Arquitectos Abogados/Con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2133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4800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5943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867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lasificación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por tipo de proce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tros 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objetos que reciben el servicio antes de el client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tibilidad del result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mbresía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 d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cionalidad de la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xibilidad de la ofe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gar de interacción con 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 are deeds, processes, and performance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arie Zeithaml &amp; Mary Jo Bit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rvice is an activity or series of activities of more or less intangible nature that normally, but not necessarily take place in interactions between customer and service employees and/or physical resources or goods and/or systems of the service provider, which are provided as solutions to customer problem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istian Gon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economic activities whose output is not a physical product or construction, is generally consumed at the time it is produced, and provides added value in intangible forms 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inn, Jordan, Baruch &amp; Cushm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rvice is a Time-perishable, Intangible Experience Performed for a Customer Acting in the Role of a Coproducer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mes Fitzsimm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: Obj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io: Experiencia intangible; Elaborado y consumido de manera simultán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: Combinación de Bienes y Servicios orientados a un clie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ropor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362320"/>
          <a:ext cx="7693200" cy="3644640"/>
        </p:xfrm>
        <a:graphic>
          <a:graphicData uri="http://schemas.openxmlformats.org/drawingml/2006/table">
            <a:tbl>
              <a:tblPr/>
              <a:tblGrid>
                <a:gridCol w="5261040"/>
                <a:gridCol w="2432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DUCTO (PAQUETE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% SERVIC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solinera auto servic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utado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aurante de comida rápid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aurante gourm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aración de aut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uel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te de pel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mponentes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stalacione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físicos disponibles antes del cons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Biene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Recursos físicos disponibles durante el cons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explícito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Beneficios observ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implícito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Beneficios sicoló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valuación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MOSQUERA</cp:lastModifiedBy>
  <cp:lastPrinted>1997-05-16T15:38:36Z</cp:lastPrinted>
  <dcterms:modified xsi:type="dcterms:W3CDTF">2007-07-24T14:01:07Z</dcterms:modified>
  <cp:revision>102</cp:revision>
  <dc:subject/>
  <dc:title>Role of Services in an Economy</dc:title>
</cp:coreProperties>
</file>