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1B75-D0D3-425D-8701-BE445A3823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4F96-3148-447B-8D01-8FF3C8408A10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putación - Estanda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 abierta: qué es más customizado, el almacén o el hiper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angibilidad, presencia de cuentas, necesidad de defi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quete, producto, producto servicio, service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12B-5496-46E9-A0A4-BED8E35F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4E6-932E-434C-9133-C96AA80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5A7-5EB8-4F2E-8CED-B915B0F2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88C-D2A0-48BF-9B90-FCCC73BB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6760-7279-4C75-BA13-41BA5CB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AF7A-AA3B-40CA-A03F-B525807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4610-484B-4A28-89EE-8BD69D7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6CF0-B8C2-48E4-8651-67688AD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FEA-71A4-40D6-AB45-961EEE11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243-9F61-41AE-A73E-545ADA4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68F-0052-41D9-B4E8-5791CDA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0EA-8298-4CB3-8D34-9F7464A5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7C31-776D-4A00-B796-8C8CFD3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E3D4-5A7A-4CDA-9CC0-CA80EA6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B72-38EA-491A-8504-4A00ECD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6792-E74A-4494-AB80-6677B614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BAB4-930B-485A-B7DB-6F34166F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F06-D45A-4D60-ADFB-BB8954F5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CDE-FAF9-40A7-AB4A-D3B12DFE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229-D640-4FC2-B325-BA048975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EB6-7791-4F36-8E4B-9E6F8AAA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C14-FAEC-4436-B2A9-33D90DE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456-47F1-4A76-8BF5-490A609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1FB-DEB6-4BE9-BDEB-4540A3C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391-265A-4ACE-8E41-01D9F756979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9725-8496-46D1-88CF-CB5F9BDF672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ex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namiento del 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dicadores du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 implíc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tit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mósf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vacidad y segu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iente participa en el proc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boración (supermercado, comida rápi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dida de desempeño (educación, salu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multá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ang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r (franqui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iente (garantía, regul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terogén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erza labo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racterísticas de los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lasificación de Serv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en la ec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mano de obra (en comparación a la infraestruct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atribu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ara Negocio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eguros, créditos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cios de Intercambio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Retailing, mantenimien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Personale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Belleza, restaurantes, salud, banca de pers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ervicios de Infraestructur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Transporte, comunicaciones, servicios bás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dminstración Pública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Gobierno, educ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en la econom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6680" y="2592360"/>
            <a:ext cx="120636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ndust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Administr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úbl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0560" y="3736800"/>
            <a:ext cx="1587600" cy="59724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fra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3889440"/>
            <a:ext cx="1336680" cy="5223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 Intercamb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6360" y="2057400"/>
            <a:ext cx="181620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Extractiv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0040" y="5186520"/>
            <a:ext cx="1892520" cy="59832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ct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manufacture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7640" y="2668680"/>
            <a:ext cx="1130400" cy="1131840"/>
          </a:xfrm>
          <a:prstGeom prst="ellipse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sumi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1840" y="4653000"/>
            <a:ext cx="1739880" cy="52056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rvici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133720" y="2355480"/>
            <a:ext cx="0" cy="2300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355840"/>
            <a:ext cx="1676160" cy="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5562720"/>
            <a:ext cx="15242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738520"/>
            <a:ext cx="3886200" cy="19080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119400"/>
            <a:ext cx="1981440" cy="221472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3502080"/>
            <a:ext cx="4343400" cy="137304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890800"/>
            <a:ext cx="35049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11560"/>
            <a:ext cx="160020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28440" y="2508120"/>
            <a:ext cx="2133720" cy="21384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19400"/>
            <a:ext cx="0" cy="15271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4339800"/>
            <a:ext cx="1066680" cy="30636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24080" y="4417920"/>
            <a:ext cx="3733920" cy="533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180040"/>
            <a:ext cx="0" cy="38268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5027760"/>
            <a:ext cx="3581640" cy="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2661840"/>
            <a:ext cx="464796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920" y="2662200"/>
            <a:ext cx="761760" cy="10684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3119040"/>
            <a:ext cx="2667240" cy="76356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086600" y="3654000"/>
            <a:ext cx="533520" cy="228600"/>
          </a:xfrm>
          <a:prstGeom prst="line">
            <a:avLst/>
          </a:prstGeom>
          <a:ln w="19080">
            <a:solidFill>
              <a:srgbClr val="6666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3807000"/>
            <a:ext cx="0" cy="8395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4417920"/>
            <a:ext cx="685800" cy="22860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264200"/>
            <a:ext cx="1981440" cy="61092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9400"/>
            <a:ext cx="685800" cy="6112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340160"/>
            <a:ext cx="838080" cy="839880"/>
          </a:xfrm>
          <a:prstGeom prst="line">
            <a:avLst/>
          </a:prstGeom>
          <a:ln w="19080">
            <a:solidFill>
              <a:srgbClr val="6666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6324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Fte. Dorothy Riddle, Service led Growt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907920"/>
          <a:ext cx="8229600" cy="477216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81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dustr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stos de Personal / Costos de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lectricida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munic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cá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n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otelerí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tai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endas especializad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gur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rretaj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24000" y="585144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uente: “How can Service Business Survive and Prosper” de Roger W. Schmenner, Sloan Management Review, Spring 1986. Son válidos para Estados Unidos en base a datos de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a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gramas de benefi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rol geográ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nsidad en mano de ob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mportancia del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vances 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c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iv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abilidad del cliente de afectar personalmente la naturaleza del servicio entregad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onado con el grado de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onfundir con percepción de la 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onentes de un Produ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racterísticas de los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lasificación de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de-off entre costos y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eño de interf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jerarquí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ealtad de los emple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eracción con el consumi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safíos para la gest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ja interacción con el consum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76520"/>
            <a:ext cx="7543800" cy="4038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676520"/>
            <a:ext cx="0" cy="4038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733920"/>
            <a:ext cx="7467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rado de Interacción y Customiz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3952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Int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an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Ob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Fábrica de Servi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5146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erolíneas/Hoteles/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731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Talleres de Servi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Hospitales/ Mecánic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Mas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724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Retailing/ Escuelas/ Comida ráp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38606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Servicios profesion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572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Médicos/ Arquitectos Abogados/Con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21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480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594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Baj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asificación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por tipo de proce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ros 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objetos que reciben el servicio antes de el client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tibilidad del result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mbresía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inuidad d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cionalidad de la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xibilidad de la of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gar de interacción con 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ices are deeds, processes, and performance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arie Zeithaml &amp; Mary Jo Bit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n activity or series of activities of more or less intangible nature that normally, but not necessarily take place in interactions between customer and service employees and/or physical resources or goods and/or systems of the service provider, which are provided as solutions to customer problem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istian Gon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economic activities whose output is not a physical product or construction, is generally consumed at the time it is produced, and provides added value in intangible forms 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nn, Jordan, Baruch &amp; Cushm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ervice is a Time-perishable, Intangible Experience Performed for a Customer Acting in the Role of a Coproducer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mes Fitzsimm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: Obj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: Experiencia intangible; Elaborado y consumido de manera simultán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: Combinación de Bienes y Servicios orientados a un cli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porción de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362320"/>
          <a:ext cx="7693200" cy="3644640"/>
        </p:xfrm>
        <a:graphic>
          <a:graphicData uri="http://schemas.openxmlformats.org/drawingml/2006/table">
            <a:tbl>
              <a:tblPr/>
              <a:tblGrid>
                <a:gridCol w="5261040"/>
                <a:gridCol w="24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O (PAQUETE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solinera auto servic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utado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de comida rápid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taurante gourm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aración de aut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u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te de pel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mponentes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stalacione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físicos disponibles antes d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iene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Recursos físicos disponibles durante el consu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ex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observa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ervicios implícitos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Beneficios sico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valuación de un producto - servici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MOSQUERA</cp:lastModifiedBy>
  <cp:lastPrinted>1997-05-16T15:38:36Z</cp:lastPrinted>
  <dcterms:modified xsi:type="dcterms:W3CDTF">2007-07-24T14:01:07Z</dcterms:modified>
  <cp:revision>102</cp:revision>
  <dc:subject/>
  <dc:title>Role of Services in an Economy</dc:title>
</cp:coreProperties>
</file>