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EB481-8125-4562-9A1A-4543124FC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73EBC-76B5-4D4C-BA0B-2F0BAB998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14F64-15BE-4FD1-A02F-0A6CBEBA2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9B478-572C-4348-9352-09FD37F66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EFF39-B85D-4A9A-917B-33153E644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99A92-497F-45A7-AE54-424B48B4D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A8545-ADCC-4580-9BB7-BF402D640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ED07C-59CE-4702-B1C4-BAD9C1970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C7A07-5424-4EFA-8C2E-C46B427F7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6459B-0064-4212-B3E8-16B02AC96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D2717-9093-4218-8149-7B8CB38D7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28E64-D6E2-4D50-868B-045E15BFA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A776-114B-4CF8-957C-A91265850A1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696080" cy="19051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dddddd"/>
                </a:solidFill>
                <a:latin typeface="Times New Roman"/>
              </a:rPr>
              <a:t>UNIVERSIDAD DE CHILE</a:t>
            </a:r>
            <a:br>
              <a:rPr sz="2800"/>
            </a:br>
            <a:r>
              <a:rPr b="0" i="1" lang="es-MX" sz="2800" spc="-1" strike="noStrike">
                <a:solidFill>
                  <a:srgbClr val="dddddd"/>
                </a:solidFill>
                <a:latin typeface="Times New Roman"/>
              </a:rPr>
              <a:t>D.I.I.</a:t>
            </a:r>
            <a:r>
              <a:rPr b="0" lang="es-MX" sz="2800" spc="-1" strike="noStrike">
                <a:solidFill>
                  <a:srgbClr val="dddddd"/>
                </a:solidFill>
                <a:latin typeface="Times New Roman"/>
              </a:rPr>
              <a:t> </a:t>
            </a:r>
            <a:br>
              <a:rPr sz="2800"/>
            </a:b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685800" y="2361960"/>
            <a:ext cx="7696080" cy="38862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ddddd"/>
                </a:solidFill>
                <a:latin typeface="Times New Roman"/>
              </a:rPr>
              <a:t>“</a:t>
            </a:r>
            <a:r>
              <a:rPr b="1" lang="es-MX" sz="1800" spc="-1" strike="noStrike">
                <a:solidFill>
                  <a:srgbClr val="dddddd"/>
                </a:solidFill>
                <a:latin typeface="Times New Roman"/>
              </a:rPr>
              <a:t>DERECHO EMPRESARIAL”</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Profesor: Sr. José Fernández Vergar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Abogado, 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MBA Esade Barcelona  Phd© Management UDL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dddddd"/>
                </a:solidFill>
                <a:latin typeface="Times New Roman"/>
              </a:rPr>
              <a:t>2007</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Imperativa</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as normas jurídicas expresan una orden, un mandato, y no un ruego, un consejo o sugerencia.</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0°. Las operaciones sobre letras de cambio, pagarés y cheques sobre documentos a la orden, cualesquiera que sea su causa y objeto y las personas que en ella intervengan, y las remesas de dinero de una plaza a otra hechas en virtud de un contrato de cambio. </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1°. Las operaciones de banco, las de cambio y corretaje.</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2°. Las operaciones de bolsa.</a:t>
            </a:r>
            <a:endParaRPr b="0" lang="en-US" sz="2000" spc="-1" strike="noStrike">
              <a:solidFill>
                <a:srgbClr val="000000"/>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0°. Las empresas de construcción de bienes inmuebles por adherencia, como edificios, caminos, puentes(....) y de otros similares de la misma naturaleza.</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n perjuicio de lo anterior, debemos considerar además, como ejemplo de acto de comercio a la sociedad anónima (art. 1 Ley Nª18.045).</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3. El Contra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un acto por el cual una parte se obliga para con otra a dar, hacer o no hacer alguna cosa. Cada parte pueden ser una o  muchas personas.” </a:t>
            </a:r>
            <a:r>
              <a:rPr b="0" lang="en-US" sz="2800" spc="-1" strike="noStrike">
                <a:solidFill>
                  <a:srgbClr val="000000"/>
                </a:solidFill>
                <a:latin typeface="Times New Roman"/>
                <a:ea typeface="Times New Roman"/>
              </a:rPr>
              <a:t>(art. 1438 del CC)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4. Principios de la Contratación:</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Autonomía de la voluntad</a:t>
            </a:r>
            <a:r>
              <a:rPr b="0" lang="es-CL" sz="2000" spc="-1" strike="noStrike">
                <a:solidFill>
                  <a:srgbClr val="000000"/>
                </a:solidFill>
                <a:latin typeface="Times New Roman"/>
                <a:ea typeface="Times New Roman"/>
              </a:rPr>
              <a:t>: Las partes son libres de señalar las proyecciones del contrato, su duración, y en general sus efectos. Este principio no tiene más limitaciones, en general, que las que imponen las leyes en defensa de las buenas costumbres y del orden público, así como también los contratos de adhes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b. buena fe contractual</a:t>
            </a:r>
            <a:r>
              <a:rPr b="0" lang="es-CL" sz="2000" spc="-1" strike="noStrike">
                <a:solidFill>
                  <a:srgbClr val="000000"/>
                </a:solidFill>
                <a:latin typeface="Times New Roman"/>
                <a:ea typeface="Times New Roman"/>
              </a:rPr>
              <a:t>: Los contratos deben ejecutarse de buena fe, y de consiguiente, los contratos obligan no sólo a lo que en ellos se expresa (art. 1546 del CC).</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 Fuerza obligatoria de los contratos</a:t>
            </a:r>
            <a:r>
              <a:rPr b="0" lang="es-CL" sz="2000" spc="-1" strike="noStrike">
                <a:solidFill>
                  <a:srgbClr val="000000"/>
                </a:solidFill>
                <a:latin typeface="Times New Roman"/>
                <a:ea typeface="Times New Roman"/>
              </a:rPr>
              <a:t>: “Todo contrato legalmente celebrado es una ley para los contratantes” (art. 1545 C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5. Interpretación de contratos</a:t>
            </a:r>
            <a:br>
              <a:rPr sz="3600"/>
            </a:br>
            <a:endParaRPr b="0" lang="en-US" sz="3600" spc="-1" strike="noStrike">
              <a:solidFill>
                <a:srgbClr val="000000"/>
              </a:solidFill>
              <a:latin typeface="Times New Roman"/>
            </a:endParaRPr>
          </a:p>
        </p:txBody>
      </p:sp>
      <p:sp>
        <p:nvSpPr>
          <p:cNvPr id="242"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reglas de interpretación de los contratos (arts. 1560 a 1566)  distinguen un método subjetivo (procura esclarecer la voluntad real de los contratantes) y uno objetivo (sostiene que la declaración de voluntad tiene un valor en sí, independientemente de la intención de sus autores). Los principales mecanismos son:</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La intención de las partes</a:t>
            </a:r>
            <a:r>
              <a:rPr b="0" lang="es-CL" sz="2000" spc="-1" strike="noStrike">
                <a:solidFill>
                  <a:srgbClr val="000000"/>
                </a:solidFill>
                <a:latin typeface="Times New Roman"/>
                <a:ea typeface="Times New Roman"/>
              </a:rPr>
              <a:t>: “Conocida claramente la intención de los contratantes, debe estarse a ella mas que a lo literal de las palabras (art 1560 CC).</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b. Alcance de los términos generales del contrato</a:t>
            </a:r>
            <a:r>
              <a:rPr b="0" lang="es-CL" sz="2000" spc="-1" strike="noStrike">
                <a:solidFill>
                  <a:srgbClr val="000000"/>
                </a:solidFill>
                <a:latin typeface="Times New Roman"/>
                <a:ea typeface="Times New Roman"/>
              </a:rPr>
              <a:t>. “Por generales que sean los términos de un contrato, sólo se aplicarán a la materia sobre que se ha contratado” (art. 1561 CC).</a:t>
            </a:r>
            <a:endParaRPr b="0" lang="en-US" sz="2000" spc="-1" strike="noStrike">
              <a:solidFill>
                <a:srgbClr val="000000"/>
              </a:solidFill>
              <a:latin typeface="Times New Roman"/>
            </a:endParaRPr>
          </a:p>
          <a:p>
            <a:pPr marL="339480" indent="-339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 Eficacia de las cláusulas contractuales</a:t>
            </a:r>
            <a:r>
              <a:rPr b="0" lang="es-CL" sz="2000" spc="-1" strike="noStrike">
                <a:solidFill>
                  <a:srgbClr val="000000"/>
                </a:solidFill>
                <a:latin typeface="Times New Roman"/>
                <a:ea typeface="Times New Roman"/>
              </a:rPr>
              <a:t>: “El sentido en que una cláusula puede producir efecto deberá preferir a aquél en que no sea capaz de producir efecto alguno”. (art. 1562).</a:t>
            </a:r>
            <a:endParaRPr b="0" lang="en-US" sz="2000" spc="-1" strike="noStrike">
              <a:solidFill>
                <a:srgbClr val="000000"/>
              </a:solidFill>
              <a:latin typeface="Times New Roman"/>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5. Elementos</a:t>
            </a:r>
            <a:br>
              <a:rPr sz="3600"/>
            </a:br>
            <a:endParaRPr b="0" lang="en-US" sz="36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artículo 1445 del CC afirma: “para que una persona se obligue a otra por un acto o declaración de voluntad” es necesario:</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1. Que sea legalmente capaz (por ej. el mayor de 18 a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2. Que consienta en el acto o declaración y que el consentimiento no adolezca de vicios (ej. inexistencia de fuerza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3. Que recaiga sobre un objeto lícito.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4. Que tenga una causa lícita.</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1.Según la parte obligada (art. 1439 CC</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ilaterales: Obliga a una sola de las partes. Ej. el mutuo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ilaterales:    Las partes se obligan reciprocamente. Ej. Compravent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2. Según el beneficio o utilidad que reporta (art. 1440 CC):</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Gratuito: Reporta utilidad para una sola de las partes. Ej. donac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neroso: Reporta utilidad para ambas partes. Ej. compravent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1. Conmutativo: Las prestaciones de las partes se miran como equivalentes. Ej. Arrendamiento</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2. Aleatorio: Las prestaciones de las partes no se miran como equivalentes, quedando sujeta (s) a la contingencia incierta de ganancia o pérdida. Ej. el segur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09480" y="2133360"/>
            <a:ext cx="7772400" cy="327636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3. Según su subsistencia (art. 1442)</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rincipales: Subsisten por sí mismo. Ej. compraventa.</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ccesorios: No subsiste por si mismo. Tiene por objeto</a:t>
            </a:r>
            <a:br>
              <a:rPr sz="2400"/>
            </a:br>
            <a:r>
              <a:rPr b="0" lang="es-CL" sz="2400" spc="-1" strike="noStrike">
                <a:solidFill>
                  <a:srgbClr val="000000"/>
                </a:solidFill>
                <a:latin typeface="Times New Roman"/>
                <a:ea typeface="Times New Roman"/>
              </a:rPr>
              <a:t>    asegurar el cumplimiento de una obligación principal. </a:t>
            </a:r>
            <a:br>
              <a:rPr sz="2400"/>
            </a:br>
            <a:r>
              <a:rPr b="0" lang="es-CL" sz="2400" spc="-1" strike="noStrike">
                <a:solidFill>
                  <a:srgbClr val="000000"/>
                </a:solidFill>
                <a:latin typeface="Times New Roman"/>
                <a:ea typeface="Times New Roman"/>
              </a:rPr>
              <a:t>    Ej. prenda e hipoteca</a:t>
            </a: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2057400"/>
            <a:ext cx="7772400" cy="3733920"/>
          </a:xfrm>
          <a:prstGeom prst="rect">
            <a:avLst/>
          </a:prstGeom>
          <a:noFill/>
          <a:ln w="0">
            <a:noFill/>
          </a:ln>
        </p:spPr>
        <p:txBody>
          <a:bodyPr lIns="90000" rIns="90000" tIns="46800" bIns="46800" anchor="t">
            <a:normAutofit fontScale="97000"/>
          </a:bodyPr>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4. Según la forma de perfeccionarse (art 1443):</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Real: Se perfecciona con la tradición (entrega) de la cosa. Ej mutuo.</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Consensual: Se perfeccionan por el solo consentimiento. Ej compraventa de bienes muebles.</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Solemnes: Se perfeccionan por el cumplimiento de determinadas solemnidades. Ej. compraventa de bienes raíces que requieren escritura pública e inscripción en el conservador de bienes raíces respectivo.</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517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2286000"/>
            <a:ext cx="7772400" cy="22096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5. Según su regul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Nominados (típicos): Son regulados por el legislador. Ej. compravent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Innominados (atípicos): No son regulados por el legislador. </a:t>
            </a:r>
            <a:r>
              <a:rPr b="0" lang="en-US" sz="2000" spc="-1" strike="noStrike">
                <a:solidFill>
                  <a:srgbClr val="000000"/>
                </a:solidFill>
                <a:latin typeface="Times New Roman"/>
                <a:ea typeface="Times New Roman"/>
              </a:rPr>
              <a:t>Ej. franchising, know how.</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6. Clasific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I.7. </a:t>
            </a:r>
            <a:r>
              <a:rPr b="1" lang="es-CL" sz="3200" spc="-1" strike="noStrike">
                <a:solidFill>
                  <a:srgbClr val="dddddd"/>
                </a:solidFill>
                <a:latin typeface="Times New Roman"/>
                <a:ea typeface="Times New Roman"/>
              </a:rPr>
              <a:t>Contratos accesorios. Las Garantías</a:t>
            </a:r>
            <a:r>
              <a:rPr b="1"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imes New Roman"/>
                <a:ea typeface="Times New Roman"/>
              </a:rPr>
              <a:t>a. La Prenda</a:t>
            </a:r>
            <a:r>
              <a:rPr b="0" lang="es-CL" sz="2000" spc="-1" strike="noStrike">
                <a:solidFill>
                  <a:srgbClr val="000000"/>
                </a:solidFill>
                <a:latin typeface="Times New Roman"/>
                <a:ea typeface="Times New Roman"/>
              </a:rPr>
              <a:t>: Es un contrato en que se entrega una cosa mueble a un acreedor para seguridad de su crédito, otorgándole la facultad de perseguir la cosa empeñada, retenerla en ciertos casos y pagarse preferentemente con el producto de su realización, si el deudor no cumple la obligación garantizada.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racterísticas mas salientes de la prenda podemos mencionar: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es un contra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requiere la entrega de la cosa (sin perjuicio de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llamadas prendas sin desplazamien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 recae sobre bienes muebles y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d) constituye una caución.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dddddd"/>
                </a:solidFill>
                <a:latin typeface="Verdana"/>
                <a:ea typeface="Times New Roman"/>
              </a:rPr>
              <a:t>I.2. Características de las normas jurídica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Heteronomía:</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Se siguen o adoptan no por propia voluntad, como las morales y religiosas, sino por la imposición de una voluntad ajena exterior.</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b. Hipoteca</a:t>
            </a:r>
            <a:r>
              <a:rPr b="0" lang="es-CL" sz="2400" spc="-1" strike="noStrike">
                <a:solidFill>
                  <a:srgbClr val="000000"/>
                </a:solidFill>
                <a:latin typeface="Times New Roman"/>
                <a:ea typeface="Times New Roman"/>
              </a:rPr>
              <a:t>: Es un derecho real que grava un inmueble, que no deja de permanecer en poder del constituyente, para asegurar el cumplimiento de una obligación principal, otorgando al acreedor el derecho de perseguir la finca en manos de quienquiera que la posea y pagarse preferentemente con el producto de la realización. (art. 2407 CC) </a:t>
            </a:r>
            <a:endParaRPr b="0" lang="en-US" sz="2400" spc="-1" strike="noStrike">
              <a:solidFill>
                <a:srgbClr val="000000"/>
              </a:solidFill>
              <a:latin typeface="Times New Roman"/>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c. La Fianza</a:t>
            </a:r>
            <a:r>
              <a:rPr b="0" lang="es-CL" sz="2400" spc="-1" strike="noStrike">
                <a:solidFill>
                  <a:srgbClr val="000000"/>
                </a:solidFill>
                <a:latin typeface="Times New Roman"/>
                <a:ea typeface="Times New Roman"/>
              </a:rPr>
              <a:t>: Es un contrato accesorio, en virtud del cual una o mas personas responden de una obligación  ajena comprometiéndose para con el acreedor a cumplirla en todo o parte, si el deudor principal no la cumple. (art. 2335 CC). </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I.7. </a:t>
            </a:r>
            <a:r>
              <a:rPr b="1" lang="es-CL" sz="3200" spc="-1" strike="noStrike">
                <a:solidFill>
                  <a:srgbClr val="dddddd"/>
                </a:solidFill>
                <a:latin typeface="Times New Roman"/>
                <a:ea typeface="Times New Roman"/>
              </a:rPr>
              <a:t>Contratos accesorios. Las Garantías</a:t>
            </a:r>
            <a:r>
              <a:rPr b="1"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295280" y="20574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II. OBLIGACIONES (pasivos).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1. Obligación:</a:t>
            </a:r>
            <a:endParaRPr b="0" lang="en-US" sz="3600" spc="-1" strike="noStrike">
              <a:solidFill>
                <a:srgbClr val="000000"/>
              </a:solidFill>
              <a:latin typeface="Times New Roman"/>
            </a:endParaRPr>
          </a:p>
        </p:txBody>
      </p:sp>
      <p:sp>
        <p:nvSpPr>
          <p:cNvPr id="259"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vínculo jurídico en virtud del cual una persona denominada acreedor puede exigir de otra denominada deudor una prestación de dar, hacer o no hacer alguna cosa, garantizando el último su cumplimiento  con todo su patrimonio”.</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n los hechos jurídicos de donde se originan o nacen las obligaciones. Nuestro Código Civil preceptua en el artículo 1437: “Las obligaciones nacen, ya del concurso real de las voluntades de dos o más personas, como en los contratos o convenciones; ya de un hecho voluntario de la persona que se obliga, como en la aceptación de una herencia o legado y en todos los cuasicontratos; ya a consecuencia de un hecho que ha inferido injuria o daño a otra persona, como en los delitos y cuasidelitos; ya por disposición de la ley, como entre los padres y los hijos sujetos a patria potestad”. Luego concluimos que las fuentes de las obligaciones son:</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a. Contratos</a:t>
            </a:r>
            <a:r>
              <a:rPr b="0" lang="es-CL" sz="2000" spc="-1" strike="noStrike">
                <a:solidFill>
                  <a:srgbClr val="000000"/>
                </a:solidFill>
                <a:latin typeface="Times New Roman"/>
                <a:ea typeface="Times New Roman"/>
              </a:rPr>
              <a:t>: Como fuente creadora de obligaciones. (Nos remitimos al capítulo I)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2403000"/>
            <a:ext cx="7772400" cy="3311640"/>
          </a:xfrm>
          <a:prstGeom prst="rect">
            <a:avLst/>
          </a:prstGeom>
          <a:noFill/>
          <a:ln w="0">
            <a:noFill/>
          </a:ln>
        </p:spPr>
        <p:txBody>
          <a:bodyPr lIns="90000" rIns="90000" tIns="46800" bIns="46800" anchor="t">
            <a:normAutofit fontScale="82000"/>
          </a:bodyPr>
          <a:p>
            <a:pPr marL="281160" indent="-2811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b. Cuasicontratos</a:t>
            </a:r>
            <a:r>
              <a:rPr b="0" lang="es-CL" sz="2400" spc="-1" strike="noStrike">
                <a:solidFill>
                  <a:srgbClr val="000000"/>
                </a:solidFill>
                <a:latin typeface="Times New Roman"/>
                <a:ea typeface="Times New Roman"/>
              </a:rPr>
              <a:t>: “Son los hechos puramente voluntarios del hombre, lícitos, de los que resulta una obligación respecto de un tercero, y a veces una obligación recíproca de ambos interesados”. El Código Civil distingue  tres tipos de cuasicontratos, entre los cuales cabe destacar la comunidad. Al respecto nuestra ley civil sostiene: “la comunidad de una cosa universal o singular, entre dos o mas personas, sin que ninguna de ellas haya contratado sociedad o celebrado otra convención relativa a la misma cosa, es una especie de cuasicontrato” (art. 2304 del CC).</a:t>
            </a:r>
            <a:endParaRPr b="0" lang="en-US" sz="2400" spc="-1" strike="noStrike">
              <a:solidFill>
                <a:srgbClr val="000000"/>
              </a:solidFill>
              <a:latin typeface="Times New Roman"/>
            </a:endParaRPr>
          </a:p>
          <a:p>
            <a:pPr marL="2811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057400"/>
            <a:ext cx="7772400" cy="445464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c. Delitos</a:t>
            </a:r>
            <a:r>
              <a:rPr b="0" lang="es-CL" sz="2400" spc="-1" strike="noStrike">
                <a:solidFill>
                  <a:srgbClr val="000000"/>
                </a:solidFill>
                <a:latin typeface="Times New Roman"/>
                <a:ea typeface="Times New Roman"/>
              </a:rPr>
              <a:t>: “Hecho ilícito cometido con la intención de dañar” (Art. 2284)</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d. Cuasidelitos</a:t>
            </a:r>
            <a:r>
              <a:rPr b="0" lang="es-CL" sz="2400" spc="-1" strike="noStrike">
                <a:solidFill>
                  <a:srgbClr val="000000"/>
                </a:solidFill>
                <a:latin typeface="Times New Roman"/>
                <a:ea typeface="Times New Roman"/>
              </a:rPr>
              <a:t>: “Hecho culpable, pero cometido sin la intención de dañar (art. 2284).</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33520" y="2437920"/>
            <a:ext cx="7772400" cy="3387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e. La ley</a:t>
            </a:r>
            <a:r>
              <a:rPr b="0" lang="es-CL" sz="2400" spc="-1" strike="noStrike">
                <a:solidFill>
                  <a:srgbClr val="000000"/>
                </a:solidFill>
                <a:latin typeface="Times New Roman"/>
                <a:ea typeface="Times New Roman"/>
              </a:rPr>
              <a:t>. Es la fuente mediata de todas las obligaciones. Por ejemplo, el derecho de alimentos que deben los padres respecto de sus hij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2. Fuentes de las obligacione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II.3. Clasificación. </a:t>
            </a:r>
            <a:br>
              <a:rPr sz="2800"/>
            </a:br>
            <a:r>
              <a:rPr b="1" lang="es-CL" sz="2800" spc="-1" strike="noStrike">
                <a:solidFill>
                  <a:srgbClr val="dddddd"/>
                </a:solidFill>
                <a:latin typeface="Times New Roman"/>
                <a:ea typeface="Times New Roman"/>
              </a:rPr>
              <a:t>tipos de obligaciones:</a:t>
            </a:r>
            <a:endParaRPr b="0" lang="en-US" sz="28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1. Según su origen (art. 1437)</a:t>
            </a:r>
            <a:r>
              <a:rPr b="0" lang="es-CL" sz="2000" spc="-1" strike="noStrike">
                <a:solidFill>
                  <a:srgbClr val="000000"/>
                </a:solidFill>
                <a:latin typeface="Times New Roman"/>
                <a:ea typeface="Times New Roman"/>
              </a:rPr>
              <a:t>: Pueden ser legales, contractuales, cuasicontractuales, delictuales, cuasidelictua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2. Según la legislación aplicable</a:t>
            </a:r>
            <a:r>
              <a:rPr b="0" lang="es-CL" sz="2000" spc="-1" strike="noStrike">
                <a:solidFill>
                  <a:srgbClr val="000000"/>
                </a:solidFill>
                <a:latin typeface="Times New Roman"/>
                <a:ea typeface="Times New Roman"/>
              </a:rPr>
              <a:t>: Civiles y mercanti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3. Según la determinación del objeto</a:t>
            </a:r>
            <a:r>
              <a:rPr b="0" lang="es-CL" sz="2000" spc="-1" strike="noStrike">
                <a:solidFill>
                  <a:srgbClr val="000000"/>
                </a:solidFill>
                <a:latin typeface="Times New Roman"/>
                <a:ea typeface="Times New Roman"/>
              </a:rPr>
              <a:t>: Pudiendo ser de género o bien, de especie o de cuerpo ciert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4. Según la forma como subsisten</a:t>
            </a:r>
            <a:r>
              <a:rPr b="0" lang="es-CL" sz="2000" spc="-1" strike="noStrike">
                <a:solidFill>
                  <a:srgbClr val="000000"/>
                </a:solidFill>
                <a:latin typeface="Times New Roman"/>
                <a:ea typeface="Times New Roman"/>
              </a:rPr>
              <a:t>:Obligaciones principales y accesori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II.3. Clasificación. </a:t>
            </a:r>
            <a:br>
              <a:rPr sz="2800"/>
            </a:br>
            <a:r>
              <a:rPr b="1" lang="es-CL" sz="2800" spc="-1" strike="noStrike">
                <a:solidFill>
                  <a:srgbClr val="dddddd"/>
                </a:solidFill>
                <a:latin typeface="Times New Roman"/>
                <a:ea typeface="Times New Roman"/>
              </a:rPr>
              <a:t>tipos de obligaciones:</a:t>
            </a:r>
            <a:endParaRPr b="0" lang="en-US" sz="28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5. Según la eficacia del vínculo jurídico</a:t>
            </a:r>
            <a:r>
              <a:rPr b="0" lang="es-CL" sz="2000" spc="-1" strike="noStrike">
                <a:solidFill>
                  <a:srgbClr val="000000"/>
                </a:solidFill>
                <a:latin typeface="Times New Roman"/>
                <a:ea typeface="Times New Roman"/>
              </a:rPr>
              <a:t>. Se distingue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civiles: Dan acción para exigir el cumplimiento de una obligación. Por ejemplo las emanadas de un contrato válid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naturales: No dan acción para exigir el cumplimiento de la obligación pero autorizan a retener lo que se ha dado o pagado en razón de ello. (Por ej. obligación de pagar un legado impuesto por un testamento que no se ha otorgado en la forma debid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6. Según sus efectos</a:t>
            </a:r>
            <a:r>
              <a:rPr b="0" lang="es-CL" sz="2000" spc="-1" strike="noStrike">
                <a:solidFill>
                  <a:srgbClr val="000000"/>
                </a:solidFill>
                <a:latin typeface="Times New Roman"/>
                <a:ea typeface="Times New Roman"/>
              </a:rPr>
              <a:t>: Pudiendo ser pura y simple, o bien, sujetas a modalidad (plazo y condi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480"/>
            <a:ext cx="7772400" cy="9907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4. Efectos</a:t>
            </a:r>
            <a:r>
              <a:rPr b="0" lang="es-CL" sz="3600" spc="-1" strike="noStrike">
                <a:solidFill>
                  <a:srgbClr val="dddddd"/>
                </a:solidFill>
                <a:latin typeface="Times New Roman"/>
                <a:ea typeface="Times New Roman"/>
              </a:rPr>
              <a:t>:</a:t>
            </a:r>
            <a:br>
              <a:rPr sz="3600"/>
            </a:br>
            <a:endParaRPr b="0" lang="en-US" sz="3600" spc="-1" strike="noStrike">
              <a:solidFill>
                <a:srgbClr val="000000"/>
              </a:solidFill>
              <a:latin typeface="Times New Roman"/>
            </a:endParaRPr>
          </a:p>
        </p:txBody>
      </p:sp>
      <p:sp>
        <p:nvSpPr>
          <p:cNvPr id="273"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El pago: Es la prestación de lo que se debe (cumplimiento de la oblig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Derechos que la ley confiere al acreedor frente al incumplimiento de la obliga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Ejecución forzada (juicio ejecutiv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Indemnización de perjuicios (para restablecer el estado previo a la infracció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Derechos que la ley confiere al acreedor para proteger su crédito (ej. Acción pauliana, que pretende recuperar la salida de bienes del patrimonio del deud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Alteridad o bilateralidad:</a:t>
            </a: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La norma jurídica no rige el comportamiento de la persona en sí mismo, sino en relación con el de los otros.</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dddddd"/>
                </a:solidFill>
                <a:latin typeface="Times New Roman"/>
              </a:rPr>
              <a:t>II.5. Extinción de las obligaciones</a:t>
            </a:r>
            <a:br>
              <a:rPr sz="2800"/>
            </a:br>
            <a:r>
              <a:rPr b="1" lang="es-CL" sz="2800" spc="-1" strike="noStrike">
                <a:solidFill>
                  <a:srgbClr val="dddddd"/>
                </a:solidFill>
                <a:latin typeface="Times New Roman"/>
                <a:ea typeface="Times New Roman"/>
              </a:rPr>
              <a:t>Modos de extinguir:</a:t>
            </a:r>
            <a:r>
              <a:rPr b="0" lang="es-CL" sz="2800" spc="-1" strike="noStrike">
                <a:solidFill>
                  <a:srgbClr val="dddddd"/>
                </a:solidFill>
                <a:latin typeface="Times New Roman"/>
                <a:ea typeface="Times New Roman"/>
              </a:rPr>
              <a:t> </a:t>
            </a:r>
            <a:br>
              <a:rPr sz="2800"/>
            </a:br>
            <a:endParaRPr b="0" lang="en-US" sz="28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on los motivos o causales por las cuales las obligaciones desaparecen del ordenamiento jurídico. </a:t>
            </a:r>
            <a:r>
              <a:rPr b="0" lang="en-US" sz="2000" spc="-1" strike="noStrike">
                <a:solidFill>
                  <a:srgbClr val="000000"/>
                </a:solidFill>
                <a:latin typeface="Times New Roman"/>
                <a:ea typeface="Times New Roman"/>
              </a:rPr>
              <a:t>Son (art 1567 CC):</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Resciliación o mutuo consentimiento: Convención por la que las partes interesadas, siendo capaces de disponer libremente de lo suyo, consienten en darla por nula.</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l pago efectivo: Es la prestación de lo que se debe (art. 1568 CC).</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La Novación: Es la substitución de una nueva obligación a otra anterior, la cual queda por tanto extinguida (art. 1628 del CC). </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La transacción: Contrato en que las partes terminan extrajudicialmente un litigio pendiente, o precaven un litigio eventual (art. 2446).</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5. La remisión: Condonación de una deuda (art. 1652).</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6. La compensación: Cuando dos personas son deudoras una de otra (art. 1655).</a:t>
            </a:r>
            <a:endParaRPr b="0" lang="en-US" sz="2000" spc="-1" strike="noStrike">
              <a:solidFill>
                <a:srgbClr val="000000"/>
              </a:solidFill>
              <a:latin typeface="Times New Roman"/>
            </a:endParaRPr>
          </a:p>
          <a:p>
            <a:pPr marL="3326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7. La confusión: Cuando concurren en una misma persona las calidades de deudor y acreedor (art. 1665).</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8. La pérdida de la cosa que se debe: Sea porque perece, destruye, deja de estar en el comercio, o desaparece y se ignora si existe (art. 1670).</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9. Por la declaración de nulidad  o por la rescisión: Es la sanción para todo acto o contrato a que falta alguno de los requisitos que la ley prescribe para el valor del mismo acto o contrato, según su especie y la calidad y estado de las partes (art. 1681 inc 1 del CC).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0. Por el evento de la condición resolutoria: Hecho futuro e incierto del cual depende la extinción de un derecho.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1. Por la prescripción: Modo de extinguir las acciones y derechos ajenos por no haberse ejercido dichas acciones y derechos durante cierto lapso de tiempo (art. 2492 del C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L" sz="2800" spc="-1" strike="noStrike">
                <a:solidFill>
                  <a:srgbClr val="dddddd"/>
                </a:solidFill>
                <a:latin typeface="Times New Roman"/>
              </a:rPr>
              <a:t>II.5. Extinción de las obligaciones</a:t>
            </a:r>
            <a:br>
              <a:rPr sz="2800"/>
            </a:br>
            <a:r>
              <a:rPr b="1" lang="es-CL" sz="2800" spc="-1" strike="noStrike">
                <a:solidFill>
                  <a:srgbClr val="dddddd"/>
                </a:solidFill>
                <a:latin typeface="Times New Roman"/>
                <a:ea typeface="Times New Roman"/>
              </a:rPr>
              <a:t>Modos de extinguir:</a:t>
            </a:r>
            <a:r>
              <a:rPr b="0" lang="es-CL" sz="2800" spc="-1" strike="noStrike">
                <a:solidFill>
                  <a:srgbClr val="dddddd"/>
                </a:solidFill>
                <a:latin typeface="Times New Roman"/>
                <a:ea typeface="Times New Roman"/>
              </a:rPr>
              <a:t> </a:t>
            </a:r>
            <a:br>
              <a:rPr sz="2800"/>
            </a:b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447920" y="1905120"/>
            <a:ext cx="6400800" cy="167616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dddddd"/>
                </a:solidFill>
                <a:latin typeface="Times New Roman"/>
                <a:ea typeface="Times New Roman"/>
              </a:rPr>
              <a:t>III. CONTRATOS T</a:t>
            </a:r>
            <a:r>
              <a:rPr b="1" lang="es-MX" sz="4400" spc="-1" strike="noStrike">
                <a:solidFill>
                  <a:srgbClr val="dddddd"/>
                </a:solidFill>
                <a:latin typeface="Times New Roman"/>
                <a:ea typeface="Times New Roman"/>
              </a:rPr>
              <a:t>Í</a:t>
            </a:r>
            <a:r>
              <a:rPr b="1" lang="he-IL" sz="4400" spc="-1" strike="noStrike">
                <a:solidFill>
                  <a:srgbClr val="dddddd"/>
                </a:solidFill>
                <a:latin typeface="Times New Roman"/>
                <a:ea typeface="Times New Roman"/>
              </a:rPr>
              <a:t>PICOS</a:t>
            </a:r>
            <a:r>
              <a:rPr b="0" lang="es-ES" sz="4400" spc="-1" strike="noStrike">
                <a:solidFill>
                  <a:srgbClr val="dddddd"/>
                </a:solidFill>
                <a:latin typeface="Times New Roman"/>
              </a:rPr>
              <a:t>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dddddd"/>
                </a:solidFill>
                <a:uFillTx/>
                <a:latin typeface="Times New Roman"/>
                <a:ea typeface="Times New Roman"/>
              </a:rPr>
              <a:t>1. Contrato de Promesa:</a:t>
            </a:r>
            <a:endParaRPr b="0" lang="en-US" sz="28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un contrato en virtud del cual las partes acuerdan celebrar un contrato diferente en el futuro. Se habla así de “promesa de compraventa” cuando el contrato prometido es una compraventa; o de “promesa de arrendamiento” o de “promesa de mutuo” si el contrato prometido es un arrendamiento o un mutuo, respectivamente. Lo importante es considerar que el contrato de promesa, por una parte, y el contrato prometido por otra, son actos jurídicos totalmente distintos e independientes el uno del otro. Es interesante destacar que el CC no incluye a la promesa entre los contratos que reglamenta; y que se refiere a esta solo en relación a las normas relativas al efecto de las obligaciones (art. 1554 del CC). Es un contrato solemne (debe constar por escrito), principal (subsiste por si mismo) bilateral o unilateral.</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Celebrar el contrato prometido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Derech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xigir la celebración del contrato prometid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2. Contrato de Compraventa:</a:t>
            </a:r>
            <a:endParaRPr b="0" lang="en-US" sz="36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s un contrato en que una de las partes se obliga a dar una cosa y la otra a pagarla en dinero” (art. 1793 del CC). La compraventa es un contrato bilateral, oneroso, principal, regularmente conmutativo (siendo aleatorio, por ejemplo, la compraventa de cosas que no existen, pero se espera que existan. Art. 1813 del CC) y normalmente consensual (salvo cuando exige solemnidades. Por ej. La compraventa de bienes raíces exige escritura pública).</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es del vendedo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ntregar la cosa vendida (art. 1824 del C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Saneamiento de la evicción y de los vicios redhibitorios (ocultos). (Art. 1824 y 1837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obligaciones del comprado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Pagar el precio (art. 1871 del 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Recibir la cosa comprada. </a:t>
            </a:r>
            <a:r>
              <a:rPr b="0" lang="en-US" sz="2800" spc="-1" strike="noStrike">
                <a:solidFill>
                  <a:srgbClr val="000000"/>
                </a:solidFill>
                <a:latin typeface="Times New Roman"/>
                <a:ea typeface="Times New Roman"/>
              </a:rPr>
              <a:t>(art. 1827 del C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3. Contrato de Arrendamiento:</a:t>
            </a:r>
            <a:endParaRPr b="0"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s un contrato en que las dos partes se obligan recíprocamente, la una a conceder el goce de una cosa, o a ejecutar una obra o prestar un servicio, y la otra a pagar por este goce, obra o servicio un precio determinado” (art. 1915 del CC). Nuestro CC trata del arrendamiento de cosas, del arrendamiento de criados domésticos (derogado por el Código del Trabajo), de los contratos para la confección de una obra material, del arrendamiento de servicios inmateriales y del arrendamiento de transporte. El arrendamiento, en sus diversas formas, es un contrato consensual (se perfecciona por el solo consentimiento de las partes), bilateral, oneroso, conmutativ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685800" y="1981080"/>
            <a:ext cx="7772400" cy="445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arrendad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ntregar al arrendatario la cosa arrendad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Mantener  la cosa en estado de servir para el fin del arrendamient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Librar al arrendatario de toda turbación en el goce de la cos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b. obligaciones del arrenda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agar el precio o renta (art. 1942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Usar la cosa según los términos o el espítitu del contrato. (Art. 1938)</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idar de la cosa como un buen padre de familia.(art. 1939)</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fectuar las reparaciones locativas (las que tienen por objeto subsanar  aquellos deterioros que son una consecuencia normal del goce que el arrendatario tiene de la cosa.(art. 1940 inciso 2°).</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Restituir la cosa al término del arrendamiento. (art. 1947 CC)</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4. Contrato de Construcción (confección de una obra material)</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Aquel en que las partes se obligan mutuamente, la una a ejecutar una obra material y la otra a pagar por ella un precio determinado. La persona que toma a su cargo la ejecución de la obra se denomina, en general, artífice. El contrato importa compraventa o arrendamiento, según las circunstancias, esto es, “si el artífice suministra la materia pára la confección de la obra, el contrato es de venta” (art. 1996 inciso 1° CC), por el contrario, “si la materia es suministrada por la persona que encargó la obra, el contrato es de arrendamiento” (art. 1996 inc 4 CC).</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	</a:t>
            </a:r>
            <a:r>
              <a:rPr b="1" lang="es-CL" sz="3600" spc="-1" strike="noStrike">
                <a:solidFill>
                  <a:srgbClr val="000000"/>
                </a:solidFill>
                <a:latin typeface="Times New Roman"/>
              </a:rPr>
              <a:t>Abstracta:</a:t>
            </a:r>
            <a:r>
              <a:rPr b="0" lang="es-CL" sz="3600" spc="-1" strike="noStrike">
                <a:solidFill>
                  <a:srgbClr val="000000"/>
                </a:solidFill>
                <a:latin typeface="Times New Roman"/>
              </a:rPr>
              <a:t> </a:t>
            </a:r>
            <a:endParaRPr b="0" lang="en-US" sz="3600" spc="-1" strike="noStrike">
              <a:solidFill>
                <a:srgbClr val="000000"/>
              </a:solidFill>
              <a:latin typeface="Times New Roman"/>
            </a:endParaRPr>
          </a:p>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   </a:t>
            </a:r>
            <a:r>
              <a:rPr b="0" lang="es-CL" sz="3600" spc="-1" strike="noStrike">
                <a:solidFill>
                  <a:srgbClr val="000000"/>
                </a:solidFill>
                <a:latin typeface="Times New Roman"/>
              </a:rPr>
              <a:t>	</a:t>
            </a:r>
            <a:r>
              <a:rPr b="0" lang="es-CL" sz="3600" spc="-1" strike="noStrike">
                <a:solidFill>
                  <a:srgbClr val="000000"/>
                </a:solidFill>
                <a:latin typeface="Times New Roman"/>
              </a:rPr>
              <a:t>No prevén casos concretos, sino situaciones tipo de carácter general.</a:t>
            </a:r>
            <a:endParaRPr b="0" lang="en-US" sz="3600" spc="-1" strike="noStrike">
              <a:solidFill>
                <a:srgbClr val="000000"/>
              </a:solidFill>
              <a:latin typeface="Times New Roman"/>
            </a:endParaRPr>
          </a:p>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a. Obligaciones del artífice:</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Ejecutar la obra fiel y oportunamente (art. 2002 inc 1° CC) </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b. Obligaciones de quien encarga la obr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Pagar el precio (art. 2001 C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Declarar si aprueba o rechaza la obra.</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5. Contrato de Mutuo:</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l mutuo o préstamo de consumo es un contrato en que una de las partes entrega a la otra cierta cantidad de cosas fungibles con cargo de restituir otras tantas del mismo género y calidad” (artículo 2196 del CC). El mutuo es un contrato real (se perfecciona por la tradición de la cosa), unilateral (solo obliga al mutuario), oneroso (obligación de pagar intereses), es un título traslaticio de dominio (sirve para transferir el dominio). </a:t>
            </a:r>
            <a:endParaRPr b="0" lang="en-US" sz="2400" spc="-1" strike="noStrike">
              <a:solidFill>
                <a:srgbClr val="000000"/>
              </a:solidFill>
              <a:latin typeface="Times New Roman"/>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ea typeface="Times New Roman"/>
              </a:rPr>
              <a:t>Efectos</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Obligaciones del mutuario: </a:t>
            </a:r>
            <a:endParaRPr b="0" lang="en-US" sz="2400" spc="-1" strike="noStrike">
              <a:solidFill>
                <a:srgbClr val="000000"/>
              </a:solidFill>
              <a:latin typeface="Times New Roman"/>
            </a:endParaRPr>
          </a:p>
          <a:p>
            <a:pPr marL="318960" indent="-318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Restituir otras tantas cosas del mismo género y calidad de las que recibió en préstamo.</a:t>
            </a:r>
            <a:endParaRPr b="0" lang="en-US" sz="2400" spc="-1" strike="noStrike">
              <a:solidFill>
                <a:srgbClr val="000000"/>
              </a:solidFill>
              <a:latin typeface="Times New Roman"/>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6. Contrato de Mandat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un contrato en que una persona confía la gestión de uno o más negocios a otra, que se hace cargo de ellos por cuenta y riesgo de la primera”. “La persona que confiere el encargo se llama comitente o mandante, y la que lo acepta apoderado, procurador, y en general, mandatario” (art. 2116 del CC). El mandato es un contrato generalmente consensual (salvo por ejemplo, el mandato para la, ejecución de un acto solemne), oneroso y bilateral.</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manda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mplir el encargo. </a:t>
            </a:r>
            <a:r>
              <a:rPr b="0" lang="en-US" sz="2000" spc="-1" strike="noStrike">
                <a:solidFill>
                  <a:srgbClr val="000000"/>
                </a:solidFill>
                <a:latin typeface="Times New Roman"/>
                <a:ea typeface="Times New Roman"/>
              </a:rPr>
              <a:t>(art. 2134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Obligación de rendir cuenta de su administración (art. 2155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del mandante: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mplir las obligaciones contraídas por el mandatario. (art. 2160 inc1)</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roveer al mandatario de lo necesario para cumplir el encargo (art. 2158 N°1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demnizar al mandatario los gastos y perjuicios en que haya incurrido con ocasión del mandato (art. 2158 N°2, 4 Y 5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Remunerar al mandatario (art. 2158 N°3 del CC).</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7. Contrato de Segur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El seguro es un contrato bilateral, condicional y aleatorio por el cual una persona natural o jurídica toma sobre sí por un determinado tiempo todos o alguno de los riesgos de pérdida o deterioro que corren ciertos objetos pertenecientes a otra persona, obligándose, mediante una retribución convenida, a indemnizarle la pérdida o cualquier otro daño estimable que sufran los objetos asegurados” (art 512 del Código de Comercio). La definición anterior es considerada obsoleta por la doctrina por las siguientes razones:</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lude tan solo a los seguros reales (de cosas) exceptuando los seguros de personas y patrimoniales.</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La actividad aseguradora solo la pueden ejercer personas naturales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l contrato no es aleatorio, pues el riesgo del asegurador se cuantifica mediante procedimientos estadísticos.</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un contrato bilateral, solemne, nominado, principal y de adhesión.</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Obligaciones del Asegura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clarar sinceramente las circunstancias de la cosa asegurad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Pagar la pri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Cuidar el objeto asegurado (culpa lev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Salvar las cosas aseguradas o rescatar sus restos (ocurrido el sinies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nunciar el siniestro al asegurado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Obligaciones del Asegurad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Entregar la Poliz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demnizar los dañ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PlaceHolder 2"/>
          <p:cNvSpPr>
            <a:spLocks noGrp="1"/>
          </p:cNvSpPr>
          <p:nvPr>
            <p:ph type="title"/>
          </p:nvPr>
        </p:nvSpPr>
        <p:spPr>
          <a:xfrm>
            <a:off x="685800" y="30492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Efectos:</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219320" y="1980720"/>
            <a:ext cx="6400800" cy="29718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dddddd"/>
                </a:solidFill>
                <a:latin typeface="Times New Roman"/>
                <a:ea typeface="Times New Roman"/>
              </a:rPr>
              <a:t>IV. CONTRATACIÓN COMERCIAL MODERNA</a:t>
            </a:r>
            <a:r>
              <a:rPr b="0" lang="es-ES" sz="4400" spc="-1" strike="noStrike">
                <a:solidFill>
                  <a:srgbClr val="dddddd"/>
                </a:solidFill>
                <a:latin typeface="Times New Roman"/>
              </a:rPr>
              <a:t> </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1. Contrato de Leas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tituye un sistema de financiamiento de bienes de capital o de inmuebles a largo plazo. “El leasing es un contrato en virtud del cual una de las partes, denominada empresa de leasing, adquiere a solicitud de la otra, denominada arrendatario ( o usuario), bienes de capital para uso de este último, a cambio de pagos que recibirá, por un plazo determinado, pudiendo el arrendatario ejercer al fin del periodo una opción de compra”.(Circular N°239 de la Superintendencia de Bancos e instituciones financieras, de 9 de Septiembre de 1988). Por lo tanto, al implicar el contrato de leasing una cesión del uso del bien con opción de compra del mismo, suele finalizar la operación con el contrato de compraventa entre la empresa de leasing y el usuario del equip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2. Contrato de Franchis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octrina nacional ha conceptualizado el franchising como “un contrato por el cual un fabricante o prestador de servicios llamado franchisor (franquiciante) da a un comerciante independiente llamado franchisee (franquiciado), el derecho a explotar o a comercializar una marca sobre un determinado producto o servicio comprometiéndose, además, a asistirlo en la organización, en la comercialización, etc. mediante el pago de un precio”.  </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ea typeface="Times New Roman"/>
              </a:rPr>
              <a:t>Características:</a:t>
            </a:r>
            <a:endParaRPr b="0" lang="en-US" sz="2000" spc="-1" strike="noStrike">
              <a:solidFill>
                <a:srgbClr val="000000"/>
              </a:solidFill>
              <a:latin typeface="Times New Roman"/>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Bilateral</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Oneroso</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De tracto sucesivo.</a:t>
            </a: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Intuito persona.</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dddddd"/>
                </a:solidFill>
                <a:uFillTx/>
                <a:latin typeface="Times New Roman"/>
                <a:ea typeface="Times New Roman"/>
              </a:rPr>
              <a:t>Efectos del Contrato</a:t>
            </a:r>
            <a:r>
              <a:rPr b="1" lang="es-CL" sz="4400" spc="-1" strike="noStrike">
                <a:solidFill>
                  <a:srgbClr val="dddddd"/>
                </a:solidFill>
                <a:latin typeface="Times New Roman"/>
                <a:ea typeface="Times New Roman"/>
              </a:rPr>
              <a:t>: </a:t>
            </a:r>
            <a:br>
              <a:rPr sz="4400"/>
            </a:br>
            <a:endParaRPr b="0" lang="en-US" sz="4400" spc="-1" strike="noStrike">
              <a:solidFill>
                <a:srgbClr val="000000"/>
              </a:solidFill>
              <a:latin typeface="Times New Roman"/>
            </a:endParaRPr>
          </a:p>
        </p:txBody>
      </p:sp>
      <p:sp>
        <p:nvSpPr>
          <p:cNvPr id="311" name="PlaceHolder 2"/>
          <p:cNvSpPr>
            <a:spLocks noGrp="1"/>
          </p:cNvSpPr>
          <p:nvPr>
            <p:ph/>
          </p:nvPr>
        </p:nvSpPr>
        <p:spPr>
          <a:xfrm>
            <a:off x="533520" y="1905120"/>
            <a:ext cx="7772400" cy="1939680"/>
          </a:xfrm>
          <a:prstGeom prst="rect">
            <a:avLst/>
          </a:prstGeom>
          <a:noFill/>
          <a:ln w="0">
            <a:noFill/>
          </a:ln>
        </p:spPr>
        <p:txBody>
          <a:bodyPr lIns="90000" rIns="90000" tIns="46800" bIns="46800" anchor="t">
            <a:normAutofit fontScale="36000"/>
          </a:bodyPr>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Derecho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ago de royalty(pago inicial) y regalías (pagos periódicos posteriores: Por parte del franquiciado.</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Establececer directrices financieras y administrativa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Obligacione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ermitir al franquiciado el uso de marcas, know how, logos, etc.</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Prestar permanentemente al franquiciado asistencia relativa a la explotación del negocio ( por ej. capacitación de personal).</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 </a:t>
            </a:r>
            <a:r>
              <a:rPr b="1" lang="es-CL" sz="1800" spc="-1" strike="noStrike">
                <a:solidFill>
                  <a:srgbClr val="000000"/>
                </a:solidFill>
                <a:latin typeface="Times New Roman"/>
                <a:ea typeface="Times New Roman"/>
              </a:rPr>
              <a:t>Franquiciado</a:t>
            </a: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u="sng">
                <a:solidFill>
                  <a:srgbClr val="000000"/>
                </a:solidFill>
                <a:uFillTx/>
                <a:latin typeface="Times New Roman"/>
                <a:ea typeface="Times New Roman"/>
              </a:rPr>
              <a:t>Derecho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000000"/>
                </a:solidFill>
                <a:latin typeface="Times New Roman"/>
                <a:ea typeface="Times New Roman"/>
              </a:rPr>
              <a:t>b. Derecho a recibir ayuda y servicios regulares del franquiciante y al uso de marcas, Know How del 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Times New Roman"/>
                <a:ea typeface="Times New Roman"/>
              </a:rPr>
              <a:t>Obligaciones</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 Pagar royalty</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 Cumplir directrices ordenadas por el franquiciante</a:t>
            </a: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3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23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General:</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Se dirigen a todos las personas que, durante el tiempo de su vigencia, incurran en la o las hipótesis por ellas prevista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3. Contrato de Factoring</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trata de una actividad financiera y de colaboración, mediante la cual, </a:t>
            </a:r>
            <a:r>
              <a:rPr b="0" lang="es-CL" sz="2400" spc="-1" strike="noStrike" u="sng">
                <a:solidFill>
                  <a:srgbClr val="000000"/>
                </a:solidFill>
                <a:uFillTx/>
                <a:latin typeface="Times New Roman"/>
                <a:ea typeface="Times New Roman"/>
              </a:rPr>
              <a:t>la empresa de factoring</a:t>
            </a:r>
            <a:r>
              <a:rPr b="0" lang="es-CL" sz="2400" spc="-1" strike="noStrike">
                <a:solidFill>
                  <a:srgbClr val="000000"/>
                </a:solidFill>
                <a:latin typeface="Times New Roman"/>
                <a:ea typeface="Times New Roman"/>
              </a:rPr>
              <a:t> adquiere los créditos de que son titulares </a:t>
            </a:r>
            <a:r>
              <a:rPr b="0" lang="es-CL" sz="2400" spc="-1" strike="noStrike" u="sng">
                <a:solidFill>
                  <a:srgbClr val="000000"/>
                </a:solidFill>
                <a:uFillTx/>
                <a:latin typeface="Times New Roman"/>
                <a:ea typeface="Times New Roman"/>
              </a:rPr>
              <a:t>los comerciantes</a:t>
            </a:r>
            <a:r>
              <a:rPr b="0" lang="es-CL" sz="2400" spc="-1" strike="noStrike">
                <a:solidFill>
                  <a:srgbClr val="000000"/>
                </a:solidFill>
                <a:latin typeface="Times New Roman"/>
                <a:ea typeface="Times New Roman"/>
              </a:rPr>
              <a:t> en contra de sus </a:t>
            </a:r>
            <a:r>
              <a:rPr b="0" lang="es-CL" sz="2400" spc="-1" strike="noStrike" u="sng">
                <a:solidFill>
                  <a:srgbClr val="000000"/>
                </a:solidFill>
                <a:uFillTx/>
                <a:latin typeface="Times New Roman"/>
                <a:ea typeface="Times New Roman"/>
              </a:rPr>
              <a:t>clientes</a:t>
            </a:r>
            <a:r>
              <a:rPr b="0" lang="es-CL" sz="2400" spc="-1" strike="noStrike">
                <a:solidFill>
                  <a:srgbClr val="000000"/>
                </a:solidFill>
                <a:latin typeface="Times New Roman"/>
                <a:ea typeface="Times New Roman"/>
              </a:rPr>
              <a:t>, garantizando el pago de los mismos y presentando además, servicios complementarios de contabilidad, estudios de mercado, etc., a cambio de una retribución, anticipando el valor de tales acreencias con devengo de intereses. En síntesis, el factoring consiste, pues, en la compra de los créditos originados por la venta de mercancías a corto plazo.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4. Colaboración empresarial. Joint Venture:</a:t>
            </a:r>
            <a:endParaRPr b="0" lang="en-US" sz="3600" spc="-1" strike="noStrike">
              <a:solidFill>
                <a:srgbClr val="000000"/>
              </a:solidFill>
              <a:latin typeface="Times New Roman"/>
            </a:endParaRPr>
          </a:p>
        </p:txBody>
      </p:sp>
      <p:sp>
        <p:nvSpPr>
          <p:cNvPr id="315" name="PlaceHolder 2"/>
          <p:cNvSpPr>
            <a:spLocks noGrp="1"/>
          </p:cNvSpPr>
          <p:nvPr>
            <p:ph/>
          </p:nvPr>
        </p:nvSpPr>
        <p:spPr>
          <a:xfrm>
            <a:off x="685800" y="190476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Se ha definido el contrato de joint venture como: una empresa en sentido económico, de propiedad conjunta de los partícipes y que resulta administrada o gerenciada conjuntamente por estos. El contrato de colaboración no reúne estos requisitos, porque no se constituye una empresa y, por lo tanto, tampoco existe un gerenciamiento conjunto”.</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720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esenciales del contrato de Joint Venture:</a:t>
            </a:r>
            <a:br>
              <a:rPr sz="3600"/>
            </a:br>
            <a:endParaRPr b="0" lang="en-US" sz="36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tituyen elementos esenciales de un Joint Venture los siguient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Un negocio determinado o únic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El derecho de un control mutuo o el derecho de quienes lo administran.</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Un aporte conjunto y una comunidad de intereses en dichos bien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La expectativa de obtener un lucr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 El derecho conjunto de participar en las utilidad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Coercitiva:</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n el sentido que admiten la posibilidad del cumplimiento forzoso cuando es necesario y flexibl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he-IL" sz="2800" spc="-1" strike="noStrike">
                <a:solidFill>
                  <a:srgbClr val="000000"/>
                </a:solidFill>
                <a:latin typeface="Times New Roman"/>
                <a:ea typeface="Times New Roman"/>
              </a:rPr>
              <a:t>Carácter estatal:</a:t>
            </a:r>
            <a:r>
              <a:rPr b="0" lang="he-I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dos significado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990720" indent="-533520" algn="just">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El estado crea o reconoce las normas jurídicas</a:t>
            </a:r>
            <a:r>
              <a:rPr b="0" lang="es-MX"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lvl="1" marL="990720" indent="-533520" algn="just">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la garantía que confiere el Estado a la observancia y respeto del ordenamiento jurídico</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6840" y="1218960"/>
            <a:ext cx="8381880" cy="19810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I. Estructura del ordenamiento jurídico.</a:t>
            </a:r>
            <a:br>
              <a:rPr sz="3600"/>
            </a:b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derecho es uno so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 división es importante para efectos de especialidad y aprendizaj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recho Público</a:t>
            </a:r>
            <a:r>
              <a:rPr b="0" lang="es-MX" sz="2800" spc="-1" strike="noStrike">
                <a:solidFill>
                  <a:srgbClr val="000000"/>
                </a:solidFill>
                <a:latin typeface="Times New Roman"/>
              </a:rPr>
              <a:t>: Conjunto de normas que miran un interés colectivo, regulan la organización y actividad del Estado y demas entes públicos menores. Sus relaciones entre sí o con los particulares, actuando el Estado o dichos entes en cuanto sujetos dotados de poder soberano o público.</a:t>
            </a:r>
            <a:endParaRPr b="0" lang="en-US" sz="2800" spc="-1" strike="noStrike">
              <a:solidFill>
                <a:srgbClr val="000000"/>
              </a:solidFill>
              <a:latin typeface="Times New Roman"/>
            </a:endParaRPr>
          </a:p>
        </p:txBody>
      </p:sp>
      <p:sp>
        <p:nvSpPr>
          <p:cNvPr id="7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371600" y="20574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dddddd"/>
                </a:solidFill>
                <a:latin typeface="Times New Roman"/>
              </a:rPr>
              <a:t>INTRODUCCIÓN AL DERECHO</a:t>
            </a: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recho Privado</a:t>
            </a:r>
            <a:r>
              <a:rPr b="0" lang="es-MX" sz="2800" spc="-1" strike="noStrike">
                <a:solidFill>
                  <a:srgbClr val="000000"/>
                </a:solidFill>
                <a:latin typeface="Times New Roman"/>
              </a:rPr>
              <a:t>: es el conjunto de normas que, consideran un preponderante interés individual, regulan las relaciones de los particulares entre sí o la de éstos con el Estado o los demás entes politicos o soberano, sino como si fueran particulares, o, las relaciones de estos entes políticos entre sí en cuanto obran como si fueran particulares.</a:t>
            </a:r>
            <a:endParaRPr b="0" lang="en-US" sz="2800" spc="-1" strike="noStrike">
              <a:solidFill>
                <a:srgbClr val="000000"/>
              </a:solidFill>
              <a:latin typeface="Times New Roman"/>
            </a:endParaRPr>
          </a:p>
        </p:txBody>
      </p:sp>
      <p:sp>
        <p:nvSpPr>
          <p:cNvPr id="7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ivisión del Derech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II.1 Las fuentes del derecho.</a:t>
            </a:r>
            <a:br>
              <a:rPr sz="3600"/>
            </a:b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s fuentes del Derecho, según su clasificación tradicional son:</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ley</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Costumbr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Jurisprudenc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Doctrin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 La Constitución</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Es la ley fundamental del ordenamiento jurídico, la cual fija las normas básicas de la estructura política y jurídica y la que reconoce los derechos esenciales de la persona humana. Toda otra ley debe confrontarse a ella tanto en la forma como en el fondo.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La le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l artículo 1° del  CC define la ley como “una declaración de la voluntad soberana que, manifestada en la forma prescrita por la Constitución, manda, prohíbe o permi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ea typeface="Times New Roman"/>
              </a:rPr>
              <a:t>b. Leyes Orgánicas Constitucionales</a:t>
            </a:r>
            <a:r>
              <a:rPr b="0" lang="es-CL" sz="1600" spc="-1" strike="noStrike">
                <a:solidFill>
                  <a:srgbClr val="000000"/>
                </a:solidFill>
                <a:latin typeface="Verdana"/>
                <a:ea typeface="Times New Roman"/>
              </a:rPr>
              <a:t>: Regulan determinadas materias que la Constitución contempla. Requieren para su aprobación de los cuatro séptimos de los diputados y senadores en ejercicio.</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0000"/>
                </a:solidFill>
                <a:uFillTx/>
                <a:latin typeface="Verdana"/>
                <a:ea typeface="Times New Roman"/>
              </a:rPr>
              <a:t>c</a:t>
            </a:r>
            <a:r>
              <a:rPr b="1" lang="es-CL" sz="1600" spc="-1" strike="noStrike">
                <a:solidFill>
                  <a:srgbClr val="000000"/>
                </a:solidFill>
                <a:latin typeface="Verdana"/>
                <a:ea typeface="Times New Roman"/>
              </a:rPr>
              <a:t>. Leyes Interpretativas de la Constitución</a:t>
            </a:r>
            <a:r>
              <a:rPr b="0" lang="es-CL" sz="1600" spc="-1" strike="noStrike">
                <a:solidFill>
                  <a:srgbClr val="000000"/>
                </a:solidFill>
                <a:latin typeface="Verdana"/>
                <a:ea typeface="Times New Roman"/>
              </a:rPr>
              <a:t>: Deben ser aprobadas, modificadas o derogadas por los tres quintos de los diputados y senadores en ejercicio.</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ea typeface="Times New Roman"/>
              </a:rPr>
              <a:t>d. Leyes de Quórum Calificado</a:t>
            </a:r>
            <a:r>
              <a:rPr b="0" lang="es-CL" sz="1600" spc="-1" strike="noStrike" u="sng">
                <a:solidFill>
                  <a:srgbClr val="000000"/>
                </a:solidFill>
                <a:uFillTx/>
                <a:latin typeface="Verdana"/>
                <a:ea typeface="Times New Roman"/>
              </a:rPr>
              <a:t>:</a:t>
            </a:r>
            <a:r>
              <a:rPr b="0" lang="es-CL" sz="1600" spc="-1" strike="noStrike">
                <a:solidFill>
                  <a:srgbClr val="000000"/>
                </a:solidFill>
                <a:latin typeface="Verdana"/>
                <a:ea typeface="Times New Roman"/>
              </a:rPr>
              <a:t> Requieren para su aprobación de un quórum  de la mayoría absoluta (la mitad mas uno) de los diputados y senadores en ejercicio.</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066680" y="3123720"/>
            <a:ext cx="7467840" cy="175284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Leyes comunes:</a:t>
            </a:r>
            <a:r>
              <a:rPr b="0" lang="es-CL" sz="2800" spc="-1" strike="noStrike">
                <a:solidFill>
                  <a:srgbClr val="000000"/>
                </a:solidFill>
                <a:latin typeface="Times New Roman"/>
                <a:ea typeface="Times New Roman"/>
              </a:rPr>
              <a:t> Requieren para su aprobación de la mayoría absoluta de los diputados y senadores presentes.</a:t>
            </a:r>
            <a:br>
              <a:rPr sz="2800"/>
            </a:br>
            <a:endParaRPr b="0" lang="en-US" sz="2800" spc="-1" strike="noStrike">
              <a:solidFill>
                <a:srgbClr val="000000"/>
              </a:solidFill>
              <a:latin typeface="Times New Roman"/>
            </a:endParaRPr>
          </a:p>
        </p:txBody>
      </p:sp>
      <p:sp>
        <p:nvSpPr>
          <p:cNvPr id="87" name="PlaceHolder 2"/>
          <p:cNvSpPr>
            <a:spLocks noGrp="1"/>
          </p:cNvSpPr>
          <p:nvPr>
            <p:ph type="title"/>
          </p:nvPr>
        </p:nvSpPr>
        <p:spPr>
          <a:xfrm>
            <a:off x="838080" y="609480"/>
            <a:ext cx="7772400" cy="152424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Legislación irregular</a:t>
            </a:r>
            <a:r>
              <a:rPr b="0" lang="es-MX"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cretos Leyes (DL):</a:t>
            </a:r>
            <a:r>
              <a:rPr b="0" lang="es-CL" sz="2400" spc="-1" strike="noStrike">
                <a:solidFill>
                  <a:srgbClr val="000000"/>
                </a:solidFill>
                <a:latin typeface="Times New Roman"/>
                <a:ea typeface="Times New Roman"/>
              </a:rPr>
              <a:t> Dictados en situaciones de quiebre institucional.</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cretos con Fuerza de Ley (DFL</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Es el ejercido por el presidente de la República de su potestad extendida a materias propias de ley por delegación de facultades que le hace el poder legislativo.</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demás dentro de la fuente ley encontramos los tratados internacionales ratificados por Chile y los contratos validamente celebrados (ley para los contratantes). </a:t>
            </a:r>
            <a:endParaRPr b="0" lang="en-US" sz="2800" spc="-1" strike="noStrike">
              <a:solidFill>
                <a:srgbClr val="000000"/>
              </a:solidFill>
              <a:latin typeface="Times New Roman"/>
            </a:endParaRPr>
          </a:p>
        </p:txBody>
      </p:sp>
      <p:sp>
        <p:nvSpPr>
          <p:cNvPr id="91"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Fuentes del derecho  </a:t>
            </a:r>
            <a:br>
              <a:rPr sz="3600"/>
            </a:br>
            <a:r>
              <a:rPr b="0" lang="es-MX" sz="3600" spc="-1" strike="noStrike">
                <a:solidFill>
                  <a:srgbClr val="dddddd"/>
                </a:solidFill>
                <a:latin typeface="Times New Roman"/>
              </a:rPr>
              <a:t>L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dddddd"/>
                </a:solidFill>
                <a:latin typeface="Times New Roman"/>
              </a:rPr>
              <a:t>Conocimiento de la Ley</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l Codigo Civil consagra la ficción de conocimiento de la l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 8 CC “Nadie podrá alegar ignorancia de la ley después de que ésta haya entrado en vigenc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2. La Costumbre.</a:t>
            </a:r>
            <a:br>
              <a:rPr sz="3600"/>
            </a:b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ff"/>
                </a:solidFill>
                <a:latin typeface="Verdana"/>
                <a:ea typeface="Times New Roman"/>
              </a:rPr>
              <a:t>Definicion:</a:t>
            </a:r>
            <a:r>
              <a:rPr b="0" lang="es-CL" sz="1800" spc="-1" strike="noStrike">
                <a:solidFill>
                  <a:srgbClr val="000000"/>
                </a:solidFill>
                <a:latin typeface="Verdana"/>
                <a:ea typeface="Times New Roman"/>
              </a:rPr>
              <a:t> </a:t>
            </a:r>
            <a:r>
              <a:rPr b="0" lang="es-CL" sz="3200" spc="-1" strike="noStrike">
                <a:solidFill>
                  <a:srgbClr val="000000"/>
                </a:solidFill>
                <a:latin typeface="Verdana"/>
                <a:ea typeface="Times New Roman"/>
              </a:rPr>
              <a:t>la observancia constante y uniforme de una regla de conducta, realizada por la generalidad o gran mayoría de los miembros de una comunidad social con la convicción de que responden a una necesidad jurídica</a:t>
            </a: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dddddd"/>
                </a:solidFill>
                <a:latin typeface="Times New Roman"/>
              </a:rPr>
              <a:t>Contenidos</a:t>
            </a:r>
            <a:endParaRPr b="0" lang="en-US" sz="36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1.    El Derecho. Noción.</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2.    Estructura  del ordenamiento jurídico.</a:t>
            </a:r>
            <a:endParaRPr b="0" lang="en-US" sz="2800" spc="-1" strike="noStrike">
              <a:solidFill>
                <a:srgbClr val="000000"/>
              </a:solidFill>
              <a:latin typeface="Times New Roman"/>
            </a:endParaRPr>
          </a:p>
          <a:p>
            <a:pPr lvl="2" marL="1269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     Fuentes </a:t>
            </a: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b.     Jerarquía</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3.    Supremacía constitucional.</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4.    Interpretación e integración jurídica. </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5.   Sujetos del Derecho. Las personas. </a:t>
            </a:r>
            <a:endParaRPr b="0" lang="en-US" sz="2800" spc="-1" strike="noStrike">
              <a:solidFill>
                <a:srgbClr val="000000"/>
              </a:solidFill>
              <a:latin typeface="Times New Roman"/>
            </a:endParaRPr>
          </a:p>
          <a:p>
            <a:pPr marL="447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6.    Derechos personales y  reales</a:t>
            </a: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66ff"/>
                </a:solidFill>
                <a:latin typeface="Verdana"/>
                <a:ea typeface="Times New Roman"/>
              </a:rPr>
              <a:t>c.Costumbre según la ley</a:t>
            </a:r>
            <a:r>
              <a:rPr b="0" lang="es-CL" sz="2400" spc="-1" strike="noStrike" u="sng">
                <a:solidFill>
                  <a:srgbClr val="0066ff"/>
                </a:solidFill>
                <a:uFillTx/>
                <a:latin typeface="Verdana"/>
                <a:ea typeface="Times New Roman"/>
              </a:rPr>
              <a:t>:</a:t>
            </a:r>
            <a:r>
              <a:rPr b="0" lang="es-CL" sz="2400" spc="-1" strike="noStrike">
                <a:solidFill>
                  <a:srgbClr val="000000"/>
                </a:solidFill>
                <a:latin typeface="Verdana"/>
                <a:ea typeface="Times New Roman"/>
              </a:rPr>
              <a:t> Adquiere el carácter de norma jurídica en razón de ser llamada por la ley a regir un asunto dado.</a:t>
            </a:r>
            <a:endParaRPr b="0" lang="en-US" sz="24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Verdana"/>
                <a:ea typeface="Times New Roman"/>
              </a:rPr>
              <a:t>El Código Civil reconoce la costumbre según la ley (art. 2 del CC). Sin embargo, nuestro Código de Comercio acepta la costumbre fuera de la ley, al decir que las costumbres mercantiles suplen el silencio de la ley, cuando concurren los requisitos que señala (art. 4 del Código de Comerc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2. La Costumbre.</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Verdana"/>
              </a:rPr>
              <a:t>3. La Jurisprudencia</a:t>
            </a:r>
            <a:br>
              <a:rPr sz="3200"/>
            </a:b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s el conjunto de principios emanados de los fallos o sentencias uniformes de los tribunales de justicia para la interpretación y aplicación de las normas jurídicas.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En Chile, “las sentencias judiciales no tienen fuerza obligatoria sino respecto de las causas en que actualmente se pronunciaren” (art. 3 inciso 2 del C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4. La Doctrina</a:t>
            </a:r>
            <a:br>
              <a:rPr sz="3600"/>
            </a:b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on los estudios de carácter científico que los juristas realizan acerca del derecho, ya sea con el propósito puramente teórico de sistematización de sus preceptos, ya sea con la finalidad de interpretar sus normas y señalar las reglas de su aplicación.</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Decretos: Potestad Reglamentaria</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der que están dotadas las autoridades administrativas para dictar normas juridicas. Mandatos de alcance general e impers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 32 CP</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5238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ea typeface="Times New Roman"/>
              </a:rPr>
              <a:t>II.2 Jerarquía del orden jurídico.</a:t>
            </a:r>
            <a:br>
              <a:rPr sz="3600"/>
            </a:br>
            <a:r>
              <a:rPr b="0" lang="es-CL" sz="3600" spc="-1" strike="noStrike">
                <a:solidFill>
                  <a:srgbClr val="dddddd"/>
                </a:solidFill>
                <a:latin typeface="Times New Roman"/>
                <a:ea typeface="Times New Roman"/>
              </a:rPr>
              <a:t>Fuentes directas.</a:t>
            </a:r>
            <a:br>
              <a:rPr sz="3600"/>
            </a:b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I. LA CONSTITUCIÓN </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II. LA LEY (*)                     1. Leyes Orgánicas Constit.</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2.  Leyes Interpretativas</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3.  Leyes de Quorum C.</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4.  Leyes Comunes.</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III. POTESTAD REGLAMENTARIA.       1. Decreto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reglamentos, Instruccione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circulares  del Pdte. De la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República.</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2. Decretos, reglamentos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dictados por otros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	</a:t>
            </a:r>
            <a:r>
              <a:rPr b="0" lang="es-CL" sz="1600" spc="-1" strike="noStrike">
                <a:solidFill>
                  <a:srgbClr val="000000"/>
                </a:solidFill>
                <a:latin typeface="Verdana"/>
                <a:ea typeface="Times New Roman"/>
              </a:rPr>
              <a:t>órganos</a:t>
            </a:r>
            <a:r>
              <a:rPr b="0" lang="es-CL" sz="1600" spc="-1" strike="noStrike">
                <a:solidFill>
                  <a:srgbClr val="000000"/>
                </a:solidFill>
                <a:latin typeface="Verdana"/>
                <a:ea typeface="Times New Roman"/>
              </a:rPr>
              <a:t>.</a:t>
            </a:r>
            <a:endParaRPr b="0" lang="en-US" sz="1600" spc="-1" strike="noStrike">
              <a:solidFill>
                <a:srgbClr val="000000"/>
              </a:solidFill>
              <a:latin typeface="Times New Roman"/>
            </a:endParaRPr>
          </a:p>
          <a:p>
            <a:pPr marL="335880" indent="-335880" algn="just">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marL="335880" indent="-335880" algn="just">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ea typeface="Times New Roman"/>
              </a:rPr>
              <a:t>(*) Podrían considerarse también los tratados internacionales vigentes en Chile en un rango legal. Sin embargo un sector de la doctrina sostiene que tendrían rango supralegal.</a:t>
            </a:r>
            <a:endParaRPr b="0" lang="en-US" sz="1200" spc="-1" strike="noStrike">
              <a:solidFill>
                <a:srgbClr val="000000"/>
              </a:solidFill>
              <a:latin typeface="Times New Roman"/>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2133720" y="2286000"/>
            <a:ext cx="0" cy="3049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66880" y="2819520"/>
            <a:ext cx="10670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43200" y="2819520"/>
            <a:ext cx="99072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66880" y="2819520"/>
            <a:ext cx="91440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43200" y="2895480"/>
            <a:ext cx="762120" cy="685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33720" y="3048120"/>
            <a:ext cx="0" cy="10666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572000" y="441972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72000" y="4419720"/>
            <a:ext cx="380880" cy="9903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Verdana"/>
                <a:ea typeface="Times New Roman"/>
              </a:rPr>
              <a:t>Fuentes Indirecta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no pueden jerarquizar según su fuerza obligatoria, pues dependen de la eficacia de cada una de ell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COSTUMBR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JURISPRU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Times New Roman"/>
              </a:rPr>
              <a:t>-  LA DOCTRINA</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III. Supremacía Constitucional.</a:t>
            </a:r>
            <a:br>
              <a:rPr sz="3600"/>
            </a:b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343080" indent="-343080" algn="just">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Principio en virtud del cual, la CPE, ocupa la cúspide de la pirámide normativa del Estado, prevaleciendo por sobre el resto de las normas jurídicas.</a:t>
            </a: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1523520"/>
            <a:ext cx="7239240" cy="30481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IV. Interpretación e integración jurídica</a:t>
            </a:r>
            <a:r>
              <a:rPr b="1"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ff"/>
                </a:solidFill>
                <a:latin typeface="Times New Roman"/>
                <a:ea typeface="Times New Roman"/>
              </a:rPr>
              <a:t>Concepto:</a:t>
            </a:r>
            <a:br>
              <a:rPr sz="3600"/>
            </a:br>
            <a:r>
              <a:rPr b="0" lang="es-CL" sz="3600" spc="-1" strike="noStrike">
                <a:solidFill>
                  <a:srgbClr val="000000"/>
                </a:solidFill>
                <a:latin typeface="Times New Roman"/>
                <a:ea typeface="Times New Roman"/>
              </a:rPr>
              <a:t>Es el proceso encaminado a captar y determinar el exacto sentido de una ley</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Que es interpretar</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determinar el sentido y alcance de una norma jurídica”.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685800" y="2285640"/>
            <a:ext cx="7391520" cy="16002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Verdana"/>
                <a:ea typeface="Times New Roman"/>
              </a:rPr>
              <a:t>I.</a:t>
            </a:r>
            <a:r>
              <a:rPr b="1" lang="es-CL" sz="3600" spc="-1" strike="noStrike">
                <a:solidFill>
                  <a:srgbClr val="dddddd"/>
                </a:solidFill>
                <a:latin typeface="Times New Roman"/>
                <a:ea typeface="Times New Roman"/>
              </a:rPr>
              <a:t>   </a:t>
            </a:r>
            <a:r>
              <a:rPr b="1" lang="es-CL" sz="3600" spc="-1" strike="noStrike">
                <a:solidFill>
                  <a:srgbClr val="dddddd"/>
                </a:solidFill>
                <a:latin typeface="Verdana"/>
                <a:ea typeface="Times New Roman"/>
              </a:rPr>
              <a:t>El Derecho</a:t>
            </a:r>
            <a:br>
              <a:rPr sz="3600"/>
            </a:b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CL"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Clasificación de la </a:t>
            </a:r>
            <a:r>
              <a:rPr b="0" lang="es-MX" sz="3600" spc="-1" strike="noStrike">
                <a:solidFill>
                  <a:srgbClr val="dddddd"/>
                </a:solidFill>
                <a:latin typeface="Times New Roman"/>
                <a:ea typeface="Times New Roman"/>
              </a:rPr>
              <a:t>Interpretación</a:t>
            </a:r>
            <a:r>
              <a:rPr b="0" lang="es-CL" sz="3600" spc="-1" strike="noStrike" u="sng">
                <a:solidFill>
                  <a:srgbClr val="dddddd"/>
                </a:solidFill>
                <a:uFillTx/>
                <a:latin typeface="Times New Roman"/>
                <a:ea typeface="Times New Roman"/>
              </a:rPr>
              <a:t> </a:t>
            </a:r>
            <a:br>
              <a:rPr sz="3600"/>
            </a:br>
            <a:r>
              <a:rPr b="0" lang="es-CL" sz="3600" spc="-1" strike="noStrike">
                <a:solidFill>
                  <a:srgbClr val="dddddd"/>
                </a:solidFill>
                <a:latin typeface="Times New Roman"/>
                <a:ea typeface="Times New Roman"/>
              </a:rPr>
              <a:t>A. </a:t>
            </a:r>
            <a:r>
              <a:rPr b="0" lang="es-CL" sz="3600" spc="-1" strike="noStrike">
                <a:solidFill>
                  <a:srgbClr val="dddddd"/>
                </a:solidFill>
                <a:latin typeface="Times New Roman"/>
              </a:rPr>
              <a:t>Interpretación de la ley.</a:t>
            </a:r>
            <a:br>
              <a:rPr sz="3600"/>
            </a:br>
            <a:r>
              <a:rPr b="0"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Consiste en determinar el sentido y alcance de un precepto legal. Atendiendo a dicho sentido, se han propuesto básicamente dos tendencias doctrinarias:</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Tendencia subjetivista</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Para la cual el sentido de la ley es la voluntad o intención del legislador.</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Tendencia objetivista</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Para la cual el sentido de la ley es su finalidad intrínseca con independencia de la voluntad del legislador. Esta última tendencia es la predominante ho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s-CL" sz="3600" spc="-1" strike="noStrike">
                <a:solidFill>
                  <a:srgbClr val="dddddd"/>
                </a:solidFill>
                <a:latin typeface="Times New Roman"/>
                <a:ea typeface="Times New Roman"/>
              </a:rPr>
              <a:t> </a:t>
            </a:r>
            <a:r>
              <a:rPr b="1" lang="es-CL" sz="3600" spc="-1" strike="noStrike">
                <a:solidFill>
                  <a:srgbClr val="dddddd"/>
                </a:solidFill>
                <a:latin typeface="Times New Roman"/>
                <a:ea typeface="Times New Roman"/>
              </a:rPr>
              <a:t>Clasificaci</a:t>
            </a:r>
            <a:r>
              <a:rPr b="0" lang="es-CL" sz="3600" spc="-1" strike="noStrike">
                <a:solidFill>
                  <a:srgbClr val="dddddd"/>
                </a:solidFill>
                <a:latin typeface="Times New Roman"/>
                <a:ea typeface="Times New Roman"/>
              </a:rPr>
              <a:t>ó</a:t>
            </a:r>
            <a:r>
              <a:rPr b="1" lang="es-CL" sz="3600" spc="-1" strike="noStrike">
                <a:solidFill>
                  <a:srgbClr val="dddddd"/>
                </a:solidFill>
                <a:latin typeface="Times New Roman"/>
                <a:ea typeface="Times New Roman"/>
              </a:rPr>
              <a:t>n de la </a:t>
            </a:r>
            <a:r>
              <a:rPr b="1" lang="es-MX" sz="3600" spc="-1" strike="noStrike">
                <a:solidFill>
                  <a:srgbClr val="dddddd"/>
                </a:solidFill>
                <a:latin typeface="Times New Roman"/>
                <a:ea typeface="Times New Roman"/>
              </a:rPr>
              <a:t>Interpretación</a:t>
            </a:r>
            <a:r>
              <a:rPr b="1" lang="es-CL" sz="3600" spc="-1" strike="noStrike" u="sng">
                <a:solidFill>
                  <a:srgbClr val="dddddd"/>
                </a:solidFill>
                <a:uFillTx/>
                <a:latin typeface="Times New Roman"/>
                <a:ea typeface="Times New Roman"/>
              </a:rPr>
              <a:t> </a:t>
            </a:r>
            <a:br>
              <a:rPr sz="3600"/>
            </a:br>
            <a:r>
              <a:rPr b="1" lang="es-CL" sz="3600" spc="-1" strike="noStrike">
                <a:solidFill>
                  <a:srgbClr val="dddddd"/>
                </a:solidFill>
                <a:latin typeface="Times New Roman"/>
                <a:ea typeface="Times New Roman"/>
              </a:rPr>
              <a:t>A. </a:t>
            </a:r>
            <a:r>
              <a:rPr b="1" lang="es-CL" sz="3600" spc="-1" strike="noStrike">
                <a:solidFill>
                  <a:srgbClr val="dddddd"/>
                </a:solidFill>
                <a:latin typeface="Times New Roman"/>
              </a:rPr>
              <a:t>Interpretación de la ley.</a:t>
            </a:r>
            <a:br>
              <a:rPr sz="3600"/>
            </a:br>
            <a:r>
              <a:rPr b="0" lang="es-CL" sz="3600" spc="-1" strike="noStrike">
                <a:solidFill>
                  <a:srgbClr val="dddddd"/>
                </a:solidFill>
                <a:latin typeface="Times New Roman"/>
                <a:ea typeface="Times New Roman"/>
              </a:rPr>
              <a:t> </a:t>
            </a:r>
            <a:br>
              <a:rPr sz="3600"/>
            </a:b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ea typeface="Times New Roman"/>
              </a:rPr>
              <a:t>Interpretación</a:t>
            </a:r>
            <a:r>
              <a:rPr b="0" lang="es-CL" sz="3600" spc="-1" strike="noStrike" u="sng">
                <a:solidFill>
                  <a:srgbClr val="dddddd"/>
                </a:solidFill>
                <a:uFillTx/>
                <a:latin typeface="Times New Roman"/>
                <a:ea typeface="Times New Roman"/>
              </a:rPr>
              <a:t> </a:t>
            </a:r>
            <a:br>
              <a:rPr sz="3600"/>
            </a:b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actividad interpretativa se orienta a captar y determinar la voluntad de la ley, objetivamente manifestada en su texto, y no la del legislado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Una vez elaborada la ley adquiere vida autónoma, se independiza de su creador, y por ende de la voluntad de est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sto “no significa  que la voluntad del legislador no deba considerarse cuando, a través de la historia de la ley, se busca el sentido de ella”.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 </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 </a:t>
            </a:r>
            <a:r>
              <a:rPr b="1" lang="es-MX" sz="2000" spc="-1" strike="noStrike">
                <a:solidFill>
                  <a:srgbClr val="000000"/>
                </a:solidFill>
                <a:latin typeface="Times New Roman"/>
                <a:ea typeface="Times New Roman"/>
              </a:rPr>
              <a:t>el</a:t>
            </a:r>
            <a:r>
              <a:rPr b="1" lang="es-CL" sz="2000" spc="-1" strike="noStrike">
                <a:solidFill>
                  <a:srgbClr val="000000"/>
                </a:solidFill>
                <a:latin typeface="Times New Roman"/>
                <a:ea typeface="Times New Roman"/>
              </a:rPr>
              <a:t>emento Gramatical :</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rt. 19 inciso 1 del CC,: “</a:t>
            </a:r>
            <a:r>
              <a:rPr b="1" lang="es-CL" sz="2000" spc="-1" strike="noStrike">
                <a:solidFill>
                  <a:srgbClr val="000000"/>
                </a:solidFill>
                <a:latin typeface="Times New Roman"/>
                <a:ea typeface="Times New Roman"/>
              </a:rPr>
              <a:t>cuando el sentido de la ley es claro no se desatenderá su tenor literal, a pretexto de consultar su espíritu</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las palabras de la ley se entenderán en su sentido natural y obvio, según el uso general de las mismas palabras; pero cuando el legislador las haya definido expresamente para ciertas materias; se les dará en éstas su significado legal</a:t>
            </a:r>
            <a:r>
              <a:rPr b="0" lang="es-CL" sz="2000" spc="-1" strike="noStrike">
                <a:solidFill>
                  <a:srgbClr val="000000"/>
                </a:solidFill>
                <a:latin typeface="Times New Roman"/>
                <a:ea typeface="Times New Roman"/>
              </a:rPr>
              <a:t>” (Artículo 20 del CC).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upone atender en primer lugar a la definición técnica establecida por el legislador, y a falta de este, se debe entender que el legislador las emplea en su sentido natural y obvio, esto es, según el uso general de las mismas palabras (vgr. Diccionario de la Real Académi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b) </a:t>
            </a:r>
            <a:r>
              <a:rPr b="1" lang="es-CL" sz="2400" spc="-1" strike="noStrike">
                <a:solidFill>
                  <a:srgbClr val="000000"/>
                </a:solidFill>
                <a:latin typeface="Times New Roman"/>
                <a:ea typeface="Times New Roman"/>
              </a:rPr>
              <a:t>Elemento Lógico:</a:t>
            </a:r>
            <a:r>
              <a:rPr b="0" lang="es-CL" sz="2400" spc="-1" strike="noStrike">
                <a:solidFill>
                  <a:srgbClr val="000000"/>
                </a:solidFill>
                <a:latin typeface="Times New Roman"/>
                <a:ea typeface="Times New Roman"/>
              </a:rPr>
              <a:t> Se utiliza cuando una ley contiene expresiones oscuras, poco inteligibles o ambiguas, esto es, susceptibles de entenderse de modos diferentes. Conforme al elemento lógico, las expresiones oscuras pueden aclararse determinando la intención o espíritu de la ley claramente manifestado en ella misma (Art. 19, inciso 2° del CC).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1" lang="es-CL" sz="2400" spc="-1" strike="noStrike">
                <a:solidFill>
                  <a:srgbClr val="000000"/>
                </a:solidFill>
                <a:latin typeface="Times New Roman"/>
                <a:ea typeface="Times New Roman"/>
              </a:rPr>
              <a:t>regla del contexto</a:t>
            </a:r>
            <a:r>
              <a:rPr b="0" lang="es-CL" sz="2400" spc="-1" strike="noStrike">
                <a:solidFill>
                  <a:srgbClr val="000000"/>
                </a:solidFill>
                <a:latin typeface="Times New Roman"/>
                <a:ea typeface="Times New Roman"/>
              </a:rPr>
              <a:t>, criterio recogido por el CC al disponer que “el contexto de la ley servirá para ilustrar el sentido de cada una de sus partes, de manera de que haya entre todas ellas la debida correspondencia y armonía” (Art. 22 inciso 1° CC)..</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emento Historico</a:t>
            </a:r>
            <a:r>
              <a:rPr b="0" lang="es-CL" sz="2800" spc="-1" strike="noStrike">
                <a:solidFill>
                  <a:srgbClr val="000000"/>
                </a:solidFill>
                <a:latin typeface="Times New Roman"/>
                <a:ea typeface="Times New Roman"/>
              </a:rPr>
              <a:t>:  Corresponde a la llamada historia fidedigna de la ley (Artículo 19 inciso 2°, parte final), la cual, se encuentra integrada por las circunstancias existentes a la época de elaborarse el proyecto de ella, el texto del proyecto enviado al Congreso Nacional, el Mensaje del Ejecutivo que lo acompaña, las actas de las comisiones parlamentarias que examinan e informan el proyecto, las explicaciones y discusiones habidas en ambas Cámaras hasta su aprobación.</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Reglas del Código Civil de</a:t>
            </a:r>
            <a:r>
              <a:rPr b="0" lang="es-MX" sz="3600" spc="-1" strike="noStrike">
                <a:solidFill>
                  <a:srgbClr val="dddddd"/>
                </a:solidFill>
                <a:latin typeface="Times New Roman"/>
                <a:ea typeface="Times New Roman"/>
              </a:rPr>
              <a:t> </a:t>
            </a:r>
            <a:r>
              <a:rPr b="0" lang="es-CL" sz="3600" spc="-1" strike="noStrike">
                <a:solidFill>
                  <a:srgbClr val="dddddd"/>
                </a:solidFill>
                <a:latin typeface="Times New Roman"/>
                <a:ea typeface="Times New Roman"/>
              </a:rPr>
              <a:t>interpretación</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 Elemento Sistemátic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os pasajes oscuros de una ley pueden ser ilustrados por medio de otras leyes, particularmente si versan sobre el mismo asunto” (Artículo 22 inciso 2° del CC). :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t>
            </a:r>
            <a:r>
              <a:rPr b="0" lang="es-CL" sz="2400" spc="-1" strike="noStrike">
                <a:solidFill>
                  <a:srgbClr val="000000"/>
                </a:solidFill>
                <a:latin typeface="Times New Roman"/>
                <a:ea typeface="Times New Roman"/>
              </a:rPr>
              <a:t>en los casos  a que no pudieren aplicarse las reglas de interpretación precedentes, se interpretarán los pasajes oscuros o contradictorios del modo que más conforme parezca al espíritu de la legislación y de la equidad natural”  (artículo 24 del CC).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Criterios derivados del elemento sistemático:</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1 Espíritu general de la Legislación</a:t>
            </a:r>
            <a:r>
              <a:rPr b="0" lang="es-CL" sz="2800" spc="-1" strike="noStrike">
                <a:solidFill>
                  <a:srgbClr val="000000"/>
                </a:solidFill>
                <a:latin typeface="Times New Roman"/>
                <a:ea typeface="Times New Roman"/>
              </a:rPr>
              <a:t>: Es el principio o idea central de todas las normas que integran el ordenamiento jurídico.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2 Equidad natural</a:t>
            </a:r>
            <a:r>
              <a:rPr b="0" lang="es-CL" sz="2800" spc="-1" strike="noStrike">
                <a:solidFill>
                  <a:srgbClr val="000000"/>
                </a:solidFill>
                <a:latin typeface="Times New Roman"/>
                <a:ea typeface="Times New Roman"/>
              </a:rPr>
              <a:t>: “Es el sentimiento de lo justo y lo injusto que deriva de la sola naturaleza humana, con prescindencia del derecho positiv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Principio de la Jerarquía</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ea typeface="Times New Roman"/>
              </a:rPr>
              <a:t>    </a:t>
            </a:r>
            <a:r>
              <a:rPr b="1" i="1" lang="es-CL" sz="2400" spc="-1" strike="noStrike">
                <a:solidFill>
                  <a:srgbClr val="000000"/>
                </a:solidFill>
                <a:latin typeface="Times New Roman"/>
                <a:ea typeface="Times New Roman"/>
              </a:rPr>
              <a:t>preeminencia de una norma de rango superior, por sobre una de rango inferior</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así como, las disposiciones contenidas en el texto de la Constitución Política de la República se aplican preferentemente por sobre una ley.</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ncipio de la Especialidad</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Hacer prevalecer las leyes especiales sobre las generales. Su fundamento estriba en el pensamiento de que si el legislador dicta una ley sobre determinada materia es porque desea sustraerla o exceptuarla de la regulación de la ley general. Lo anterior lo encontramos al entender que las disposiciones contenidas en los Códigos de Comercio, de Minería, del Ejercito y Armada, y demás especiales, deben aplicarse con preferencia a las del Código Civil (Artículo 4° CC).</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   El Derecho</a:t>
            </a:r>
            <a:endParaRPr b="0" lang="en-US" sz="3600" spc="-1" strike="noStrike">
              <a:solidFill>
                <a:srgbClr val="000000"/>
              </a:solidFill>
              <a:latin typeface="Times New Roman"/>
            </a:endParaRPr>
          </a:p>
        </p:txBody>
      </p:sp>
      <p:sp>
        <p:nvSpPr>
          <p:cNvPr id="48" name=""/>
          <p:cNvSpPr/>
          <p:nvPr/>
        </p:nvSpPr>
        <p:spPr>
          <a:xfrm>
            <a:off x="304920" y="2895480"/>
            <a:ext cx="838188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ción: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expresión Derecho supone diversas significaciones.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Objetivo= norma</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ubjetivo= poder o facultad</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Principio de determinación de la legislación aplicable</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ncipio de la Temporalidad</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i="1" lang="es-CL" sz="2800" spc="-1" strike="noStrike">
                <a:solidFill>
                  <a:srgbClr val="000000"/>
                </a:solidFill>
                <a:latin typeface="Times New Roman"/>
                <a:ea typeface="Times New Roman"/>
              </a:rPr>
              <a:t>Implica preferir la norma jurídica que ha entrado en vigencia al ordenamiento jurídico de manera posterior a la anterior</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dddddd"/>
                </a:solidFill>
                <a:latin typeface="Times New Roman"/>
              </a:rPr>
              <a:t>B. Integración de la Ley</a:t>
            </a:r>
            <a:br>
              <a:rPr sz="3600"/>
            </a:b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integración de la misma que tiende a llenar sus vacíos o lagunas.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l ordenamiento positivo prevé las llamadas lagunas legales al disponer que reclamada la intervención de los tribunales en forma legal y en negocios de su competencia, no pueden excusarse de ejercer su autoridad  ni aun por falta de ley que resuelva la contienda sometida a su decisión  (C.O.T. Art. 10 inciso 2°).</a:t>
            </a:r>
            <a:endParaRPr b="0" lang="en-US" sz="2800" spc="-1" strike="noStrike">
              <a:solidFill>
                <a:srgbClr val="000000"/>
              </a:solidFill>
              <a:latin typeface="Times New Roman"/>
            </a:endParaRPr>
          </a:p>
          <a:p>
            <a:pPr marL="33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Principios de integración.</a:t>
            </a:r>
            <a:br>
              <a:rPr sz="3600"/>
            </a:b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La equidad</a:t>
            </a:r>
            <a:r>
              <a:rPr b="0" lang="es-CL" sz="1800" spc="-1" strike="noStrike">
                <a:solidFill>
                  <a:srgbClr val="000000"/>
                </a:solidFill>
                <a:latin typeface="Times New Roman"/>
                <a:ea typeface="Times New Roman"/>
              </a:rPr>
              <a:t>: Pues, el CPC dice que en defecto de las leyes las sentencias definitivas deben contener los principios de equidad con arreglo a los cuales se pronuncia el fallo (artículo 170 N°5 del CPC).</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La analogía</a:t>
            </a:r>
            <a:r>
              <a:rPr b="0" lang="es-CL" sz="1800" spc="-1" strike="noStrike">
                <a:solidFill>
                  <a:srgbClr val="000000"/>
                </a:solidFill>
                <a:latin typeface="Times New Roman"/>
                <a:ea typeface="Times New Roman"/>
              </a:rPr>
              <a:t>: Salvo prohibición expresa, por ejemplo en materia penal cuando resulta perjudicial para el reo.</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espíritu general de la legislación</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Times New Roman"/>
                <a:ea typeface="Times New Roman"/>
              </a:rPr>
              <a:t>En conclusión, si dichos elementos están contemplados por nuestro Código Civil para interpretar las leyes oscuras o contradictorias (artículo 22 inciso 2° y 24 del CC) con mayor razón son valederos para solucionar un caso en que no hay ley que lo contemple en su letra ni en su espíritu</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685800"/>
            <a:ext cx="7924680" cy="32004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ddddd"/>
                </a:solidFill>
                <a:latin typeface="Times New Roman"/>
                <a:ea typeface="Times New Roman"/>
              </a:rPr>
              <a:t>V. La relación jurídica. Sujetos del Derecho. Las personas.</a:t>
            </a:r>
            <a:br>
              <a:rPr sz="2800"/>
            </a:b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A. La relación jurídica.</a:t>
            </a:r>
            <a:r>
              <a:rPr b="1"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r relación jurídica se entiende toda relación entre personas regulada por el derecho objetiv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la relación entre el titular de un interés jurídicamente protegido (sujeto activo de la relación) y la persona o personas obligadas a realizar o respetar aquel interés (sujeto pasivo de la relación).</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jemplo: acreedor  y deudor    o   propietarios y miembros de la sociedad.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ujeto activ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s aquel al cual el ordenamiento jurídico reconoce o atribuye el poder (o derecho subjetivo) de obtener la realización de su interés; por ejemplo, el pago de su crédito.</a:t>
            </a: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Sujeto pasivo</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s aquel a cuyo cargo esta el deber de realizar el interés del sujeto activ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jemplo; pagar el crédito. </a:t>
            </a:r>
            <a:br>
              <a:rPr sz="2800"/>
            </a:b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B. Sujetos del Derecho.</a:t>
            </a:r>
            <a:br>
              <a:rPr sz="3600"/>
            </a:b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Toda relación jurídica supone, a lo menos, dos sujetos, uno </a:t>
            </a:r>
            <a:r>
              <a:rPr b="1" lang="es-CL" sz="2400" spc="-1" strike="noStrike">
                <a:solidFill>
                  <a:srgbClr val="000000"/>
                </a:solidFill>
                <a:latin typeface="Times New Roman"/>
                <a:ea typeface="Times New Roman"/>
              </a:rPr>
              <a:t>activo</a:t>
            </a:r>
            <a:r>
              <a:rPr b="0" lang="es-CL" sz="2400" spc="-1" strike="noStrike">
                <a:solidFill>
                  <a:srgbClr val="000000"/>
                </a:solidFill>
                <a:latin typeface="Times New Roman"/>
                <a:ea typeface="Times New Roman"/>
              </a:rPr>
              <a:t>, titular de un poder o derecho, y </a:t>
            </a:r>
            <a:r>
              <a:rPr b="1" lang="es-CL" sz="2400" spc="-1" strike="noStrike">
                <a:solidFill>
                  <a:srgbClr val="000000"/>
                </a:solidFill>
                <a:latin typeface="Times New Roman"/>
                <a:ea typeface="Times New Roman"/>
              </a:rPr>
              <a:t>otro pasivo</a:t>
            </a:r>
            <a:r>
              <a:rPr b="0" lang="es-CL" sz="2400" spc="-1" strike="noStrike">
                <a:solidFill>
                  <a:srgbClr val="000000"/>
                </a:solidFill>
                <a:latin typeface="Times New Roman"/>
                <a:ea typeface="Times New Roman"/>
              </a:rPr>
              <a:t>, titular de un deber u obligación denominados sujetos de una relación jurídica.</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ciben el nombre de sujetos de derecho todos los seres que están dotados de capacidad jurídica, llamada también, capacidad de goce, o sea aptitud para tener derechos y obligacion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Son de dos clases:</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rsonas naturales o físicas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ersonas jurídicas o morales.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B. Sujetos del Derecho.</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Personas naturales</a:t>
            </a:r>
            <a:br>
              <a:rPr sz="3600"/>
            </a:b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ódigo Civil en su artículo 55 las conceptualiza como: “todos los individuos de la especie humana, cualquiera que sea su edad, sexo, estirpe o condición”.  La existencia legal de toda persona principia al nacer, esto es, al separarse totalmente de su madre, sin perjuicio de proteger civil y penalmente al que esta por nacer, finalizando su existencia, con la muerte, sea natural (por circunstancias naturales) o presunta (declarada judicialment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a. Derecho objetivo</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Definición: “</a:t>
            </a:r>
            <a:r>
              <a:rPr b="0" lang="es-CL" sz="2800" spc="-1" strike="noStrike">
                <a:solidFill>
                  <a:srgbClr val="000066"/>
                </a:solidFill>
                <a:latin typeface="Times New Roman"/>
                <a:ea typeface="Times New Roman"/>
              </a:rPr>
              <a:t>el conjunto de normas imperativas que, para mantener la convivencia pacífica y ordenada de los hombres en la sociedad, regulan las relaciones de ellos determinadas por esas mismas normas</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 Capacidad de goce: Es la aptitud para ser sujeto de derechos y obligaciones. Se adquiere desde el nacimiento.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confundirse con capacidad de ejercicio o de obrar consistente en la idoneidad del sujeto para ejercitar por sí solo, con su propia voluntad, los derechos subjetivos y contraer obligaciones. Atendiendo lo anterior, podemos decir que un menor de edad que hereda a su padre tendría capacidad de goce al poder adquirir los derechos y obligaciones que tenía su padre; pero, evidentemente no tiene capacidad de ejercicio, pues por sí solo, no puede adquirir derechos y contraer obligaciones (por ejemplo celebrar un contrato de compraventa válid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Nacionalidad</a:t>
            </a:r>
            <a:r>
              <a:rPr b="0" lang="es-CL" sz="2800" spc="-1" strike="noStrike">
                <a:solidFill>
                  <a:srgbClr val="000000"/>
                </a:solidFill>
                <a:latin typeface="Times New Roman"/>
                <a:ea typeface="Times New Roman"/>
              </a:rPr>
              <a:t>: Es el vínculo que liga a una persona a un Estado determinado creando derechos y obligaciones recíproc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El nombre</a:t>
            </a:r>
            <a:r>
              <a:rPr b="0" lang="es-CL" sz="2800" spc="-1" strike="noStrike">
                <a:solidFill>
                  <a:srgbClr val="000000"/>
                </a:solidFill>
                <a:latin typeface="Times New Roman"/>
                <a:ea typeface="Times New Roman"/>
              </a:rPr>
              <a:t>: Es el conjunto de palabras que designa e individualiza a las personas.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ea typeface="Times New Roman"/>
              </a:rPr>
              <a:t>d. Estado Civil:</a:t>
            </a:r>
            <a:r>
              <a:rPr b="0" lang="he-IL" sz="2800" spc="-1" strike="noStrike">
                <a:solidFill>
                  <a:srgbClr val="000000"/>
                </a:solidFill>
                <a:latin typeface="Times New Roman"/>
                <a:ea typeface="Times New Roman"/>
              </a:rPr>
              <a:t> “Es la calidad de un individuo, en cuanto le habilita para ejercer ciertos derechos o contraer ciertas obligaciones civiles (art. 304). El estado civil da origen a derechos y obligaciones. Así, el estado civil de casado, trae derechos y deberes entre los conyuges; el de padre, obligaciones y derechos recíprocos, como el de alimentos, etc.</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El domicilio</a:t>
            </a:r>
            <a:r>
              <a:rPr b="0" lang="es-CL" sz="2800" spc="-1" strike="noStrike">
                <a:solidFill>
                  <a:srgbClr val="000000"/>
                </a:solidFill>
                <a:latin typeface="Times New Roman"/>
                <a:ea typeface="Times New Roman"/>
              </a:rPr>
              <a:t>: Consiste en la residencia, acompañada, real o presuntivamente, del ánimo de permanecer en ella (art. 59 inciso 1° CC). El concepto anterior, supone dos elementos: uno material, físico: la residencia (lugar en que se reside o establece la persona); el otro subjetivo, psicológico: el animo de permanecer en la residenci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71"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f. El patrimonio</a:t>
            </a:r>
            <a:r>
              <a:rPr b="0" lang="es-CL" sz="2800" spc="-1" strike="noStrike">
                <a:solidFill>
                  <a:srgbClr val="000000"/>
                </a:solidFill>
                <a:latin typeface="Times New Roman"/>
                <a:ea typeface="Times New Roman"/>
              </a:rPr>
              <a:t>: Es el conjunto de derechos y obligaciones de una persona avaluables en dinero. Es decir, los derechos y obligaciones que pueden apreciarse económicamente, caso contrario, se habla de derechos y obligaciones extrapatrimoniales (ej. Derecho a la vid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05704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dddddd"/>
                </a:solidFill>
                <a:latin typeface="Times New Roman"/>
                <a:ea typeface="Times New Roman"/>
              </a:rPr>
              <a:t>Las personas jurídica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persona jurídica es un ente abstracto constituido por un grupo de personas organizadas unitariamente para el logro de un fin común (sociedad, corporación) o un patrimonio afectado a un fin (fundación), y al cual grupo o al cual patrimonio la ley le reconoce la calidad de sujetos de derechos.</a:t>
            </a:r>
            <a:endParaRPr b="0" lang="en-US" sz="2800" spc="-1" strike="noStrike">
              <a:solidFill>
                <a:srgbClr val="000000"/>
              </a:solidFill>
              <a:latin typeface="Times New Roman"/>
            </a:endParaRPr>
          </a:p>
        </p:txBody>
      </p:sp>
      <p:sp>
        <p:nvSpPr>
          <p:cNvPr id="176"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Nuestro Código Civil llama persona jurídica a una persona ficticia, capaz de ejercer derechos y contraer obligaciones civiles y de ser representada judicial y extrajudicialmente (art. 545 del CC).</a:t>
            </a:r>
            <a:endParaRPr b="0" lang="en-US" sz="2800" spc="-1" strike="noStrike">
              <a:solidFill>
                <a:srgbClr val="000000"/>
              </a:solidFill>
              <a:latin typeface="Times New Roman"/>
            </a:endParaRPr>
          </a:p>
        </p:txBody>
      </p:sp>
      <p:sp>
        <p:nvSpPr>
          <p:cNvPr id="178"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Personas juridicas</a:t>
            </a:r>
            <a:br>
              <a:rPr sz="3600"/>
            </a:br>
            <a:r>
              <a:rPr b="0" lang="es-MX" sz="3600" spc="-1" strike="noStrike">
                <a:solidFill>
                  <a:srgbClr val="dddddd"/>
                </a:solidFill>
                <a:latin typeface="Times New Roman"/>
              </a:rPr>
              <a:t> existencia</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a persona jurídica existe en cuanto es reconocida por el ordenamiento jurídico, sea reconocimiento explícito de la autoridad del estado (corporaciones y fundaciones), o bien, bastando con cumplir determinados requisitos preestablecidos por las leyes (sociedades civiles y comerciales). Respecto de la extinción de las personas jurídicas, esta puede ser voluntaria o por disposición de la autoridad.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b. Derecho subjetiv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Definició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0" lang="es-CL" sz="2800" spc="-1" strike="noStrike">
                <a:solidFill>
                  <a:srgbClr val="000000"/>
                </a:solidFill>
                <a:latin typeface="Times New Roman"/>
                <a:ea typeface="Times New Roman"/>
              </a:rPr>
              <a:t>Es el señorío o poder de obrar otorgado o reconocido por el derecho objetivo a la voluntad de la persona para la satisfacción de los propios intereses jurídicamente protegido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1. Personas jurídicas de derecho público</a:t>
            </a:r>
            <a:r>
              <a:rPr b="0" lang="es-CL" sz="2800" spc="-1" strike="noStrike">
                <a:solidFill>
                  <a:srgbClr val="000000"/>
                </a:solidFill>
                <a:latin typeface="Times New Roman"/>
                <a:ea typeface="Times New Roman"/>
              </a:rPr>
              <a:t>: corporaciones y fundaciones de derecho público (nación, el fisco, las municipalidades, iglesias y comunidades religiosas del culto  católico).</a:t>
            </a:r>
            <a:endParaRPr b="0" lang="en-US" sz="2800" spc="-1" strike="noStrike">
              <a:solidFill>
                <a:srgbClr val="000000"/>
              </a:solidFill>
              <a:latin typeface="Times New Roman"/>
            </a:endParaRPr>
          </a:p>
        </p:txBody>
      </p:sp>
      <p:sp>
        <p:nvSpPr>
          <p:cNvPr id="183"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1447920"/>
          </a:xfrm>
          <a:prstGeom prst="rect">
            <a:avLst/>
          </a:prstGeom>
          <a:solidFill>
            <a:srgbClr val="ffff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2.  Personas jurídicas de derecho privad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85"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lasificación:</a:t>
            </a:r>
            <a:br>
              <a:rPr sz="3600"/>
            </a:br>
            <a:r>
              <a:rPr b="0" lang="es-CL" sz="3600" spc="-1" strike="noStrike">
                <a:solidFill>
                  <a:srgbClr val="dddddd"/>
                </a:solidFill>
                <a:latin typeface="Times New Roman"/>
                <a:ea typeface="Times New Roman"/>
              </a:rPr>
              <a:t> Las personas jurídica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2.  Personas jurídicas de derecho privado</a:t>
            </a: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1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 Personas jurídicas que persiguen fines de lucro (el lucro de los individuos que la forman): Sociedad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 Personas Jurídicas que no persiguen fines de lucro (el lucro de los individuos que la forman):</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b.1 </a:t>
            </a:r>
            <a:r>
              <a:rPr b="1" lang="es-CL" sz="2800" spc="-1" strike="noStrike">
                <a:solidFill>
                  <a:srgbClr val="000000"/>
                </a:solidFill>
                <a:latin typeface="Times New Roman"/>
                <a:ea typeface="Times New Roman"/>
              </a:rPr>
              <a:t>Corporación:</a:t>
            </a:r>
            <a:r>
              <a:rPr b="0" lang="es-CL" sz="2800" spc="-1" strike="noStrike">
                <a:solidFill>
                  <a:srgbClr val="000000"/>
                </a:solidFill>
                <a:latin typeface="Times New Roman"/>
                <a:ea typeface="Times New Roman"/>
              </a:rPr>
              <a:t> Conjunto de personas agrupadas de un modo estable para el logro de un fin común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b.2 </a:t>
            </a:r>
            <a:r>
              <a:rPr b="1" lang="es-CL" sz="2800" spc="-1" strike="noStrike">
                <a:solidFill>
                  <a:srgbClr val="000000"/>
                </a:solidFill>
                <a:latin typeface="Times New Roman"/>
                <a:ea typeface="Times New Roman"/>
              </a:rPr>
              <a:t>Fundación</a:t>
            </a:r>
            <a:r>
              <a:rPr b="0" lang="es-CL" sz="2800" spc="-1" strike="noStrike">
                <a:solidFill>
                  <a:srgbClr val="000000"/>
                </a:solidFill>
                <a:latin typeface="Times New Roman"/>
                <a:ea typeface="Times New Roman"/>
              </a:rPr>
              <a:t>: Conjunto de bienes, un patrimonio, destinado por uno o mas individuos a un fin benéfico.</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2"/>
          <p:cNvSpPr>
            <a:spLocks noGrp="1"/>
          </p:cNvSpPr>
          <p:nvPr>
            <p:ph type="title"/>
          </p:nvPr>
        </p:nvSpPr>
        <p:spPr>
          <a:xfrm>
            <a:off x="685800" y="609480"/>
            <a:ext cx="7772400" cy="13716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2.  Personas jurídicas de derecho privado</a:t>
            </a:r>
            <a:r>
              <a:rPr b="0" lang="es-CL" sz="3600" spc="-1" strike="noStrike">
                <a:solidFill>
                  <a:srgbClr val="dddddd"/>
                </a:solidFill>
                <a:latin typeface="Times New Roman"/>
                <a:ea typeface="Times New Roman"/>
              </a:rPr>
              <a:t>: </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133360"/>
            <a:ext cx="7772400" cy="144756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Capacidad.</a:t>
            </a:r>
            <a:r>
              <a:rPr b="0" lang="es-CL" sz="2800" spc="-1" strike="noStrike">
                <a:solidFill>
                  <a:srgbClr val="000000"/>
                </a:solidFill>
                <a:latin typeface="Times New Roman"/>
                <a:ea typeface="Times New Roman"/>
              </a:rPr>
              <a:t> Se refiere a  la capacidad de goce y de ejercicio tratadas anteriormente a propósito de las personas naturales. Sin perjuicio de estar sujeta a restricciones taxativas derivadas de la ley o de sus estatutos (por ejemplo prohibiciones de enajenar determinados bienes).</a:t>
            </a:r>
            <a:endParaRPr b="0" lang="en-US" sz="2800" spc="-1" strike="noStrike">
              <a:solidFill>
                <a:srgbClr val="000000"/>
              </a:solidFill>
              <a:latin typeface="Times New Roman"/>
            </a:endParaRPr>
          </a:p>
        </p:txBody>
      </p:sp>
      <p:sp>
        <p:nvSpPr>
          <p:cNvPr id="192" name="PlaceHolder 2"/>
          <p:cNvSpPr>
            <a:spLocks noGrp="1"/>
          </p:cNvSpPr>
          <p:nvPr>
            <p:ph type="title"/>
          </p:nvPr>
        </p:nvSpPr>
        <p:spPr>
          <a:xfrm>
            <a:off x="53352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El nombre:</a:t>
            </a:r>
            <a:r>
              <a:rPr b="0" lang="es-CL" sz="2800" spc="-1" strike="noStrike">
                <a:solidFill>
                  <a:srgbClr val="000000"/>
                </a:solidFill>
                <a:latin typeface="Times New Roman"/>
                <a:ea typeface="Times New Roman"/>
              </a:rPr>
              <a:t> Generalmente corresponde al objeto que persigue la persona juríd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94" name="PlaceHolder 2"/>
          <p:cNvSpPr>
            <a:spLocks noGrp="1"/>
          </p:cNvSpPr>
          <p:nvPr>
            <p:ph type="title"/>
          </p:nvPr>
        </p:nvSpPr>
        <p:spPr>
          <a:xfrm>
            <a:off x="685800" y="68580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3520" y="2590560"/>
            <a:ext cx="7772400" cy="2438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El domicilio:</a:t>
            </a:r>
            <a:r>
              <a:rPr b="0" lang="es-CL" sz="2800" spc="-1" strike="noStrike">
                <a:solidFill>
                  <a:srgbClr val="000000"/>
                </a:solidFill>
                <a:latin typeface="Times New Roman"/>
                <a:ea typeface="Times New Roman"/>
              </a:rPr>
              <a:t> Tratado a propósito de las personas naturales, quedando fijado en los respectivos estatutos.</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PlaceHolder 2"/>
          <p:cNvSpPr>
            <a:spLocks noGrp="1"/>
          </p:cNvSpPr>
          <p:nvPr>
            <p:ph type="title"/>
          </p:nvPr>
        </p:nvSpPr>
        <p:spPr>
          <a:xfrm>
            <a:off x="60948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d. La nacionalidad</a:t>
            </a:r>
            <a:r>
              <a:rPr b="0" lang="es-CL" sz="2000" spc="-1" strike="noStrike">
                <a:solidFill>
                  <a:srgbClr val="000000"/>
                </a:solidFill>
                <a:latin typeface="Times New Roman"/>
                <a:ea typeface="Times New Roman"/>
              </a:rPr>
              <a:t>: Se han establecido distintos sistemas para su determinación, atendiendo a los siguientes criteri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País en el cuál se constituyó.</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Nacionalidad de la mayoría de sus miembros.</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País en que se encuentra el domicilio de la persona jurídic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ódigo Civil nada establece respecto de la determinación de la nacionalidad de las personas jurídicas, sin perjuicio de lo cual, se aplica el Código de Bustamante (Derecho internacional privado) el cual, dispone que la nacionalidad de las personas jurídicas se determina por la nacionalidad del Estado que las autoriza o aprueba (art. 16 Cód de Bustamante).</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98" name="PlaceHolder 2"/>
          <p:cNvSpPr>
            <a:spLocks noGrp="1"/>
          </p:cNvSpPr>
          <p:nvPr>
            <p:ph type="title"/>
          </p:nvPr>
        </p:nvSpPr>
        <p:spPr>
          <a:xfrm>
            <a:off x="609480" y="45720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r>
              <a:rPr b="0" lang="es-ES" sz="3600" spc="-1" strike="noStrike">
                <a:solidFill>
                  <a:srgbClr val="dddddd"/>
                </a:solidFill>
                <a:latin typeface="Times New Roman"/>
              </a:rPr>
              <a:t> </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inalidad</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mperativ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Heteronomí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ilateralidad</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Abstracta</a:t>
            </a:r>
            <a:r>
              <a:rPr b="0" lang="es-CL" sz="2800" spc="-1" strike="noStrike">
                <a:solidFill>
                  <a:srgbClr val="000000"/>
                </a:solidFill>
                <a:latin typeface="Times New Roman"/>
              </a:rPr>
              <a:t>.</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eneral</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ercitiva</a:t>
            </a:r>
            <a:endParaRPr b="0" lang="en-US" sz="2800" spc="-1" strike="noStrike">
              <a:solidFill>
                <a:srgbClr val="000000"/>
              </a:solidFill>
              <a:latin typeface="Times New Roman"/>
            </a:endParaRPr>
          </a:p>
          <a:p>
            <a:pPr marL="603360" indent="-603360" algn="just">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ea typeface="Times New Roman"/>
              </a:rPr>
              <a:t>Carácter estatal</a:t>
            </a:r>
            <a:endParaRPr b="0" lang="en-US" sz="2800" spc="-1" strike="noStrike">
              <a:solidFill>
                <a:srgbClr val="000000"/>
              </a:solidFill>
              <a:latin typeface="Times New Roman"/>
            </a:endParaRPr>
          </a:p>
          <a:p>
            <a:pPr marL="6033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09480" y="2971800"/>
            <a:ext cx="7772400" cy="23623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 Patrimonio</a:t>
            </a:r>
            <a:r>
              <a:rPr b="0" lang="es-CL" sz="2800" spc="-1" strike="noStrike" u="sng">
                <a:solidFill>
                  <a:srgbClr val="000000"/>
                </a:solidFill>
                <a:uFillTx/>
                <a:latin typeface="Times New Roman"/>
                <a:ea typeface="Times New Roman"/>
              </a:rPr>
              <a:t>:</a:t>
            </a:r>
            <a:r>
              <a:rPr b="0" lang="es-CL" sz="2800" spc="-1" strike="noStrike">
                <a:solidFill>
                  <a:srgbClr val="000000"/>
                </a:solidFill>
                <a:latin typeface="Times New Roman"/>
                <a:ea typeface="Times New Roman"/>
              </a:rPr>
              <a:t> Tienen un patrimonio propio e independiente del de sus miembros o administradores, que les permite alcanzar los fines que justifican su existencia. (arts. 549 y 563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2"/>
          <p:cNvSpPr>
            <a:spLocks noGrp="1"/>
          </p:cNvSpPr>
          <p:nvPr>
            <p:ph type="title"/>
          </p:nvPr>
        </p:nvSpPr>
        <p:spPr>
          <a:xfrm>
            <a:off x="609480" y="609480"/>
            <a:ext cx="7772400" cy="144792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rPr>
              <a:t>Atributos de la Personalidad</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 Objeto</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La entidad sobre la que recae el interés envuelto en la relación: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uede se </a:t>
            </a:r>
            <a:r>
              <a:rPr b="0" i="1" lang="es-CL" sz="2800" spc="-1" strike="noStrike">
                <a:solidFill>
                  <a:srgbClr val="000000"/>
                </a:solidFill>
                <a:latin typeface="Times New Roman"/>
                <a:ea typeface="Times New Roman"/>
              </a:rPr>
              <a:t>bienes materiales o inmateriales, comportamiento o conducta del sujeto pasivo  u otro valor relativo al titular del derech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 Contenido</a:t>
            </a: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s todo aquello que éste permite obtener de su objeto, o, como dicen otros, son las ventajas o utilidades que el derecho faculta recabar de su objeto.</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ontenido actúa a través de hechos materiales o juridico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jemplo; propiedad permite usar gozar y disponer de la cosa que es su objet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PlaceHolder 2"/>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dddddd"/>
                </a:solidFill>
                <a:latin typeface="Times New Roman"/>
                <a:ea typeface="Times New Roman"/>
              </a:rPr>
              <a:t>Elementos de la relación.</a:t>
            </a:r>
            <a:br>
              <a:rPr sz="3600"/>
            </a:b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000000"/>
              </a:solidFill>
              <a:latin typeface="Times New Roman"/>
            </a:endParaRPr>
          </a:p>
        </p:txBody>
      </p:sp>
      <p:sp>
        <p:nvSpPr>
          <p:cNvPr id="206" name="PlaceHolder 2"/>
          <p:cNvSpPr>
            <a:spLocks noGrp="1"/>
          </p:cNvSpPr>
          <p:nvPr>
            <p:ph type="subTitle"/>
          </p:nvPr>
        </p:nvSpPr>
        <p:spPr>
          <a:xfrm>
            <a:off x="380880" y="2133720"/>
            <a:ext cx="830592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dddddd"/>
                </a:solidFill>
                <a:latin typeface="Times New Roman"/>
                <a:ea typeface="Times New Roman"/>
              </a:rPr>
              <a:t>VI. Bienes. Derechos reales y Derechos personales</a:t>
            </a:r>
            <a:r>
              <a:rPr b="1" lang="es-MX"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Bienes.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El Código Civil en su artículo 565 sostiene:</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 </a:t>
            </a:r>
            <a:r>
              <a:rPr b="0" i="1" lang="es-CL" sz="2800" spc="-1" strike="noStrike">
                <a:solidFill>
                  <a:srgbClr val="000000"/>
                </a:solidFill>
                <a:latin typeface="Times New Roman"/>
                <a:ea typeface="Times New Roman"/>
              </a:rPr>
              <a:t>los bienes consisten en cosas corporales y cosas incorporales</a:t>
            </a: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      Cosas corporales</a:t>
            </a:r>
            <a:r>
              <a:rPr b="0" lang="es-CL" sz="2800" spc="-1" strike="noStrike">
                <a:solidFill>
                  <a:srgbClr val="000000"/>
                </a:solidFill>
                <a:latin typeface="Times New Roman"/>
                <a:ea typeface="Times New Roman"/>
              </a:rPr>
              <a:t>: Son las que tienen un ser real y pueden ser percibidas por los sentidos, como una casa, un libr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b.      Cosas incorporales</a:t>
            </a:r>
            <a:r>
              <a:rPr b="0" lang="es-CL" sz="2800" spc="-1" strike="noStrike">
                <a:solidFill>
                  <a:srgbClr val="000000"/>
                </a:solidFill>
                <a:latin typeface="Times New Roman"/>
                <a:ea typeface="Times New Roman"/>
              </a:rPr>
              <a:t>: Son las que consisten en meros derechos, como los créditos y las servidumbres activas. No tienen existencia exterior, pudiendo ser percibidas solo por la inteligenci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s reales y derechos personales</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12" name="PlaceHolder 2"/>
          <p:cNvSpPr>
            <a:spLocks noGrp="1"/>
          </p:cNvSpPr>
          <p:nvPr>
            <p:ph/>
          </p:nvPr>
        </p:nvSpPr>
        <p:spPr>
          <a:xfrm>
            <a:off x="762120" y="2133720"/>
            <a:ext cx="7772400" cy="350496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recho personal</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El Código Civil lo define el derecho personal o crédito como:  “</a:t>
            </a:r>
            <a:r>
              <a:rPr b="0" i="1" lang="es-CL" sz="2400" spc="-1" strike="noStrike">
                <a:solidFill>
                  <a:srgbClr val="000000"/>
                </a:solidFill>
                <a:latin typeface="Times New Roman"/>
                <a:ea typeface="Times New Roman"/>
              </a:rPr>
              <a:t>aquel que puede reclamarse de ciertas personas, que, por un hecho suyo o la sola disposición de la ley, han contraído las obligaciones correlativas; como el que tiene el prestamista contra su deudor por el dinero prestado, o el hijo contra el padre por alimentos prestados</a:t>
            </a:r>
            <a:r>
              <a:rPr b="0" lang="es-CL" sz="2400" spc="-1" strike="noStrike">
                <a:solidFill>
                  <a:srgbClr val="000000"/>
                </a:solidFill>
                <a:latin typeface="Times New Roman"/>
                <a:ea typeface="Times New Roman"/>
              </a:rPr>
              <a:t>”(Art. 578 del CC).</a:t>
            </a:r>
            <a:endParaRPr b="0" lang="en-US" sz="2400" spc="-1" strike="noStrike">
              <a:solidFill>
                <a:srgbClr val="000000"/>
              </a:solidFill>
              <a:latin typeface="Times New Roman"/>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lementos:</a:t>
            </a:r>
            <a:br>
              <a:rPr sz="3600"/>
            </a:b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 Acreedor</a:t>
            </a:r>
            <a:r>
              <a:rPr b="0" lang="es-CL" sz="2400" spc="-1" strike="noStrike">
                <a:solidFill>
                  <a:srgbClr val="000000"/>
                </a:solidFill>
                <a:latin typeface="Times New Roman"/>
              </a:rPr>
              <a:t>: Sujeto activo, titular del derecho de exigir una determinada prest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 Deudor</a:t>
            </a:r>
            <a:r>
              <a:rPr b="0" lang="es-CL" sz="2400" spc="-1" strike="noStrike">
                <a:solidFill>
                  <a:srgbClr val="000000"/>
                </a:solidFill>
                <a:latin typeface="Times New Roman"/>
              </a:rPr>
              <a:t>: Sujeto pasivo, titular de la obligación de procurar al acreedor un beneficio determinado.</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 Objeto</a:t>
            </a:r>
            <a:r>
              <a:rPr b="0" lang="es-CL" sz="2400" spc="-1" strike="noStrike">
                <a:solidFill>
                  <a:srgbClr val="000000"/>
                </a:solidFill>
                <a:latin typeface="Times New Roman"/>
              </a:rPr>
              <a:t>: Que puede consistir en un hecho positivo, como la prestación de una cosa, o en una absten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dddddd"/>
                </a:solidFill>
                <a:latin typeface="Times New Roman"/>
                <a:ea typeface="Times New Roman"/>
              </a:rPr>
              <a:t>Características</a:t>
            </a:r>
            <a:r>
              <a:rPr b="1" lang="es-CL" sz="3600" spc="-1" strike="noStrike">
                <a:solidFill>
                  <a:srgbClr val="dddddd"/>
                </a:solidFill>
                <a:latin typeface="Times New Roman"/>
                <a:ea typeface="Times New Roman"/>
              </a:rPr>
              <a:t>:</a:t>
            </a:r>
            <a:br>
              <a:rPr sz="3600"/>
            </a:b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Existen </a:t>
            </a:r>
            <a:r>
              <a:rPr b="1" i="1" lang="es-CL" sz="2000" spc="-1" strike="noStrike">
                <a:solidFill>
                  <a:srgbClr val="000000"/>
                </a:solidFill>
                <a:latin typeface="Times New Roman"/>
                <a:ea typeface="Times New Roman"/>
              </a:rPr>
              <a:t>tres elementos</a:t>
            </a:r>
            <a:r>
              <a:rPr b="0" lang="es-CL" sz="2000" spc="-1" strike="noStrike">
                <a:solidFill>
                  <a:srgbClr val="000000"/>
                </a:solidFill>
                <a:latin typeface="Times New Roman"/>
                <a:ea typeface="Times New Roman"/>
              </a:rPr>
              <a:t>, el acreedor, el deudor y el objeto.</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La relación entre el titular del derecho personal (acreedor) y la cosa es </a:t>
            </a:r>
            <a:r>
              <a:rPr b="1" i="1" lang="es-CL" sz="2000" spc="-1" strike="noStrike">
                <a:solidFill>
                  <a:srgbClr val="000000"/>
                </a:solidFill>
                <a:latin typeface="Times New Roman"/>
                <a:ea typeface="Times New Roman"/>
              </a:rPr>
              <a:t>indirecta</a:t>
            </a:r>
            <a:r>
              <a:rPr b="0" lang="es-CL" sz="2000" spc="-1" strike="noStrike">
                <a:solidFill>
                  <a:srgbClr val="000000"/>
                </a:solidFill>
                <a:latin typeface="Times New Roman"/>
                <a:ea typeface="Times New Roman"/>
              </a:rPr>
              <a:t>. Es a través del acreedor.</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El objeto de los derechos personales es la </a:t>
            </a:r>
            <a:r>
              <a:rPr b="1" i="1" lang="es-CL" sz="2000" spc="-1" strike="noStrike">
                <a:solidFill>
                  <a:srgbClr val="000000"/>
                </a:solidFill>
                <a:latin typeface="Times New Roman"/>
                <a:ea typeface="Times New Roman"/>
              </a:rPr>
              <a:t>prestación o abstención</a:t>
            </a:r>
            <a:r>
              <a:rPr b="0" lang="es-CL" sz="2000" spc="-1" strike="noStrike">
                <a:solidFill>
                  <a:srgbClr val="000000"/>
                </a:solidFill>
                <a:latin typeface="Times New Roman"/>
                <a:ea typeface="Times New Roman"/>
              </a:rPr>
              <a:t> que debe realizar el deudor. Dicho objeto puede ser de dar, hacer o no hacer algo.</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El derecho personal es </a:t>
            </a:r>
            <a:r>
              <a:rPr b="1" i="1" lang="es-CL" sz="2000" spc="-1" strike="noStrike">
                <a:solidFill>
                  <a:srgbClr val="000000"/>
                </a:solidFill>
                <a:latin typeface="Times New Roman"/>
                <a:ea typeface="Times New Roman"/>
              </a:rPr>
              <a:t>relativo</a:t>
            </a:r>
            <a:r>
              <a:rPr b="0" lang="es-CL" sz="2000" spc="-1" strike="noStrike">
                <a:solidFill>
                  <a:srgbClr val="000000"/>
                </a:solidFill>
                <a:latin typeface="Times New Roman"/>
                <a:ea typeface="Times New Roman"/>
              </a:rPr>
              <a:t>; solo existe respecto de la persona que se haya obligada a la prestación o a la abstención. La acción que nace del derecho personal, acción personal, no podrá ejercerse, llegado el caso, sino contra el deudor, persona determinada previamente, que ha contraído la obligación correlativa al derecho.</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ea typeface="Times New Roman"/>
              </a:rPr>
              <a:t>e). El número de derechos personales es </a:t>
            </a:r>
            <a:r>
              <a:rPr b="1" i="1" lang="he-IL" sz="2000" spc="-1" strike="noStrike">
                <a:solidFill>
                  <a:srgbClr val="000000"/>
                </a:solidFill>
                <a:latin typeface="Times New Roman"/>
                <a:ea typeface="Times New Roman"/>
              </a:rPr>
              <a:t>ilimitado</a:t>
            </a:r>
            <a:r>
              <a:rPr b="0" lang="he-IL" sz="2000" spc="-1" strike="noStrike">
                <a:solidFill>
                  <a:srgbClr val="000000"/>
                </a:solidFill>
                <a:latin typeface="Times New Roman"/>
                <a:ea typeface="Times New Roman"/>
              </a:rPr>
              <a:t>. Hay tantos derechos personales como relaciones jurídicas puedan crearse</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dddddd"/>
                </a:solidFill>
                <a:latin typeface="Times New Roman"/>
                <a:ea typeface="Times New Roman"/>
              </a:rPr>
              <a:t>I.2. Características de las normas jurídica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inalidad</a:t>
            </a:r>
            <a:r>
              <a:rPr b="1" lang="es-CL" sz="2800" spc="-1" strike="noStrike" u="sng">
                <a:solidFill>
                  <a:srgbClr val="000000"/>
                </a:solidFill>
                <a:uFillTx/>
                <a:latin typeface="Times New Roman"/>
              </a:rPr>
              <a:t>:</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fin de las normas jurídicas es mantener el   orden y la paz social.</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 Real</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Código Civil en su artículo 577 inc. 1° lo define como: “el que tenemos sobre una cosa sin respecto a determinada person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lementos</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a. El sujeto activo</a:t>
            </a:r>
            <a:r>
              <a:rPr b="0" lang="es-CL" sz="2000" spc="-1" strike="noStrike" u="sng">
                <a:solidFill>
                  <a:srgbClr val="000000"/>
                </a:solidFill>
                <a:uFillTx/>
                <a:latin typeface="Times New Roman"/>
                <a:ea typeface="Times New Roman"/>
              </a:rPr>
              <a:t>:</a:t>
            </a:r>
            <a:r>
              <a:rPr b="0" lang="es-CL" sz="2000" spc="-1" strike="noStrike">
                <a:solidFill>
                  <a:srgbClr val="000000"/>
                </a:solidFill>
                <a:latin typeface="Times New Roman"/>
                <a:ea typeface="Times New Roman"/>
              </a:rPr>
              <a:t> persona natural o jurídica titular del derech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b. El objeto</a:t>
            </a:r>
            <a:r>
              <a:rPr b="0" lang="es-CL" sz="2000" spc="-1" strike="noStrike">
                <a:solidFill>
                  <a:srgbClr val="000000"/>
                </a:solidFill>
                <a:latin typeface="Times New Roman"/>
                <a:ea typeface="Times New Roman"/>
              </a:rPr>
              <a:t>: La cosa en la cual se ejerce, que puede ser corporal o incorpor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Características:</a:t>
            </a:r>
            <a:br>
              <a:rPr sz="3600"/>
            </a:br>
            <a:endParaRPr b="0" lang="en-US" sz="36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 Dos elementos; el sujeto activo y el objeto del derecho.</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 El titular del derecho real se aprovecha directamente de la cosa objeto del derecho o de la utilidad. </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 El derecho real tiene por objeto una cosa, corporal o incorporal. </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 El derecho real, es absoluto, existe respecto de todos, y las acciones reales, pueden ejercitarse contra cualquier persona que ponga obstáculo al ejercicio del derecho.</a:t>
            </a: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 El número de derechos reales es limitado. No hay otros que los determinados por la ley.</a:t>
            </a:r>
            <a:endParaRPr b="0" lang="en-US" sz="2000" spc="-1" strike="noStrike">
              <a:solidFill>
                <a:srgbClr val="000000"/>
              </a:solidFill>
              <a:latin typeface="Times New Roman"/>
            </a:endParaRPr>
          </a:p>
          <a:p>
            <a:pPr marL="284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Enumeración de los derechos reales</a:t>
            </a:r>
            <a:br>
              <a:rPr sz="3600"/>
            </a:br>
            <a:endParaRPr b="0" lang="en-US" sz="36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El Código Civil declara que son derechos reales el de dominio o propiedad, el de herencia, los de usufructo, uso o habitación, los de servidumbres activas, el de prenda, el de hipoteca y el de censo en cuanto se persigue la finca acensuada (Arts. 577 y 579 del CC).</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Derecho de Dominio (o propiedad)</a:t>
            </a:r>
            <a:br>
              <a:rPr sz="3600"/>
            </a:b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Es el derecho real en una cosa corporal, para gozar y disponer de ella arbitrariamente; no siendo </a:t>
            </a:r>
            <a:r>
              <a:rPr b="1" lang="es-CL" sz="2000" spc="-1" strike="noStrike">
                <a:solidFill>
                  <a:srgbClr val="000000"/>
                </a:solidFill>
                <a:latin typeface="Times New Roman"/>
                <a:ea typeface="Times New Roman"/>
              </a:rPr>
              <a:t>contra la ley o contra derecho ajeno”. </a:t>
            </a:r>
            <a:r>
              <a:rPr b="1" lang="en-US" sz="2000" spc="-1" strike="noStrike">
                <a:solidFill>
                  <a:srgbClr val="000000"/>
                </a:solidFill>
                <a:latin typeface="Times New Roman"/>
                <a:ea typeface="Times New Roman"/>
              </a:rPr>
              <a:t>(art. 582 del CC).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ra dar nacimiento al derecho de dominio, es menester la concurrencia tanto de un título</a:t>
            </a:r>
            <a:r>
              <a:rPr b="0" lang="es-CL" sz="2000" spc="-1" strike="noStrike">
                <a:solidFill>
                  <a:srgbClr val="000000"/>
                </a:solidFill>
                <a:latin typeface="Times New Roman"/>
                <a:ea typeface="Times New Roman"/>
              </a:rPr>
              <a:t> (hecho jurídico que da la posibilidad de adquirir el dominio, por ej. un contrato de compraventa)  </a:t>
            </a:r>
            <a:r>
              <a:rPr b="1" lang="es-CL" sz="2000" spc="-1" strike="noStrike">
                <a:solidFill>
                  <a:srgbClr val="000000"/>
                </a:solidFill>
                <a:latin typeface="Times New Roman"/>
                <a:ea typeface="Times New Roman"/>
              </a:rPr>
              <a:t>como de un modo de adquirir</a:t>
            </a:r>
            <a:r>
              <a:rPr b="0" lang="es-CL" sz="2000" spc="-1" strike="noStrike">
                <a:solidFill>
                  <a:srgbClr val="000000"/>
                </a:solidFill>
                <a:latin typeface="Times New Roman"/>
                <a:ea typeface="Times New Roman"/>
              </a:rPr>
              <a:t> (hechos jurídicos a los que la ley atribuye la facultad de hacer nacer o traspasar el dominio), los cuales procedemos a enunciar y explicar brevement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Modos de Adquirir el dominio</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ocupación</a:t>
            </a:r>
            <a:r>
              <a:rPr b="0" lang="es-CL" sz="2400" spc="-1" strike="noStrike">
                <a:solidFill>
                  <a:srgbClr val="000000"/>
                </a:solidFill>
                <a:latin typeface="Times New Roman"/>
                <a:ea typeface="Times New Roman"/>
              </a:rPr>
              <a:t>: Modo de adquirir el dominio de las cosas que no pertenecen a nadie, mediante su aprehensión material con ánimo de hacerse dueño de ellas (art. 606 del CC).</a:t>
            </a:r>
            <a:endParaRPr b="0" lang="en-US" sz="2400" spc="-1" strike="noStrike">
              <a:solidFill>
                <a:srgbClr val="000000"/>
              </a:solidFill>
              <a:latin typeface="Times New Roman"/>
            </a:endParaRPr>
          </a:p>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accesión</a:t>
            </a:r>
            <a:r>
              <a:rPr b="0" lang="es-CL" sz="2400" spc="-1" strike="noStrike" u="sng">
                <a:solidFill>
                  <a:srgbClr val="000000"/>
                </a:solidFill>
                <a:uFillTx/>
                <a:latin typeface="Times New Roman"/>
                <a:ea typeface="Times New Roman"/>
              </a:rPr>
              <a:t>:</a:t>
            </a:r>
            <a:r>
              <a:rPr b="0" lang="es-CL" sz="2400" spc="-1" strike="noStrike">
                <a:solidFill>
                  <a:srgbClr val="000000"/>
                </a:solidFill>
                <a:latin typeface="Times New Roman"/>
                <a:ea typeface="Times New Roman"/>
              </a:rPr>
              <a:t> Modo de adquirir el dominio por el cual el dueño de una cosa pasa a serlo de lo que ella produce o de lo que se junta a ella (art. 643 del CC).</a:t>
            </a:r>
            <a:endParaRPr b="0" lang="en-US" sz="2400" spc="-1" strike="noStrike">
              <a:solidFill>
                <a:srgbClr val="000000"/>
              </a:solidFill>
              <a:latin typeface="Times New Roman"/>
            </a:endParaRPr>
          </a:p>
          <a:p>
            <a:pPr marL="339480" indent="-3394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La tradición</a:t>
            </a:r>
            <a:r>
              <a:rPr b="0" lang="es-CL" sz="2400" spc="-1" strike="noStrike">
                <a:solidFill>
                  <a:srgbClr val="000000"/>
                </a:solidFill>
                <a:latin typeface="Times New Roman"/>
                <a:ea typeface="Times New Roman"/>
              </a:rPr>
              <a:t>: Modo de adquirir el dominio que consiste en la entrega  que el dueño de ellas hace a otro, habiendo por una parte la facultad e intención de transferir el dominio, y por la otra la capacidad e intención de adquirirlo (art. 670).</a:t>
            </a: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sucesión por causa de muerte</a:t>
            </a:r>
            <a:r>
              <a:rPr b="0" lang="es-CL" sz="2800" spc="-1" strike="noStrike">
                <a:solidFill>
                  <a:srgbClr val="000000"/>
                </a:solidFill>
                <a:latin typeface="Times New Roman"/>
                <a:ea typeface="Times New Roman"/>
              </a:rPr>
              <a:t>: Modo de adquirir el dominio de todo o parte del patrimonio de una persona difunt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prescripción adquisitiva</a:t>
            </a:r>
            <a:r>
              <a:rPr b="0" lang="es-CL" sz="2800" spc="-1" strike="noStrike">
                <a:solidFill>
                  <a:srgbClr val="000000"/>
                </a:solidFill>
                <a:latin typeface="Times New Roman"/>
                <a:ea typeface="Times New Roman"/>
              </a:rPr>
              <a:t>: Modo de adquirir el dominio de las cosas ajenas por haberse poseído dichas cosas durante cierto lapso de tiempo y concurriendo los demás requisitos legales (art. 2492 del C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La ley</a:t>
            </a:r>
            <a:r>
              <a:rPr b="0" lang="es-CL" sz="2800" spc="-1" strike="noStrike">
                <a:solidFill>
                  <a:srgbClr val="000000"/>
                </a:solidFill>
                <a:latin typeface="Times New Roman"/>
                <a:ea typeface="Times New Roman"/>
              </a:rPr>
              <a:t>: Puede operar como un modo de adquirir, por ejemplo, tratándose de una ley expropiatoria.</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
          <p:cNvSpPr/>
          <p:nvPr/>
        </p:nvSpPr>
        <p:spPr>
          <a:xfrm>
            <a:off x="838080" y="762120"/>
            <a:ext cx="7772400" cy="1143000"/>
          </a:xfrm>
          <a:prstGeom prst="rect">
            <a:avLst/>
          </a:prstGeom>
          <a:solidFill>
            <a:srgbClr val="00006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ddddd"/>
                </a:solidFill>
                <a:latin typeface="Times New Roman"/>
              </a:rPr>
              <a:t>Modos de Adquirir el domini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19320" y="2437920"/>
            <a:ext cx="6400800" cy="175284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dddddd"/>
                </a:solidFill>
                <a:latin typeface="Times New Roman"/>
              </a:rPr>
              <a:t>TEORÍA DE LA CONTRATACIÓN</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523880" y="1828800"/>
            <a:ext cx="6400800" cy="175248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t">
            <a:noAutofit/>
          </a:bodyPr>
          <a:p>
            <a:pPr marL="812880" indent="-81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 ASPECTOS GENERALES DE LA CONTRATACIÓN. </a:t>
            </a:r>
            <a:endParaRPr b="0" lang="en-US" sz="3600" spc="-1" strike="noStrike">
              <a:solidFill>
                <a:srgbClr val="000000"/>
              </a:solidFill>
              <a:latin typeface="Times New Roman"/>
            </a:endParaRPr>
          </a:p>
          <a:p>
            <a:pPr marL="812880" indent="-81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ea typeface="Times New Roman"/>
              </a:rPr>
              <a:t>I.1. Noción de Acto jurídico</a:t>
            </a:r>
            <a:r>
              <a:rPr b="0" lang="es-CL" sz="3600" spc="-1" strike="noStrike">
                <a:solidFill>
                  <a:srgbClr val="dddddd"/>
                </a:solidFill>
                <a:latin typeface="Times New Roman"/>
                <a:ea typeface="Times New Roman"/>
              </a:rPr>
              <a:t>:</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s la manifestación de la voluntad realizada con la intención de producir efectos jurídicos. El acto puede ser la manifestación de una sola voluntad o el resultado de un acuerdo de voluntades. En este último caso se denomina convención. Convención es, por tanto, una declaración bilateral de voluntad tendiente a producir determinadas consecuencias de derecho. Pero nuestro estudio se orientará a una clase de convención: aquella que tiene por objeto crear obligaciones. A esta convención generadora de obligaciones se la denomina tradicionalmente contrato.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solidFill>
            <a:srgbClr val="000066"/>
          </a:soli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dddddd"/>
                </a:solidFill>
                <a:latin typeface="Times New Roman"/>
              </a:rPr>
              <a:t>I.2. Actos civiles y mercantiles</a:t>
            </a:r>
            <a:br>
              <a:rPr sz="3600"/>
            </a:br>
            <a:endParaRPr b="0"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esulta de gran importancia distinguir cuando estamos en presencia de un acto civil y cuando frente a un acto de comercio, en atención a la legislación de fondo aplicable, respecto de los efectos de la ley de quiebras, por citar solo algunos. A continuación revisaremos algunos actos de comercio enunciados en el artículo 3° del Código de Comercio. La norma citada dispone que “son actos de comercio, ya de parte de ambos contratantes, ya de parte de uno de ellos:</a:t>
            </a:r>
            <a:endParaRPr b="0" lang="en-US" sz="2000" spc="-1" strike="noStrike">
              <a:solidFill>
                <a:srgbClr val="000000"/>
              </a:solidFill>
              <a:latin typeface="Times New Roman"/>
            </a:endParaRPr>
          </a:p>
          <a:p>
            <a:pPr marL="325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compra y permuta de cosas muebles, hecha con ánimo de venderlas, permutarlas o arrendarlas en la misma forma o en otra distinta, y la venta, permuta o arrendamiento de estas mismas cosas.</a:t>
            </a:r>
            <a:endParaRPr b="0" lang="en-US" sz="2000" spc="-1" strike="noStrike">
              <a:solidFill>
                <a:srgbClr val="000000"/>
              </a:solidFill>
              <a:latin typeface="Times New Roman"/>
            </a:endParaRPr>
          </a:p>
          <a:p>
            <a:pPr marL="325800" indent="-32580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compra de un establecimiento de comercio.</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Times New Roman"/>
                <a:ea typeface="Times New Roman"/>
              </a:rPr>
              <a:t>4° La comisión o mandato comerci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fernandez@stratos.c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21:26:11Z</dcterms:created>
  <dc:creator>Jose Fernandez</dc:creator>
  <dc:description/>
  <dc:language>en-US</dc:language>
  <cp:lastModifiedBy>jose</cp:lastModifiedBy>
  <dcterms:modified xsi:type="dcterms:W3CDTF">2007-07-25T19:34:30Z</dcterms:modified>
  <cp:revision>88</cp:revision>
  <dc:subject/>
  <dc:title>José Fernández</dc:title>
</cp:coreProperties>
</file>