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6B5B-E20F-4C4D-B454-5DA50290C4C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ing returns: There are large initial set up costs when institutions are created the novo (eg. Constitution). There are significant learning effects for organizations that arise in consequence of the opportunity set provided by the institutional framework. The resultant organizations will evolve to take advantage of the opportunities defined by that framework, but as in the case of technology, there is no implication that the skills acquired will result in increased social efficiency. There will be coordination effects directly via contracts with other organizations and indirectly by induced investment through the polity in complementary activities. Even more important, the formal rules will result in the creation of a variety of informal constraints that modify the formal rules and extent them to a variety of specific applications. Adaptive expectations occur because increased prevalence of contracting based on specific institutions will reduce uncertainties about the permanence of that rule. In short, the institutional web of an institutional matrix produces massive increasing returns</a:t>
            </a:r>
            <a:r>
              <a:rPr b="0" lang="es-CL"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With increasing returns, institutions matter and shape the long run path of economies</a:t>
            </a:r>
            <a:r>
              <a:rPr b="0" lang="en-US" sz="1000" spc="-1" strike="noStrike">
                <a:solidFill>
                  <a:srgbClr val="000000"/>
                </a:solidFill>
                <a:latin typeface="Arial"/>
              </a:rPr>
              <a:t>, but as long as the consequent markets are competitive or even roughly approximate the zero-transaction-cost model, the long run path is an efficient one. Given reasonably non-controversial assumptions about preferences, neither divergent paths nor persistently poor performance would prevail. But if the </a:t>
            </a:r>
            <a:r>
              <a:rPr b="1" lang="en-US" sz="1000" spc="-1" strike="noStrike" u="sng">
                <a:solidFill>
                  <a:srgbClr val="000000"/>
                </a:solidFill>
                <a:uFillTx/>
                <a:latin typeface="Arial"/>
              </a:rPr>
              <a:t>markets are incomplete, the information feedback is fragmentary at best, and transaction costs are significant, then the subjective models of actors modified both by very imperfect feedback and by ideology will shape the path</a:t>
            </a:r>
            <a:r>
              <a:rPr b="0" lang="en-US" sz="1000" spc="-1" strike="noStrike">
                <a:solidFill>
                  <a:srgbClr val="000000"/>
                </a:solidFill>
                <a:latin typeface="Arial"/>
              </a:rPr>
              <a:t>. Then, not only can both divergent paths and persistently poor performance prevail, the historically derived perceptions of the actors shape the choices that they make. In a dynamic world characterized by institutional increasing returns, the imperfect and fumbling efforts of the actors reflect the difficulties of deciphering a complex environment with the available mental constructs – ideas, theories and ideologies</a:t>
            </a:r>
            <a:r>
              <a:rPr b="0" lang="es-CL"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 la economía primitiva los costos de transformación eran muy altos porque existía poca especialización e intercambio, pero en contrapartida los de transacción eran ba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ormas de intercamb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mayor parte de la historia económica corresponde a intercambio personalizado con producción de pequeña escala y comercio lo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uego seguiría un modelo de intercambio impersonal, en que las partes estaban restringidas por relaciones de parentesco, bonding, intercambio de rehenes, o códigos mercantiles de conduc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tercera forma de intercambio es impersonal con third-party enfor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2 implican que la base de la teoría debe ser racionalidad procedimental contrariamente a racionalidad instrumental postulada por la teoría económica neoclásic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ultura: transmisión de una generación a otra, a través de enseñanza o imitación, de conocimiento, valores, y otros factores que influencian la conducta humana (Boyd y Richerson, 19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las descienden desde la polity a los derechos de propiedad a los contratos. El set de oportunidades de los actores y las formas de organización que plasmen en contratos específicos se derivan de la estructura de derechos de propieda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imensión más observable del marco institucional que subyace a las restricciones al intercambio son los costos de transacción. </a:t>
            </a:r>
            <a:r>
              <a:rPr b="0" lang="es-ES" sz="1200" spc="-1" strike="noStrike">
                <a:solidFill>
                  <a:srgbClr val="000000"/>
                </a:solidFill>
                <a:latin typeface="Arial"/>
              </a:rPr>
              <a:t>Consisten en costos que van a través del mercado y son mensurables, y costos difícilmente mensurables como: tiempo adquiriendo información; colas; sobornos; así como las pérdidas debidas a “imperfect monitoring &amp; enforc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ficiencia adaptativa, por contraposición a los conceptos estáticos de eficiencia desarrollados por la economía neoclásica. Esta se preocupa de la evolución de una economía en el tiempo, en particular la disposición para adquirir conocimiento, inducir innovación, arriesgar y emprender actividades creativas de todo tipo, resolver problemas y cuellos de botella a través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cepciones subjetivas de los actores están culturalmente determinadas y son continuamente modificadas por la experiencia, que es filtrada a través de modelos mentales (culturalmente determinad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D35CD-C7E6-4EE1-BB0E-E7C3A41E1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30D4F-76D3-4CE9-ACCC-0056FFA1F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8B0A1-870F-42EF-B54D-001B7BD0F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309AF-9EED-4523-9510-370F9C515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BF9D06-8E29-40A0-9E86-CA6035826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E079A-DBF0-42F5-AF97-0C9F3703C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F60BC-A7BD-4024-B380-F53605C9C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19C7C-AA63-4919-B6E0-4C7939E11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D3AD9-1286-4A18-ACC7-3BC38BB66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314DF-1BC7-40E7-B155-422E1C8BA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DCFEF-4F91-4174-8A93-D59F4C693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E3E22-397C-44D1-978C-A1A2EBB38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27833-F5F9-45E3-90D9-EFA514128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2C1BF-9504-4032-A7A6-18E85B364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5E4FC-0F5C-46D9-A838-12981AC37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5A2996-E6A5-46AA-BE9E-6FF018CD3E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CB9E0C-77D2-4E38-BCA1-A0A9622240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03D69-6117-4288-86EC-980597BDB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75D84-AEC6-46F4-8FB6-E84AA3003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91055-3502-4BCD-B9E1-1EADF63E7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8259B-095F-4E8D-B8FB-DDD481BB1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00234-1762-4E28-8578-3FB7E17AC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72A8C-D5B3-4D65-BA48-E51D17165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3FF35-DC75-4C92-9A7C-0EAB8A5AF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9EC6-953B-4167-A4CA-43B86A5C48E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4C6FD-861D-44E9-ACB1-C091AD03C20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ÁLISIS INSTITUCIONAL DE DOUGLASS NORTH</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 anterior produce</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quilibrios múltiple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sibles ineficiencias: una tecnología mejor puede perder por mala suert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ck-in: al ser alcanzada una solución, es difícil salir de ell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th dependence: la consecuencia de pequeños eventos y circunstancias fortuitas puede determinar soluciones que, cuando prevalecen, nos colocan en una determinada trayector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xtiende al cambio institucional, pero con distintas características</a:t>
            </a:r>
            <a:endParaRPr b="0" lang="en-US" sz="40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tornos crecientes (lo que hace que los cuatro mecanismos anteriores opere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rcados imperfectos caracterizados por costos de transacción significativ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ejos para investigación</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uscar costos de transacción y transform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t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CIONES CENTRALES</a:t>
            </a:r>
            <a:endParaRPr b="0" lang="en-US" sz="4400" spc="-1" strike="noStrike">
              <a:solidFill>
                <a:srgbClr val="333399"/>
              </a:solidFill>
              <a:latin typeface="Tahoma"/>
            </a:endParaRPr>
          </a:p>
        </p:txBody>
      </p:sp>
      <p:sp>
        <p:nvSpPr>
          <p:cNvPr id="108" name="PlaceHolder 2"/>
          <p:cNvSpPr>
            <a:spLocks noGrp="1"/>
          </p:cNvSpPr>
          <p:nvPr>
            <p:ph/>
          </p:nvPr>
        </p:nvSpPr>
        <p:spPr>
          <a:xfrm>
            <a:off x="395280" y="1915920"/>
            <a:ext cx="8229600" cy="383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mpo de estudio es la historia económica: </a:t>
            </a:r>
            <a:endParaRPr b="0" lang="en-US" sz="2800" spc="-1" strike="noStrike">
              <a:solidFill>
                <a:srgbClr val="000000"/>
              </a:solidFill>
              <a:latin typeface="Tahoma"/>
            </a:endParaRPr>
          </a:p>
          <a:p>
            <a:pPr lvl="2" marL="1119960" indent="-22392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 preocupación es el </a:t>
            </a:r>
            <a:r>
              <a:rPr b="0" lang="es-CL" sz="2000" spc="-1" strike="noStrike" u="sng">
                <a:solidFill>
                  <a:srgbClr val="000000"/>
                </a:solidFill>
                <a:uFillTx/>
                <a:latin typeface="Tahoma"/>
              </a:rPr>
              <a:t>desempeño de las economías a través del tiempo</a:t>
            </a:r>
            <a:endParaRPr b="0" lang="en-US" sz="20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instituciones son las reglas del juego en una sociedad; las restricciones que los seres humanos han creado y que moldean (shape) las interacciones humanas</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organizaciones son los jugadores del juego: grupos de individuos vinculados por un propósito común para alcanzar un cierto objetiv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oría de las instituciones </a:t>
            </a:r>
            <a:endParaRPr b="0" lang="en-US" sz="4400" spc="-1" strike="noStrike">
              <a:solidFill>
                <a:srgbClr val="333399"/>
              </a:solidFill>
              <a:latin typeface="Tahoma"/>
            </a:endParaRPr>
          </a:p>
        </p:txBody>
      </p:sp>
      <p:sp>
        <p:nvSpPr>
          <p:cNvPr id="110" name="PlaceHolder 2"/>
          <p:cNvSpPr>
            <a:spLocks noGrp="1"/>
          </p:cNvSpPr>
          <p:nvPr>
            <p:ph/>
          </p:nvPr>
        </p:nvSpPr>
        <p:spPr>
          <a:xfrm>
            <a:off x="468360" y="1860480"/>
            <a:ext cx="8229600" cy="46641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e interesa analizar el papel de las instituciones en el desempeño económico</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iva su teoría de las instituciones a partir de:</a:t>
            </a:r>
            <a:endParaRPr b="0" lang="en-US" sz="3200" spc="-1" strike="noStrike">
              <a:solidFill>
                <a:srgbClr val="000000"/>
              </a:solidFill>
              <a:latin typeface="Tahoma"/>
            </a:endParaRPr>
          </a:p>
          <a:p>
            <a:pPr lvl="2" marL="1097280" indent="-21924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teoría del comportamiento humano</a:t>
            </a:r>
            <a:endParaRPr b="0" lang="en-US" sz="2400" spc="-1" strike="noStrike">
              <a:solidFill>
                <a:srgbClr val="000000"/>
              </a:solidFill>
              <a:latin typeface="Tahoma"/>
            </a:endParaRPr>
          </a:p>
          <a:p>
            <a:pPr lvl="2" marL="1097280" indent="-21924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teoría de los costos de transacción</a:t>
            </a:r>
            <a:endParaRPr b="0" lang="en-US" sz="24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stos de medir los atributos de valor de lo que es intercambiado</a:t>
            </a:r>
            <a:endParaRPr b="0" lang="en-US" sz="20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stos de proteger los derechos y supervisar y hacer cumplir (policing and enforcing) los acuerdos</a:t>
            </a:r>
            <a:endParaRPr b="0" lang="en-US" sz="20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os costos de medición y exigibilidad son la fuente de las instituciones sociales, políticas y económic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0920" y="188640"/>
            <a:ext cx="779292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cimiento económico y número de transacciones </a:t>
            </a:r>
            <a:endParaRPr b="0" lang="en-US" sz="4400" spc="-1" strike="noStrike">
              <a:solidFill>
                <a:srgbClr val="333399"/>
              </a:solidFill>
              <a:latin typeface="Tahoma"/>
            </a:endParaRPr>
          </a:p>
        </p:txBody>
      </p:sp>
      <p:sp>
        <p:nvSpPr>
          <p:cNvPr id="112" name="PlaceHolder 2"/>
          <p:cNvSpPr>
            <a:spLocks noGrp="1"/>
          </p:cNvSpPr>
          <p:nvPr>
            <p:ph/>
          </p:nvPr>
        </p:nvSpPr>
        <p:spPr>
          <a:xfrm>
            <a:off x="457200" y="1916280"/>
            <a:ext cx="8229600" cy="46814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Ganancias de la especialización y división del trabajo</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ecientes gracias al aumento del tamaño de los mercados con la expansión de la economía mundial y el comercio internacional</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e proceso está acompañado de un aumento en el número de intercambios</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stos de transacción asociados a esos intercambios son clave: </a:t>
            </a:r>
            <a:endParaRPr b="0" lang="en-US" sz="2400" spc="-1" strike="noStrike">
              <a:solidFill>
                <a:srgbClr val="000000"/>
              </a:solidFill>
              <a:latin typeface="Tahoma"/>
            </a:endParaRPr>
          </a:p>
          <a:p>
            <a:pPr lvl="2" marL="1131480" indent="-226080">
              <a:lnSpc>
                <a:spcPct val="8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rth y Wallis (1981) estimaban que hacía un siglo un cuarto del PIB de EEUU se dedicaba a realizar las transacciones y que esa cifra había crecido a un 45%</a:t>
            </a:r>
            <a:endParaRPr b="0" lang="en-US" sz="1800" spc="-1" strike="noStrike">
              <a:solidFill>
                <a:srgbClr val="000000"/>
              </a:solidFill>
              <a:latin typeface="Tahoma"/>
            </a:endParaRPr>
          </a:p>
          <a:p>
            <a:pPr marL="339480" indent="-3394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stos de producción incluyen los recursos utilizados tanto en la transformación de los atributos físicos del bien como los costos de transacción </a:t>
            </a:r>
            <a:r>
              <a:rPr b="0" lang="es-CL" sz="1600" spc="-1" strike="noStrike">
                <a:solidFill>
                  <a:srgbClr val="000000"/>
                </a:solidFill>
                <a:latin typeface="Tahoma"/>
              </a:rPr>
              <a:t>(derecho al uso, derecho a obtener ingreso del uso, derecho a excluir, derecho a intercambiar)</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SPECTOS CRUCIALES </a:t>
            </a:r>
            <a:br>
              <a:rPr sz="4000"/>
            </a:br>
            <a:r>
              <a:rPr b="0" lang="en-US" sz="4000" spc="-1" strike="noStrike">
                <a:solidFill>
                  <a:srgbClr val="333399"/>
                </a:solidFill>
                <a:latin typeface="Tahoma"/>
              </a:rPr>
              <a:t>DE SU TEORÍA</a:t>
            </a:r>
            <a:endParaRPr b="0" lang="en-US" sz="4000" spc="-1" strike="noStrike">
              <a:solidFill>
                <a:srgbClr val="333399"/>
              </a:solidFill>
              <a:latin typeface="Tahoma"/>
            </a:endParaRPr>
          </a:p>
        </p:txBody>
      </p:sp>
      <p:sp>
        <p:nvSpPr>
          <p:cNvPr id="114"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individuos actúan en base a información incompleta y con modelos subjetivos frecuentemente erróneo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retroalimentación de información es insuficiente para corregir estos modelos subjetivo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instituciones no son creadas para ser socialmente eficientes. Al menos las instituciones formales son creadas para servir los intereses de los que tienen el poder de negociación como para diseñar nuevas reglas. </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poder de negociación afecta la eficiencia de los resultados debido a los costos de transacción, y dadas las indivisibilidades que caracterizan las instituciones, afectan la dirección del cambio económico de largo plaz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MBIO INSTITUCIONAL</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cambios institucionales ocurrirían porque los individuos creen que podrían estar mejor reestructurando el intercambio</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entes del cambio</a:t>
            </a:r>
            <a:endParaRPr b="0" lang="en-US" sz="32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mbios en precios relativos (incluyendo en tecnología y en costos de información) y </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mbios en las preferencias. Ambos pueden estar relacionad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332000" y="1125360"/>
            <a:ext cx="2808360" cy="468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692360" y="2060640"/>
            <a:ext cx="19429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ciones formales</a:t>
            </a:r>
            <a:endParaRPr b="0" lang="en-US" sz="1800" spc="-1" strike="noStrike">
              <a:solidFill>
                <a:srgbClr val="000000"/>
              </a:solidFill>
              <a:latin typeface="Arial"/>
            </a:endParaRPr>
          </a:p>
        </p:txBody>
      </p:sp>
      <p:sp>
        <p:nvSpPr>
          <p:cNvPr id="119" name=""/>
          <p:cNvSpPr/>
          <p:nvPr/>
        </p:nvSpPr>
        <p:spPr>
          <a:xfrm>
            <a:off x="1692360" y="3213000"/>
            <a:ext cx="2016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ciones informales</a:t>
            </a:r>
            <a:endParaRPr b="0" lang="en-US" sz="1800" spc="-1" strike="noStrike">
              <a:solidFill>
                <a:srgbClr val="000000"/>
              </a:solidFill>
              <a:latin typeface="Arial"/>
            </a:endParaRPr>
          </a:p>
        </p:txBody>
      </p:sp>
      <p:sp>
        <p:nvSpPr>
          <p:cNvPr id="120" name=""/>
          <p:cNvSpPr/>
          <p:nvPr/>
        </p:nvSpPr>
        <p:spPr>
          <a:xfrm>
            <a:off x="1692360" y="4221000"/>
            <a:ext cx="2016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anismos de exigibilidad</a:t>
            </a:r>
            <a:endParaRPr b="0" lang="en-US" sz="1800" spc="-1" strike="noStrike">
              <a:solidFill>
                <a:srgbClr val="000000"/>
              </a:solidFill>
              <a:latin typeface="Arial"/>
            </a:endParaRPr>
          </a:p>
        </p:txBody>
      </p:sp>
      <p:sp>
        <p:nvSpPr>
          <p:cNvPr id="121" name=""/>
          <p:cNvSpPr/>
          <p:nvPr/>
        </p:nvSpPr>
        <p:spPr>
          <a:xfrm>
            <a:off x="4284720" y="2781360"/>
            <a:ext cx="2735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upos pueden invertir para cambiar las reglas y los mecanismos de exigibilidad</a:t>
            </a:r>
            <a:endParaRPr b="0" lang="en-US" sz="1800" spc="-1" strike="noStrike">
              <a:solidFill>
                <a:srgbClr val="000000"/>
              </a:solidFill>
              <a:latin typeface="Arial"/>
            </a:endParaRPr>
          </a:p>
        </p:txBody>
      </p:sp>
      <p:sp>
        <p:nvSpPr>
          <p:cNvPr id="122" name=""/>
          <p:cNvSpPr/>
          <p:nvPr/>
        </p:nvSpPr>
        <p:spPr>
          <a:xfrm>
            <a:off x="4427640" y="4437000"/>
            <a:ext cx="2592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ultura</a:t>
            </a:r>
            <a:r>
              <a:rPr b="0" lang="en-US" sz="1800" spc="-1" strike="noStrike">
                <a:solidFill>
                  <a:srgbClr val="000000"/>
                </a:solidFill>
                <a:latin typeface="Arial"/>
              </a:rPr>
              <a:t> cambia por efecto de accidentes, selección natural y </a:t>
            </a:r>
            <a:r>
              <a:rPr b="0" lang="en-US" sz="1800" spc="-1" strike="noStrike" u="sng">
                <a:solidFill>
                  <a:srgbClr val="000000"/>
                </a:solidFill>
                <a:uFillTx/>
                <a:latin typeface="Arial"/>
              </a:rPr>
              <a:t>aprendizaje</a:t>
            </a:r>
            <a:endParaRPr b="0" lang="en-US" sz="1800" spc="-1" strike="noStrike">
              <a:solidFill>
                <a:srgbClr val="000000"/>
              </a:solidFill>
              <a:latin typeface="Arial"/>
            </a:endParaRPr>
          </a:p>
        </p:txBody>
      </p:sp>
      <p:sp>
        <p:nvSpPr>
          <p:cNvPr id="123" name=""/>
          <p:cNvSpPr/>
          <p:nvPr/>
        </p:nvSpPr>
        <p:spPr>
          <a:xfrm rot="2700000">
            <a:off x="3468960" y="2666520"/>
            <a:ext cx="1008000" cy="215640"/>
          </a:xfrm>
          <a:prstGeom prst="leftArrow">
            <a:avLst>
              <a:gd name="adj1" fmla="val 50000"/>
              <a:gd name="adj2" fmla="val 11686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rot="2700000">
            <a:off x="3384000" y="3969000"/>
            <a:ext cx="1279440" cy="199800"/>
          </a:xfrm>
          <a:prstGeom prst="leftArrow">
            <a:avLst>
              <a:gd name="adj1" fmla="val 50000"/>
              <a:gd name="adj2" fmla="val 16009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2700000">
            <a:off x="3766680" y="3579840"/>
            <a:ext cx="336600" cy="1079640"/>
          </a:xfrm>
          <a:prstGeom prst="downArrow">
            <a:avLst>
              <a:gd name="adj1" fmla="val 50000"/>
              <a:gd name="adj2" fmla="val 8018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419640" y="549360"/>
            <a:ext cx="1584000" cy="792000"/>
          </a:xfrm>
          <a:prstGeom prst="wedgeRectCallout">
            <a:avLst>
              <a:gd name="adj1" fmla="val -43518"/>
              <a:gd name="adj2" fmla="val 70000"/>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ituciones</a:t>
            </a:r>
            <a:endParaRPr b="0" lang="en-US" sz="1800" spc="-1" strike="noStrike">
              <a:solidFill>
                <a:srgbClr val="000000"/>
              </a:solidFill>
              <a:latin typeface="Arial"/>
            </a:endParaRPr>
          </a:p>
        </p:txBody>
      </p:sp>
      <p:sp>
        <p:nvSpPr>
          <p:cNvPr id="127" name=""/>
          <p:cNvSpPr/>
          <p:nvPr/>
        </p:nvSpPr>
        <p:spPr>
          <a:xfrm>
            <a:off x="5867280" y="1773360"/>
            <a:ext cx="2951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mbios en precios relativos y preferencias</a:t>
            </a:r>
            <a:endParaRPr b="0" lang="en-US" sz="1800" spc="-1" strike="noStrike">
              <a:solidFill>
                <a:srgbClr val="000000"/>
              </a:solidFill>
              <a:latin typeface="Arial"/>
            </a:endParaRPr>
          </a:p>
        </p:txBody>
      </p:sp>
      <p:cxnSp>
        <p:nvCxnSpPr>
          <p:cNvPr id="128" name=""/>
          <p:cNvCxnSpPr>
            <a:stCxn id="127" idx="2"/>
          </p:cNvCxnSpPr>
          <p:nvPr/>
        </p:nvCxnSpPr>
        <p:spPr>
          <a:xfrm flipH="1">
            <a:off x="7019280" y="2423880"/>
            <a:ext cx="324360" cy="1076760"/>
          </a:xfrm>
          <a:prstGeom prst="straightConnector1">
            <a:avLst/>
          </a:prstGeom>
          <a:ln w="9360">
            <a:solidFill>
              <a:srgbClr val="000000"/>
            </a:solidFill>
            <a:miter/>
            <a:tailEnd len="med" type="triangle" w="med"/>
          </a:ln>
        </p:spPr>
      </p:cxnSp>
      <p:cxnSp>
        <p:nvCxnSpPr>
          <p:cNvPr id="129" name=""/>
          <p:cNvCxnSpPr>
            <a:endCxn id="122" idx="3"/>
          </p:cNvCxnSpPr>
          <p:nvPr/>
        </p:nvCxnSpPr>
        <p:spPr>
          <a:xfrm flipH="1">
            <a:off x="7019280" y="2491920"/>
            <a:ext cx="756360" cy="2545560"/>
          </a:xfrm>
          <a:prstGeom prst="straightConnector1">
            <a:avLst/>
          </a:prstGeom>
          <a:ln w="9360">
            <a:solidFill>
              <a:srgbClr val="000000"/>
            </a:solidFill>
            <a:miter/>
            <a:tailEnd len="med" type="triangle" w="med"/>
          </a:ln>
        </p:spPr>
      </p:cxnSp>
      <p:cxnSp>
        <p:nvCxnSpPr>
          <p:cNvPr id="130" name=""/>
          <p:cNvCxnSpPr>
            <a:stCxn id="127" idx="0"/>
          </p:cNvCxnSpPr>
          <p:nvPr/>
        </p:nvCxnSpPr>
        <p:spPr>
          <a:xfrm flipH="1" flipV="1">
            <a:off x="5003640" y="980280"/>
            <a:ext cx="2340360" cy="793080"/>
          </a:xfrm>
          <a:prstGeom prst="straightConnector1">
            <a:avLst/>
          </a:prstGeom>
          <a:ln w="9360">
            <a:solidFill>
              <a:srgbClr val="000000"/>
            </a:solidFill>
            <a:miter/>
            <a:tailEnd len="med" type="triangle" w="med"/>
          </a:ln>
        </p:spPr>
      </p:cxnSp>
      <p:cxnSp>
        <p:nvCxnSpPr>
          <p:cNvPr id="131" name=""/>
          <p:cNvCxnSpPr/>
          <p:nvPr/>
        </p:nvCxnSpPr>
        <p:spPr>
          <a:xfrm>
            <a:off x="2339640" y="2707920"/>
            <a:ext cx="37080" cy="501840"/>
          </a:xfrm>
          <a:prstGeom prst="straightConnector1">
            <a:avLst/>
          </a:prstGeom>
          <a:ln w="9360">
            <a:solidFill>
              <a:srgbClr val="000000"/>
            </a:solidFill>
            <a:miter/>
            <a:tailEnd len="med" type="triangle" w="med"/>
          </a:ln>
        </p:spPr>
      </p:cxnSp>
      <p:cxnSp>
        <p:nvCxnSpPr>
          <p:cNvPr id="132" name=""/>
          <p:cNvCxnSpPr/>
          <p:nvPr/>
        </p:nvCxnSpPr>
        <p:spPr>
          <a:xfrm flipH="1" flipV="1">
            <a:off x="2987280" y="2707920"/>
            <a:ext cx="37440" cy="501840"/>
          </a:xfrm>
          <a:prstGeom prst="straightConnector1">
            <a:avLst/>
          </a:prstGeom>
          <a:ln w="9360">
            <a:solidFill>
              <a:srgbClr val="000000"/>
            </a:solidFill>
            <a:miter/>
            <a:tailEnd len="med" type="triangle" w="med"/>
          </a:ln>
        </p:spPr>
      </p:cxnSp>
      <p:sp>
        <p:nvSpPr>
          <p:cNvPr id="133" name=""/>
          <p:cNvSpPr/>
          <p:nvPr/>
        </p:nvSpPr>
        <p:spPr>
          <a:xfrm>
            <a:off x="250920" y="2060640"/>
            <a:ext cx="433440" cy="330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OIC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SET</a:t>
            </a:r>
            <a:endParaRPr b="0" lang="en-US" sz="2000" spc="-1" strike="noStrike">
              <a:solidFill>
                <a:srgbClr val="000000"/>
              </a:solidFill>
              <a:latin typeface="Arial"/>
            </a:endParaRPr>
          </a:p>
        </p:txBody>
      </p:sp>
      <p:sp>
        <p:nvSpPr>
          <p:cNvPr id="134" name=""/>
          <p:cNvSpPr/>
          <p:nvPr/>
        </p:nvSpPr>
        <p:spPr>
          <a:xfrm>
            <a:off x="755640" y="2852640"/>
            <a:ext cx="503280" cy="1081080"/>
          </a:xfrm>
          <a:prstGeom prst="left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919080" y="1484280"/>
            <a:ext cx="6172200" cy="4915080"/>
            <a:chOff x="919080" y="1484280"/>
            <a:chExt cx="6172200" cy="4915080"/>
          </a:xfrm>
        </p:grpSpPr>
        <p:sp>
          <p:nvSpPr>
            <p:cNvPr id="136" name=""/>
            <p:cNvSpPr/>
            <p:nvPr/>
          </p:nvSpPr>
          <p:spPr>
            <a:xfrm flipH="1">
              <a:off x="1033560" y="1484280"/>
              <a:ext cx="4914720" cy="1028880"/>
            </a:xfrm>
            <a:custGeom>
              <a:avLst/>
              <a:gdLst>
                <a:gd name="textAreaLeft" fmla="*/ 1055880 w 4914720"/>
                <a:gd name="textAreaRight" fmla="*/ 3367080 w 4914720"/>
                <a:gd name="textAreaTop" fmla="*/ 137880 h 1028880"/>
                <a:gd name="textAreaBottom" fmla="*/ 891000 h 1028880"/>
              </a:gdLst>
              <a:ahLst/>
              <a:rect l="textAreaLeft" t="textAreaTop" r="textAreaRight" b="textAreaBottom"/>
              <a:pathLst>
                <a:path w="21600" h="21600">
                  <a:moveTo>
                    <a:pt x="0" y="21600"/>
                  </a:moveTo>
                  <a:arcTo wR="9284" hR="21600" stAng="10800000" swAng="5400000"/>
                  <a:lnTo>
                    <a:pt x="10157" y="0"/>
                  </a:lnTo>
                  <a:arcTo wR="9284" hR="21600" stAng="-5400000" swAng="2683119"/>
                  <a:lnTo>
                    <a:pt x="20832" y="13000"/>
                  </a:lnTo>
                  <a:lnTo>
                    <a:pt x="19004" y="21600"/>
                  </a:lnTo>
                  <a:lnTo>
                    <a:pt x="15639" y="13000"/>
                  </a:lnTo>
                  <a:lnTo>
                    <a:pt x="17799" y="13000"/>
                  </a:lnTo>
                  <a:arcTo wR="9284" hR="21600" stAng="-2716881" swAng="-2613580"/>
                  <a:lnTo>
                    <a:pt x="9720" y="24"/>
                  </a:lnTo>
                  <a:arcTo wR="9284" hR="21600" stAng="-5469539" swAng="-5330461"/>
                  <a:close/>
                </a:path>
                <a:path fill="darkenLess" w="21600" h="21600">
                  <a:moveTo>
                    <a:pt x="0" y="21600"/>
                  </a:moveTo>
                  <a:arcTo wR="9284" hR="21600" stAng="10800000" swAng="5400000"/>
                  <a:lnTo>
                    <a:pt x="9284" y="0"/>
                  </a:lnTo>
                  <a:arcTo wR="9284" hR="21600" stAng="-5400000" swAng="69539"/>
                  <a:lnTo>
                    <a:pt x="9720" y="24"/>
                  </a:lnTo>
                  <a:arcTo wR="9284" hR="21600" stAng="-5469539" swAng="-5330461"/>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919080" y="2513160"/>
              <a:ext cx="125748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STITUTIONS</a:t>
              </a:r>
              <a:endParaRPr b="0" lang="en-US" sz="1200" spc="-1" strike="noStrike">
                <a:solidFill>
                  <a:srgbClr val="000000"/>
                </a:solidFill>
                <a:latin typeface="Arial"/>
              </a:endParaRPr>
            </a:p>
          </p:txBody>
        </p:sp>
        <p:sp>
          <p:nvSpPr>
            <p:cNvPr id="138" name=""/>
            <p:cNvSpPr/>
            <p:nvPr/>
          </p:nvSpPr>
          <p:spPr>
            <a:xfrm>
              <a:off x="1147680" y="3427560"/>
              <a:ext cx="91440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LTURE, BELIEF SYSTEMS</a:t>
              </a:r>
              <a:endParaRPr b="0" lang="en-US" sz="1200" spc="-1" strike="noStrike">
                <a:solidFill>
                  <a:srgbClr val="000000"/>
                </a:solidFill>
                <a:latin typeface="Arial"/>
              </a:endParaRPr>
            </a:p>
          </p:txBody>
        </p:sp>
        <p:sp>
          <p:nvSpPr>
            <p:cNvPr id="139" name=""/>
            <p:cNvSpPr/>
            <p:nvPr/>
          </p:nvSpPr>
          <p:spPr>
            <a:xfrm>
              <a:off x="2519280" y="2855880"/>
              <a:ext cx="22860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CENTIVES/CONTRAINTS</a:t>
              </a:r>
              <a:endParaRPr b="0" lang="en-US" sz="1200" spc="-1" strike="noStrike">
                <a:solidFill>
                  <a:srgbClr val="000000"/>
                </a:solidFill>
                <a:latin typeface="Arial"/>
              </a:endParaRPr>
            </a:p>
          </p:txBody>
        </p:sp>
        <p:sp>
          <p:nvSpPr>
            <p:cNvPr id="140" name=""/>
            <p:cNvSpPr/>
            <p:nvPr/>
          </p:nvSpPr>
          <p:spPr>
            <a:xfrm>
              <a:off x="2519280" y="3541680"/>
              <a:ext cx="22860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CEPTIONS</a:t>
              </a:r>
              <a:endParaRPr b="0" lang="en-US" sz="1200" spc="-1" strike="noStrike">
                <a:solidFill>
                  <a:srgbClr val="000000"/>
                </a:solidFill>
                <a:latin typeface="Arial"/>
              </a:endParaRPr>
            </a:p>
          </p:txBody>
        </p:sp>
        <p:sp>
          <p:nvSpPr>
            <p:cNvPr id="141" name=""/>
            <p:cNvSpPr/>
            <p:nvPr/>
          </p:nvSpPr>
          <p:spPr>
            <a:xfrm>
              <a:off x="4462560" y="1941480"/>
              <a:ext cx="799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CES</a:t>
              </a:r>
              <a:endParaRPr b="0" lang="en-US" sz="1200" spc="-1" strike="noStrike">
                <a:solidFill>
                  <a:srgbClr val="000000"/>
                </a:solidFill>
                <a:latin typeface="Arial"/>
              </a:endParaRPr>
            </a:p>
          </p:txBody>
        </p:sp>
        <p:sp>
          <p:nvSpPr>
            <p:cNvPr id="142" name=""/>
            <p:cNvSpPr/>
            <p:nvPr/>
          </p:nvSpPr>
          <p:spPr>
            <a:xfrm>
              <a:off x="4119480" y="4570560"/>
              <a:ext cx="11430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STES</a:t>
              </a:r>
              <a:endParaRPr b="0" lang="en-US" sz="1200" spc="-1" strike="noStrike">
                <a:solidFill>
                  <a:srgbClr val="000000"/>
                </a:solidFill>
                <a:latin typeface="Arial"/>
              </a:endParaRPr>
            </a:p>
          </p:txBody>
        </p:sp>
        <p:sp>
          <p:nvSpPr>
            <p:cNvPr id="143" name=""/>
            <p:cNvSpPr/>
            <p:nvPr/>
          </p:nvSpPr>
          <p:spPr>
            <a:xfrm>
              <a:off x="5262480" y="2513160"/>
              <a:ext cx="34308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ONS</a:t>
              </a:r>
              <a:endParaRPr b="0" lang="en-US" sz="1200" spc="-1" strike="noStrike">
                <a:solidFill>
                  <a:srgbClr val="000000"/>
                </a:solidFill>
                <a:latin typeface="Arial"/>
              </a:endParaRPr>
            </a:p>
          </p:txBody>
        </p:sp>
        <p:sp>
          <p:nvSpPr>
            <p:cNvPr id="144" name=""/>
            <p:cNvSpPr/>
            <p:nvPr/>
          </p:nvSpPr>
          <p:spPr>
            <a:xfrm>
              <a:off x="5605560" y="2513160"/>
              <a:ext cx="34272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ARNING</a:t>
              </a:r>
              <a:endParaRPr b="0" lang="en-US" sz="1200" spc="-1" strike="noStrike">
                <a:solidFill>
                  <a:srgbClr val="000000"/>
                </a:solidFill>
                <a:latin typeface="Arial"/>
              </a:endParaRPr>
            </a:p>
          </p:txBody>
        </p:sp>
        <p:sp>
          <p:nvSpPr>
            <p:cNvPr id="145" name=""/>
            <p:cNvSpPr/>
            <p:nvPr/>
          </p:nvSpPr>
          <p:spPr>
            <a:xfrm>
              <a:off x="6748560" y="1827360"/>
              <a:ext cx="342720" cy="365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CONOMIC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FORMANCE</a:t>
              </a:r>
              <a:endParaRPr b="0" lang="en-US" sz="1200" spc="-1" strike="noStrike">
                <a:solidFill>
                  <a:srgbClr val="000000"/>
                </a:solidFill>
                <a:latin typeface="Arial"/>
              </a:endParaRPr>
            </a:p>
          </p:txBody>
        </p:sp>
        <p:sp>
          <p:nvSpPr>
            <p:cNvPr id="146" name=""/>
            <p:cNvSpPr/>
            <p:nvPr/>
          </p:nvSpPr>
          <p:spPr>
            <a:xfrm>
              <a:off x="5948280" y="3313080"/>
              <a:ext cx="800280" cy="114480"/>
            </a:xfrm>
            <a:prstGeom prst="rightArrow">
              <a:avLst>
                <a:gd name="adj1" fmla="val 50000"/>
                <a:gd name="adj2" fmla="val 174764"/>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7" name=""/>
            <p:cNvSpPr/>
            <p:nvPr/>
          </p:nvSpPr>
          <p:spPr>
            <a:xfrm flipV="1">
              <a:off x="2176560" y="2513160"/>
              <a:ext cx="1714320" cy="342720"/>
            </a:xfrm>
            <a:custGeom>
              <a:avLst/>
              <a:gdLst>
                <a:gd name="textAreaLeft" fmla="*/ 571320 w 1714320"/>
                <a:gd name="textAreaRight" fmla="*/ 1468440 w 1714320"/>
                <a:gd name="textAreaTop" fmla="*/ 197280 h 342720"/>
                <a:gd name="textAreaBottom" fmla="*/ 293760 h 3427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719360" y="217008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5262480" y="2170080"/>
              <a:ext cx="148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262480" y="4456080"/>
              <a:ext cx="343080" cy="343080"/>
            </a:xfrm>
            <a:custGeom>
              <a:avLst/>
              <a:gdLst>
                <a:gd name="textAreaLeft" fmla="*/ 114480 w 343080"/>
                <a:gd name="textAreaRight" fmla="*/ 294120 w 343080"/>
                <a:gd name="textAreaTop" fmla="*/ 197640 h 343080"/>
                <a:gd name="textAreaBottom" fmla="*/ 294120 h 343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062080" y="3884760"/>
              <a:ext cx="1943280" cy="457200"/>
            </a:xfrm>
            <a:custGeom>
              <a:avLst/>
              <a:gdLst>
                <a:gd name="textAreaLeft" fmla="*/ 647640 w 1943280"/>
                <a:gd name="textAreaRight" fmla="*/ 1664640 w 1943280"/>
                <a:gd name="textAreaTop" fmla="*/ 263520 h 457200"/>
                <a:gd name="textAreaBottom" fmla="*/ 391680 h 457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5400000">
              <a:off x="2519280" y="2970000"/>
              <a:ext cx="1943280" cy="4914720"/>
            </a:xfrm>
            <a:custGeom>
              <a:avLst/>
              <a:gdLst>
                <a:gd name="textAreaLeft" fmla="*/ 260280 w 1943280"/>
                <a:gd name="textAreaRight" fmla="*/ 1683000 w 1943280"/>
                <a:gd name="textAreaTop" fmla="*/ 1016640 h 4914720"/>
                <a:gd name="textAreaBottom" fmla="*/ 3406680 h 4914720"/>
              </a:gdLst>
              <a:ahLst/>
              <a:rect l="textAreaLeft" t="textAreaTop" r="textAreaRight" b="textAreaBottom"/>
              <a:pathLst>
                <a:path w="21600" h="21600">
                  <a:moveTo>
                    <a:pt x="0" y="0"/>
                  </a:moveTo>
                  <a:arcTo wR="21600" hR="8937" stAng="-5400000" swAng="5400000"/>
                  <a:lnTo>
                    <a:pt x="21600" y="10503"/>
                  </a:lnTo>
                  <a:arcTo wR="21600" hR="8937" stAng="0" swAng="2969147"/>
                  <a:lnTo>
                    <a:pt x="7200" y="21089"/>
                  </a:lnTo>
                  <a:lnTo>
                    <a:pt x="0" y="18657"/>
                  </a:lnTo>
                  <a:lnTo>
                    <a:pt x="7200" y="15203"/>
                  </a:lnTo>
                  <a:lnTo>
                    <a:pt x="7200" y="17363"/>
                  </a:lnTo>
                  <a:arcTo wR="21600" hR="8937" stAng="2969147" swAng="-2844103"/>
                  <a:lnTo>
                    <a:pt x="21517" y="9720"/>
                  </a:lnTo>
                  <a:arcTo wR="21600" hR="8937" stAng="-125044" swAng="-5274956"/>
                  <a:close/>
                </a:path>
                <a:path fill="darkenLess" w="21600" h="21600">
                  <a:moveTo>
                    <a:pt x="0" y="0"/>
                  </a:moveTo>
                  <a:arcTo wR="21600" hR="8937" stAng="-5400000" swAng="5400000"/>
                  <a:lnTo>
                    <a:pt x="21600" y="10503"/>
                  </a:lnTo>
                  <a:arcTo wR="21600" hR="8937" stAng="0" swAng="-125044"/>
                  <a:lnTo>
                    <a:pt x="21517" y="9720"/>
                  </a:lnTo>
                  <a:arcTo wR="21600" hR="8937" stAng="-125044" swAng="-5274956"/>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5262480" y="2284560"/>
              <a:ext cx="343080" cy="226800"/>
            </a:xfrm>
            <a:custGeom>
              <a:avLst/>
              <a:gdLst>
                <a:gd name="textAreaLeft" fmla="*/ 114480 w 343080"/>
                <a:gd name="textAreaRight" fmla="*/ 294120 w 343080"/>
                <a:gd name="textAreaTop" fmla="*/ 131040 h 226800"/>
                <a:gd name="textAreaBottom" fmla="*/ 194760 h 226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4" name=""/>
            <p:cNvSpPr/>
            <p:nvPr/>
          </p:nvSpPr>
          <p:spPr>
            <a:xfrm>
              <a:off x="1719360" y="2170080"/>
              <a:ext cx="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719360" y="4799160"/>
              <a:ext cx="2400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919760" y="2398680"/>
              <a:ext cx="0" cy="2171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1719360" y="4455720"/>
              <a:ext cx="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976480" y="3198960"/>
              <a:ext cx="19432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CEIVED PAY-OFFS</a:t>
              </a:r>
              <a:endParaRPr b="0" lang="en-US" sz="1200" spc="-1" strike="noStrike">
                <a:solidFill>
                  <a:srgbClr val="000000"/>
                </a:solidFill>
                <a:latin typeface="Arial"/>
              </a:endParaRPr>
            </a:p>
          </p:txBody>
        </p:sp>
        <p:sp>
          <p:nvSpPr>
            <p:cNvPr id="159" name=""/>
            <p:cNvSpPr/>
            <p:nvPr/>
          </p:nvSpPr>
          <p:spPr>
            <a:xfrm>
              <a:off x="4919760" y="3084480"/>
              <a:ext cx="342720" cy="5716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6680" y="2398680"/>
              <a:ext cx="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PlaceHolder 1"/>
          <p:cNvSpPr>
            <a:spLocks noGrp="1"/>
          </p:cNvSpPr>
          <p:nvPr>
            <p:ph type="title"/>
          </p:nvPr>
        </p:nvSpPr>
        <p:spPr>
          <a:xfrm>
            <a:off x="468000" y="213840"/>
            <a:ext cx="8475480" cy="911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FECTO DE LAS INSTITUCIONES EN EL DESEMPEÑO ECONÓMICO</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 qué instituciones ineficientes pueden persistir?</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tiliza como referencia el cambio tecnológico (Brian Arthur), en el cual puede producirse que prevalezcan tecnologías ineficientes, debido a 4 mecanismos:</a:t>
            </a:r>
            <a:endParaRPr b="0" lang="en-US" sz="28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ltos costos de puesta en marcha, que permiten menores costos a medida que aumenta la producció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fectos de aprendizaje, que mejoran los productos o reducen sus costos a medida que permanece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fectos de coordinación, hay ventajas de la cooperación con otros agentes económico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xpectativas adaptativas, permanencia en el mercado hace que se crea en permanencia futur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24:16Z</dcterms:created>
  <dc:creator>pabloa.gonzalez</dc:creator>
  <dc:description/>
  <dc:language>en-US</dc:language>
  <cp:lastModifiedBy>pabloa.gonzalez</cp:lastModifiedBy>
  <dcterms:modified xsi:type="dcterms:W3CDTF">2007-07-11T21:29:48Z</dcterms:modified>
  <cp:revision>13</cp:revision>
  <dc:subject/>
  <dc:title>ANÁLISIS INSTITUCIONAL DE DOUGLASS NORTH</dc:title>
</cp:coreProperties>
</file>