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49E9-7D99-4CE7-940F-7D1CDB9C6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ostos de transacción aumentan al aumentar los activos específicos y la incertidumbre y bajan con la frecu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gunos incorporan apropiabilidad como variable (desde perspectiva de derechos de prop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ifícil medir los costos de transacción. Williamson (1985) propone el “discrete alignment principle”: agentes calculadores operando en un ambiente competitivo elegirán el modo de organización que mejor se ajuste con los atributos de la transacción. Con esto los estudios empíricos pueden evitar medir directamente costos de transacción y concentrarse en la forma de organización como variable dependiente, en comparación a otras no elegidas, que no habrían minimizado los costos de transacció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híbridos coordinados por un líder dejan poco margen para la autonomía pero alguna simetría se mantiene. La subcontratación, particularmente con relaciones contractuales de largo plazo, o alianzas relacionadas con I&amp;D suelen ser de este tipo (Eccles, 1981, Pisano, 1990, Powell, 1996).</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bitraje: parties rely on a non-judicial third party to resolve a dispute, and the parties agree that the decision of the arbitrator will be bi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ntaj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uchos árbitros son expertos en la industria relevante, con lo que los costos de informar al tomador de decisión acerca de las circunstancias de la controversia se minimiz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o las partes pagan por el arbitraje, hay mucho más flexibilidad en ésta que en las cortes. Por ejemplo, si el tiempo es importante, pueden pagar más para tener un fallo rápi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artes pueden elegir la ley que regirá sobre la controvers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i las decisiones de los árbitros quedan por escrito bien fundamentadas, entonces pueden servir de precedente e incluso alimentar mejoramientos lega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ímite al arbitraje: la parte desfavorecida tiene incentivos a ignorarlo. Importancia que las cortes enforce la decisión del árbitro, de lo contrario sólo queda el disuasivo del efecto reputación.</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ra poder especializarse los agentes necesitan transferir derechos sobre los bienes y servicios que controlan Hay varias formas de organizar las transacciones, todas costosas, por lo que sus ventajas relativas solo pueden evaluarse comparativamen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689E8-E1A8-4B3B-8936-D14176FB5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3EB53-80C8-4CFF-9312-17E8E7EAD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B9C7E-5E19-4934-B7F6-03599505F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1B91A-CB08-47DE-9875-838888AAE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F5FBC-0F8F-4A99-B715-8E90DF112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DE894-53B6-49CC-9AAD-C32AEB1AD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8C08F-963F-4147-A892-0B77E4D73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B013D-3468-4EC3-AD5D-D283B9C61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09428-4C64-423A-9FED-0300CE53E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4848E-94AA-4DF2-9520-46E9BB555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7CC75-B2B1-48FD-9248-4B8ABA4FA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E33A1-B0D6-4853-BA45-3EE3F602C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8078-2CCB-4600-8FB7-58C9EEF46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CONOMIA DE LAS INSTITUCION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sado en Coase-North-Williamson-Men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66" name=""/>
          <p:cNvCxnSpPr/>
          <p:nvPr/>
        </p:nvCxnSpPr>
        <p:spPr>
          <a:xfrm flipV="1">
            <a:off x="1142640" y="685080"/>
            <a:ext cx="1677240" cy="2134440"/>
          </a:xfrm>
          <a:prstGeom prst="straightConnector1">
            <a:avLst/>
          </a:prstGeom>
          <a:ln w="9360">
            <a:solidFill>
              <a:srgbClr val="000000"/>
            </a:solidFill>
            <a:miter/>
          </a:ln>
        </p:spPr>
      </p:cxnSp>
      <p:cxnSp>
        <p:nvCxnSpPr>
          <p:cNvPr id="67" name=""/>
          <p:cNvCxnSpPr/>
          <p:nvPr/>
        </p:nvCxnSpPr>
        <p:spPr>
          <a:xfrm flipV="1">
            <a:off x="2743200" y="1219320"/>
            <a:ext cx="2363040" cy="2667240"/>
          </a:xfrm>
          <a:prstGeom prst="straightConnector1">
            <a:avLst/>
          </a:prstGeom>
          <a:ln w="9360">
            <a:solidFill>
              <a:srgbClr val="000000"/>
            </a:solidFill>
            <a:miter/>
          </a:ln>
        </p:spPr>
      </p:cxnSp>
      <p:cxnSp>
        <p:nvCxnSpPr>
          <p:cNvPr id="68" name=""/>
          <p:cNvCxnSpPr/>
          <p:nvPr/>
        </p:nvCxnSpPr>
        <p:spPr>
          <a:xfrm flipV="1">
            <a:off x="4571640" y="2819160"/>
            <a:ext cx="2057760" cy="2286720"/>
          </a:xfrm>
          <a:prstGeom prst="straightConnector1">
            <a:avLst/>
          </a:prstGeom>
          <a:ln w="9360">
            <a:solidFill>
              <a:srgbClr val="000000"/>
            </a:solidFill>
            <a:miter/>
          </a:ln>
        </p:spPr>
      </p:cxnSp>
      <p:cxnSp>
        <p:nvCxnSpPr>
          <p:cNvPr id="69" name=""/>
          <p:cNvCxnSpPr/>
          <p:nvPr/>
        </p:nvCxnSpPr>
        <p:spPr>
          <a:xfrm>
            <a:off x="1143000" y="2819520"/>
            <a:ext cx="5487120" cy="3658320"/>
          </a:xfrm>
          <a:prstGeom prst="straightConnector1">
            <a:avLst/>
          </a:prstGeom>
          <a:ln w="9360">
            <a:solidFill>
              <a:srgbClr val="000000"/>
            </a:solidFill>
            <a:miter/>
          </a:ln>
        </p:spPr>
      </p:cxnSp>
      <p:sp>
        <p:nvSpPr>
          <p:cNvPr id="70" name=""/>
          <p:cNvSpPr/>
          <p:nvPr/>
        </p:nvSpPr>
        <p:spPr>
          <a:xfrm>
            <a:off x="65530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ost governance</a:t>
            </a:r>
            <a:endParaRPr b="0" lang="en-US" sz="1800" spc="-1" strike="noStrike">
              <a:solidFill>
                <a:srgbClr val="000000"/>
              </a:solidFill>
              <a:latin typeface="Arial"/>
            </a:endParaRPr>
          </a:p>
        </p:txBody>
      </p:sp>
      <p:sp>
        <p:nvSpPr>
          <p:cNvPr id="71" name=""/>
          <p:cNvSpPr/>
          <p:nvPr/>
        </p:nvSpPr>
        <p:spPr>
          <a:xfrm>
            <a:off x="6629400" y="2286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neamiento de incentivos exante</a:t>
            </a:r>
            <a:endParaRPr b="0" lang="en-US" sz="1800" spc="-1" strike="noStrike">
              <a:solidFill>
                <a:srgbClr val="000000"/>
              </a:solidFill>
              <a:latin typeface="Arial"/>
            </a:endParaRPr>
          </a:p>
        </p:txBody>
      </p:sp>
      <p:sp>
        <p:nvSpPr>
          <p:cNvPr id="72" name=""/>
          <p:cNvSpPr/>
          <p:nvPr/>
        </p:nvSpPr>
        <p:spPr>
          <a:xfrm>
            <a:off x="5105520" y="9144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 constitucional</a:t>
            </a:r>
            <a:endParaRPr b="0" lang="en-US" sz="1800" spc="-1" strike="noStrike">
              <a:solidFill>
                <a:srgbClr val="000000"/>
              </a:solidFill>
              <a:latin typeface="Arial"/>
            </a:endParaRPr>
          </a:p>
        </p:txBody>
      </p:sp>
      <p:sp>
        <p:nvSpPr>
          <p:cNvPr id="73" name=""/>
          <p:cNvSpPr/>
          <p:nvPr/>
        </p:nvSpPr>
        <p:spPr>
          <a:xfrm>
            <a:off x="2514600" y="22860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úblico</a:t>
            </a:r>
            <a:endParaRPr b="0" lang="en-US" sz="1800" spc="-1" strike="noStrike">
              <a:solidFill>
                <a:srgbClr val="000000"/>
              </a:solidFill>
              <a:latin typeface="Arial"/>
            </a:endParaRPr>
          </a:p>
        </p:txBody>
      </p:sp>
      <p:sp>
        <p:nvSpPr>
          <p:cNvPr id="74" name=""/>
          <p:cNvSpPr/>
          <p:nvPr/>
        </p:nvSpPr>
        <p:spPr>
          <a:xfrm>
            <a:off x="2438280" y="43434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rivado</a:t>
            </a:r>
            <a:endParaRPr b="0" lang="en-US" sz="1800" spc="-1" strike="noStrike">
              <a:solidFill>
                <a:srgbClr val="000000"/>
              </a:solidFill>
              <a:latin typeface="Arial"/>
            </a:endParaRPr>
          </a:p>
        </p:txBody>
      </p:sp>
      <p:sp>
        <p:nvSpPr>
          <p:cNvPr id="75" name=""/>
          <p:cNvSpPr/>
          <p:nvPr/>
        </p:nvSpPr>
        <p:spPr>
          <a:xfrm>
            <a:off x="0" y="24382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a:t>
            </a:r>
            <a:endParaRPr b="0" lang="en-US" sz="1800" spc="-1" strike="noStrike">
              <a:solidFill>
                <a:srgbClr val="000000"/>
              </a:solidFill>
              <a:latin typeface="Arial"/>
            </a:endParaRPr>
          </a:p>
        </p:txBody>
      </p:sp>
      <p:sp>
        <p:nvSpPr>
          <p:cNvPr id="76" name=""/>
          <p:cNvSpPr/>
          <p:nvPr/>
        </p:nvSpPr>
        <p:spPr>
          <a:xfrm>
            <a:off x="2743200" y="2286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todoxia: recursos escasos y asignación de recursos</a:t>
            </a:r>
            <a:endParaRPr b="0" lang="en-US" sz="1800" spc="-1" strike="noStrike">
              <a:solidFill>
                <a:srgbClr val="000000"/>
              </a:solidFill>
              <a:latin typeface="Arial"/>
            </a:endParaRPr>
          </a:p>
        </p:txBody>
      </p:sp>
      <p:sp>
        <p:nvSpPr>
          <p:cNvPr id="77" name=""/>
          <p:cNvSpPr/>
          <p:nvPr/>
        </p:nvSpPr>
        <p:spPr>
          <a:xfrm>
            <a:off x="533520" y="9907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 la elección</a:t>
            </a:r>
            <a:endParaRPr b="0" lang="en-US" sz="1800" spc="-1" strike="noStrike">
              <a:solidFill>
                <a:srgbClr val="000000"/>
              </a:solidFill>
              <a:latin typeface="Arial"/>
            </a:endParaRPr>
          </a:p>
        </p:txBody>
      </p:sp>
      <p:sp>
        <p:nvSpPr>
          <p:cNvPr id="78" name=""/>
          <p:cNvSpPr/>
          <p:nvPr/>
        </p:nvSpPr>
        <p:spPr>
          <a:xfrm>
            <a:off x="762120" y="35053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l contrato</a:t>
            </a:r>
            <a:endParaRPr b="0" lang="en-US" sz="1800" spc="-1" strike="noStrike">
              <a:solidFill>
                <a:srgbClr val="000000"/>
              </a:solidFill>
              <a:latin typeface="Arial"/>
            </a:endParaRPr>
          </a:p>
        </p:txBody>
      </p:sp>
      <p:sp>
        <p:nvSpPr>
          <p:cNvPr id="79" name=""/>
          <p:cNvSpPr/>
          <p:nvPr/>
        </p:nvSpPr>
        <p:spPr>
          <a:xfrm>
            <a:off x="6934320" y="2895480"/>
            <a:ext cx="20574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eño de mecanism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oría de agenci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recho de propiedad formal</a:t>
            </a:r>
            <a:endParaRPr b="0" lang="en-US" sz="1200" spc="-1" strike="noStrike">
              <a:solidFill>
                <a:srgbClr val="000000"/>
              </a:solidFill>
              <a:latin typeface="Arial"/>
            </a:endParaRPr>
          </a:p>
        </p:txBody>
      </p:sp>
      <p:sp>
        <p:nvSpPr>
          <p:cNvPr id="80" name=""/>
          <p:cNvSpPr/>
          <p:nvPr/>
        </p:nvSpPr>
        <p:spPr>
          <a:xfrm>
            <a:off x="7010280" y="533412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plementación del contrato (donde aparecen los problemas de mala adapt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l problema central es mala adaptació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iteratura formal de alineamiento de incentivos hace irrelevante el tema de expost governance, por ejemplo a través del supuesto de common knowledge of payoffs y negociación sin cos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bién ECT hace supuestos fuertes que pueden hacer irrelevante la etapa de alinear incentivos exante: por ejemplo neutralidad al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ATO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cionalidad limitada</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los contratos complejos son inevitablemente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gentes no son miopes sino que tienen la capacidad de mirar hacia delante, descubrir posibles </a:t>
            </a:r>
            <a:r>
              <a:rPr b="0" i="1" lang="es-CL" sz="1600" spc="-1" strike="noStrike">
                <a:solidFill>
                  <a:srgbClr val="000000"/>
                </a:solidFill>
                <a:latin typeface="Arial"/>
              </a:rPr>
              <a:t>hazards</a:t>
            </a:r>
            <a:r>
              <a:rPr b="0" lang="es-CL" sz="1600" spc="-1" strike="noStrike">
                <a:solidFill>
                  <a:srgbClr val="000000"/>
                </a:solidFill>
                <a:latin typeface="Arial"/>
              </a:rPr>
              <a:t> y trabajar las ramificaciones contractual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ortunismo, aunque la mayoría de la gente hace lo que dice y muchos incluso má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es relevantes de las transacciones</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ivos específicos (medida de nonredeployability): crean dependencia bilatera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turbances que las afectan (que producen maladaptaciones): incertidumbre puede provocar desalineamiento de los contratos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recuencia (efecto reputación e incentivo a incurrir en costo de governance interna especializa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a:t>
            </a:r>
            <a:r>
              <a:rPr b="0" lang="es-CL" sz="1600" spc="-1" strike="noStrike">
                <a:solidFill>
                  <a:srgbClr val="000000"/>
                </a:solidFill>
                <a:latin typeface="Arial"/>
              </a:rPr>
              <a:t>la adaptación es el problema crucial de la organización económica</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ónomas: individuos responden a oportunidades de mercado</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operativas: coordinada entre agentes a través de la administración (jerarquía)</a:t>
            </a:r>
            <a:endParaRPr b="0" lang="en-US" sz="1600" spc="-1" strike="noStrike">
              <a:solidFill>
                <a:srgbClr val="000000"/>
              </a:solidFill>
              <a:latin typeface="Arial"/>
            </a:endParaRPr>
          </a:p>
          <a:p>
            <a:pPr lvl="4" marL="2057400" indent="-228600">
              <a:lnSpc>
                <a:spcPct val="9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sistemas económicos exitosos exhibirán capacidades adaptativas de ambos tip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TRATOS: Estructuras de governanc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presa como estructura de governance no como función de produc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ganancias del intercambio son realizadas moviéndose a la curva de contrato</a:t>
            </a:r>
            <a:endParaRPr b="0" lang="en-US" sz="20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ero cómo es esto realizado si los contratos complejos son incompletos y son implementados en el tiempo frente a disturbances para las cuales no se hicieron contingencias o se hicieron mal?</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rear estructuras de governance adecuadas para los hazards y que ayudan a las partes a restaurar eficiencia (volver a la curva de contrato) es más importantes que alinear los incentivos exante</a:t>
            </a: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ributos que las describe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nsidad de incen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troles administra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égimen de contrato lega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tos de los modos genéricos de governance</a:t>
            </a:r>
            <a:endParaRPr b="0" lang="en-US" sz="4000" spc="-1" strike="noStrike">
              <a:solidFill>
                <a:srgbClr val="000000"/>
              </a:solidFill>
              <a:latin typeface="Arial"/>
            </a:endParaRPr>
          </a:p>
        </p:txBody>
      </p:sp>
      <p:graphicFrame>
        <p:nvGraphicFramePr>
          <p:cNvPr id="88" name=""/>
          <p:cNvGraphicFramePr/>
          <p:nvPr/>
        </p:nvGraphicFramePr>
        <p:xfrm>
          <a:off x="457200" y="2133720"/>
          <a:ext cx="8229600" cy="3992400"/>
        </p:xfrm>
        <a:graphic>
          <a:graphicData uri="http://schemas.openxmlformats.org/drawingml/2006/table">
            <a:tbl>
              <a:tblPr/>
              <a:tblGrid>
                <a:gridCol w="2438280"/>
                <a:gridCol w="1981440"/>
                <a:gridCol w="1752480"/>
                <a:gridCol w="2057400"/>
              </a:tblGrid>
              <a:tr h="99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rca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Jerarquí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o-po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termedi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ajo-pod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administrativ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ul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g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cho</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égimen leg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egalist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t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mpresa (fiat)</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BLEMA PARADIGMÁTICO: INTEGRACIÓN VERTICAL</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irlo o compra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existen las empresas? ¿Por qué no “comprar” en vez de “produc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un costo de usar el mecanismo de precios que es el descubrir cuáles son los precios releva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procurarlo dentro de la empresa reduce los costos de descubrir los prec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 la información contable de costos para transferir un bien o servicio de una etapa interna a ot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esto también se puede acordar con un proveedor externo, por ejemplo comprarle siempre a costo p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producirlo en dos firmas autónomas mayor que en una s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FECTO DE LA ESPECIFICIDAD DE LOS ACTIVO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k) costo de organizar las transacciones en un mercado es una función creciente de la especificidad de los activos, 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an X(k) y H(k) los costos de organizar las transacciones en modos híbridos de contrato y en jerarquía respect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0) &lt; X(0) &lt; H(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 &gt; X’ &gt; H’ </a:t>
            </a:r>
            <a:r>
              <a:rPr b="0" lang="es-CL" sz="2800" spc="-1" strike="noStrike">
                <a:solidFill>
                  <a:srgbClr val="000000"/>
                </a:solidFill>
                <a:latin typeface="Arial"/>
                <a:ea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odo de governance con menor costo será el mercado para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X para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a:t>
            </a:r>
            <a:r>
              <a:rPr b="0" lang="es-CL" sz="2800" spc="-1" strike="noStrike">
                <a:solidFill>
                  <a:srgbClr val="000000"/>
                </a:solidFill>
                <a:latin typeface="Arial"/>
              </a:rPr>
              <a:t>&lt;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2</a:t>
            </a:r>
            <a:r>
              <a:rPr b="0" lang="es-CL" sz="2800" spc="-1" strike="noStrike">
                <a:solidFill>
                  <a:srgbClr val="000000"/>
                </a:solidFill>
                <a:latin typeface="Arial"/>
                <a:ea typeface="Arial"/>
              </a:rPr>
              <a:t> y H para k</a:t>
            </a:r>
            <a:r>
              <a:rPr b="0" lang="es-CL" sz="2800" spc="-1" strike="noStrike" baseline="-25000">
                <a:solidFill>
                  <a:srgbClr val="000000"/>
                </a:solidFill>
                <a:latin typeface="Arial"/>
                <a:ea typeface="Arial"/>
              </a:rPr>
              <a:t> </a:t>
            </a:r>
            <a:r>
              <a:rPr b="0" lang="es-CL" sz="2800" spc="-1" strike="noStrike">
                <a:solidFill>
                  <a:srgbClr val="000000"/>
                </a:solidFill>
                <a:latin typeface="Arial"/>
              </a:rPr>
              <a:t>&gt; k</a:t>
            </a:r>
            <a:r>
              <a:rPr b="0" lang="es-CL" sz="2800" spc="-1" strike="noStrike" baseline="-25000">
                <a:solidFill>
                  <a:srgbClr val="000000"/>
                </a:solidFill>
                <a:latin typeface="Arial"/>
              </a:rPr>
              <a:t>2</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ALVAGUARDIA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tes dependientes bilateralmente tienen incentivos para promover continuidad y resguardar su inversión específica: 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as, information disclosure, procedimientos de verificación, resolución especializada de controversias (como arbitraj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gración vertical puede ser vista como último recurso, ya que tiene costos adicionales de burocracia, en caso que quiebres de contrato costoso sigan produciéndose pese a los esfuerzos de proveer salvaguardias</a:t>
            </a:r>
            <a:endParaRPr b="0" lang="en-US" sz="20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altos grados de especificidad de activos e incertidumbre hacen más necesaria </a:t>
            </a:r>
            <a:r>
              <a:rPr b="0" lang="es-CL" sz="1800" spc="-1" strike="noStrike" u="sng">
                <a:solidFill>
                  <a:srgbClr val="000000"/>
                </a:solidFill>
                <a:uFillTx/>
                <a:latin typeface="Arial"/>
              </a:rPr>
              <a:t>adaptación cooper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5" name=""/>
          <p:cNvCxnSpPr/>
          <p:nvPr/>
        </p:nvCxnSpPr>
        <p:spPr>
          <a:xfrm flipV="1">
            <a:off x="1142640" y="685080"/>
            <a:ext cx="1677240" cy="2134440"/>
          </a:xfrm>
          <a:prstGeom prst="straightConnector1">
            <a:avLst/>
          </a:prstGeom>
          <a:ln w="9360">
            <a:solidFill>
              <a:srgbClr val="000000"/>
            </a:solidFill>
            <a:miter/>
          </a:ln>
        </p:spPr>
      </p:cxnSp>
      <p:cxnSp>
        <p:nvCxnSpPr>
          <p:cNvPr id="96" name=""/>
          <p:cNvCxnSpPr/>
          <p:nvPr/>
        </p:nvCxnSpPr>
        <p:spPr>
          <a:xfrm flipV="1">
            <a:off x="2743200" y="1828440"/>
            <a:ext cx="1829520" cy="2057760"/>
          </a:xfrm>
          <a:prstGeom prst="straightConnector1">
            <a:avLst/>
          </a:prstGeom>
          <a:ln w="9360">
            <a:solidFill>
              <a:srgbClr val="000000"/>
            </a:solidFill>
            <a:miter/>
          </a:ln>
        </p:spPr>
      </p:cxnSp>
      <p:cxnSp>
        <p:nvCxnSpPr>
          <p:cNvPr id="97" name=""/>
          <p:cNvCxnSpPr/>
          <p:nvPr/>
        </p:nvCxnSpPr>
        <p:spPr>
          <a:xfrm flipV="1">
            <a:off x="4571640" y="3276360"/>
            <a:ext cx="1677240" cy="1829520"/>
          </a:xfrm>
          <a:prstGeom prst="straightConnector1">
            <a:avLst/>
          </a:prstGeom>
          <a:ln w="9360">
            <a:solidFill>
              <a:srgbClr val="000000"/>
            </a:solidFill>
            <a:miter/>
          </a:ln>
        </p:spPr>
      </p:cxnSp>
      <p:cxnSp>
        <p:nvCxnSpPr>
          <p:cNvPr id="98" name=""/>
          <p:cNvCxnSpPr/>
          <p:nvPr/>
        </p:nvCxnSpPr>
        <p:spPr>
          <a:xfrm>
            <a:off x="1142640" y="2819520"/>
            <a:ext cx="5182200" cy="3505680"/>
          </a:xfrm>
          <a:prstGeom prst="straightConnector1">
            <a:avLst/>
          </a:prstGeom>
          <a:ln w="9360">
            <a:solidFill>
              <a:srgbClr val="000000"/>
            </a:solidFill>
            <a:miter/>
          </a:ln>
        </p:spPr>
      </p:cxnSp>
      <p:sp>
        <p:nvSpPr>
          <p:cNvPr id="99" name=""/>
          <p:cNvSpPr/>
          <p:nvPr/>
        </p:nvSpPr>
        <p:spPr>
          <a:xfrm>
            <a:off x="63244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Jerarquía </a:t>
            </a:r>
            <a:endParaRPr b="0" lang="en-US" sz="1800" spc="-1" strike="noStrike">
              <a:solidFill>
                <a:srgbClr val="000000"/>
              </a:solidFill>
              <a:latin typeface="Arial"/>
            </a:endParaRPr>
          </a:p>
        </p:txBody>
      </p:sp>
      <p:sp>
        <p:nvSpPr>
          <p:cNvPr id="100" name=""/>
          <p:cNvSpPr/>
          <p:nvPr/>
        </p:nvSpPr>
        <p:spPr>
          <a:xfrm>
            <a:off x="6324480" y="30481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ntrato creíble</a:t>
            </a:r>
            <a:endParaRPr b="0" lang="en-US" sz="1800" spc="-1" strike="noStrike">
              <a:solidFill>
                <a:srgbClr val="000000"/>
              </a:solidFill>
              <a:latin typeface="Arial"/>
            </a:endParaRPr>
          </a:p>
        </p:txBody>
      </p:sp>
      <p:sp>
        <p:nvSpPr>
          <p:cNvPr id="101" name=""/>
          <p:cNvSpPr/>
          <p:nvPr/>
        </p:nvSpPr>
        <p:spPr>
          <a:xfrm>
            <a:off x="4572000" y="1600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Unrelieved hazard</a:t>
            </a:r>
            <a:endParaRPr b="0" lang="en-US" sz="1800" spc="-1" strike="noStrike">
              <a:solidFill>
                <a:srgbClr val="000000"/>
              </a:solidFill>
              <a:latin typeface="Arial"/>
            </a:endParaRPr>
          </a:p>
        </p:txBody>
      </p:sp>
      <p:sp>
        <p:nvSpPr>
          <p:cNvPr id="102" name=""/>
          <p:cNvSpPr/>
          <p:nvPr/>
        </p:nvSpPr>
        <p:spPr>
          <a:xfrm>
            <a:off x="3200400" y="2438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0</a:t>
            </a:r>
            <a:endParaRPr b="0" lang="en-US" sz="1800" spc="-1" strike="noStrike">
              <a:solidFill>
                <a:srgbClr val="000000"/>
              </a:solidFill>
              <a:latin typeface="Arial"/>
            </a:endParaRPr>
          </a:p>
        </p:txBody>
      </p:sp>
      <p:sp>
        <p:nvSpPr>
          <p:cNvPr id="103" name=""/>
          <p:cNvSpPr/>
          <p:nvPr/>
        </p:nvSpPr>
        <p:spPr>
          <a:xfrm>
            <a:off x="2438280" y="4343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gt;0</a:t>
            </a:r>
            <a:endParaRPr b="0" lang="en-US" sz="1800" spc="-1" strike="noStrike">
              <a:solidFill>
                <a:srgbClr val="000000"/>
              </a:solidFill>
              <a:latin typeface="Arial"/>
            </a:endParaRPr>
          </a:p>
        </p:txBody>
      </p:sp>
      <p:sp>
        <p:nvSpPr>
          <p:cNvPr id="104" name=""/>
          <p:cNvSpPr/>
          <p:nvPr/>
        </p:nvSpPr>
        <p:spPr>
          <a:xfrm>
            <a:off x="2819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ercado</a:t>
            </a:r>
            <a:endParaRPr b="0" lang="en-US" sz="1800" spc="-1" strike="noStrike">
              <a:solidFill>
                <a:srgbClr val="000000"/>
              </a:solidFill>
              <a:latin typeface="Arial"/>
            </a:endParaRPr>
          </a:p>
        </p:txBody>
      </p:sp>
      <p:sp>
        <p:nvSpPr>
          <p:cNvPr id="105" name=""/>
          <p:cNvSpPr/>
          <p:nvPr/>
        </p:nvSpPr>
        <p:spPr>
          <a:xfrm>
            <a:off x="1523880" y="14479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0</a:t>
            </a:r>
            <a:endParaRPr b="0" lang="en-US" sz="1800" spc="-1" strike="noStrike">
              <a:solidFill>
                <a:srgbClr val="000000"/>
              </a:solidFill>
              <a:latin typeface="Arial"/>
            </a:endParaRPr>
          </a:p>
        </p:txBody>
      </p:sp>
      <p:sp>
        <p:nvSpPr>
          <p:cNvPr id="106" name=""/>
          <p:cNvSpPr/>
          <p:nvPr/>
        </p:nvSpPr>
        <p:spPr>
          <a:xfrm>
            <a:off x="1295280" y="32767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a:t>
            </a:r>
            <a:r>
              <a:rPr b="0" lang="en-US" sz="1800" spc="-1" strike="noStrike">
                <a:solidFill>
                  <a:srgbClr val="000000"/>
                </a:solidFill>
                <a:latin typeface="Arial"/>
              </a:rPr>
              <a:t>&g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laciones laborales</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no puede comprar el trabajo por lo que las posibilidades se restringen a A, B o 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y inversión en capacidades específicas a la empresa los trabajadores perderán valor si los despiden y la empresa incurrirá en costos de capacitación si los trabajadores se va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er la continuidad de la relación valiosa, se crean dispositivos de governance que nos mueven a C en lugar de B: indemnizaciones por años de servicio reducen los despidos, y nonvested benefits reducen las salidas de trabajador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crean sistemas de resolución de controversias en una forma ordenada (grievance systems) en las cuales las partes confían, como los sindica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REAS DE APLICACIÓ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olíticas y el est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leg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institucional y desarrollo económ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 (Con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de la empresa vía deuda o patrimonio</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residual-claimant por toda la vida de la empre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l del directorio para reducir el costo de capital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del monopolio natural</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k es grande a hay considerable incertidumbre (en el mercado y la tecnología) licitación es problem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ITERIO PARA POLÍTICA PÚBLICA (Dixit)</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plaza Pareto por criterio de “remediabili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práctica o modo de organización para el cual ningún modo </a:t>
            </a:r>
            <a:r>
              <a:rPr b="0" lang="es-CL" sz="2400" spc="-1" strike="noStrike" u="sng">
                <a:solidFill>
                  <a:srgbClr val="000000"/>
                </a:solidFill>
                <a:uFillTx/>
                <a:latin typeface="Arial"/>
              </a:rPr>
              <a:t>factible</a:t>
            </a:r>
            <a:r>
              <a:rPr b="0" lang="es-CL" sz="2400" spc="-1" strike="noStrike">
                <a:solidFill>
                  <a:srgbClr val="000000"/>
                </a:solidFill>
                <a:latin typeface="Arial"/>
              </a:rPr>
              <a:t> superior puede describirse e </a:t>
            </a:r>
            <a:r>
              <a:rPr b="0" lang="es-CL" sz="2400" spc="-1" strike="noStrike" u="sng">
                <a:solidFill>
                  <a:srgbClr val="000000"/>
                </a:solidFill>
                <a:uFillTx/>
                <a:latin typeface="Arial"/>
              </a:rPr>
              <a:t>implementarse</a:t>
            </a:r>
            <a:r>
              <a:rPr b="0" lang="es-CL" sz="2400" spc="-1" strike="noStrike">
                <a:solidFill>
                  <a:srgbClr val="000000"/>
                </a:solidFill>
                <a:latin typeface="Arial"/>
              </a:rPr>
              <a:t> con ganancias esperadas se presume </a:t>
            </a:r>
            <a:r>
              <a:rPr b="0" lang="es-CL" sz="2400" spc="-1" strike="noStrike" u="sng">
                <a:solidFill>
                  <a:srgbClr val="000000"/>
                </a:solidFill>
                <a:uFillTx/>
                <a:latin typeface="Arial"/>
              </a:rPr>
              <a:t>efici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una reforma no basta que haya triángulos de pérdida de bienestar</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ser factible</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sistencia legítima puede ser superada en una forma costo-efectiva (compensación sin costo a los perdedores no es fact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MPRESA</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compleja combinación de dimension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opera y es responsable como un agente  respecto a la transferencia de derech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ómicas: descansa en un complejo conjunto de arreglos contractuales coordinados por una jerarquí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ciales: define un espacio en el cual las motivaciones van mucho más allá de incentivos monetario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visiones, en común la importancia de derechos de propieda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es una red de contratos y de activos específico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qué algunas tienen más poder que otras en dirigir recursos?</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 una estructura jerárquica basada en relaciones asimétrica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ál es la fuente de esta asimetría?</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oridad es la voluntad y la capacidad de los individuos de someterse a la necesidad de sistemas cooperativos (Barnard)</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ón de una organización formal (Barnard, 1938)</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 sistema de actividades o fuerzas personales coordinadas conscientemente, cuya eficiencia depende de</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unica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posición a servi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s compartido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supervisores a cargo de implementar el sistema son el corazón de la empresa y su función caracteriza la relación laboral (relaciones de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entajas del control y comando</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lexibilidad al dar a los supervisores la capacidad de evaluar la adecuación de las acciones a las órdenes y el derecho a reorganizar las tareas, sin renegociar los contratos ni usar el sistema de precios. En este sentido la coordinación central puede ser más rápida que la adaptación descentralizada</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vee herramientas poderosas para restringir el oportunismo a través de las interacciones entre los distintos niveles gerenciale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ede permitir realizar experimentos controlados para aprender a organizar los activos más efectivamente</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ermite resolver controversias sin el tiempo y los costos que tendría el arbitraje por tercero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 interno vía auditor a menudo es superior al control externo respecto a la capacidad de recoger y procesar información relevante y a la posibilidad de proveer las adaptaciones necesari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SVENTAJAS DEL CONTROL</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excluir a los no propietarios del uso de los recursos como una limitación mayor del control en las grandes corporaciones (Demsetz)</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ueños de activos físicos están tan preocupados por controlar su uso como controlar las utilidades residuales (Hansman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sibilidad de replicar al interior de la empresa los poderosos incentivos del mercado (William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ividades de influencia entre los geren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érdida de información a través de las líneas verticales de transmisión en organizaciones jerárqu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OPERACIÓ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de los agentes a combinar recursos aún cuando no pueden evaluar los beneficios esperados o incluso si no hay beneficios espera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rtancia del clima como una fuente de eficiencia (Williamson, 1987, Arrow, 1974)</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omías de escala en la adquisición de informació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iesgo compartido en el grupo cuando se enfrenta contingencias no anticipada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tigación de selección adversa y riesgo mor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productividad debido a un sentido más desarrollado de la responsab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ÍMITES Y COSTOS DE LA COOPERACIÓN</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ategia de free rider a través de la selección de miembros (ex ante) y conducta maliciosa una vez seleccionado (ex p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cisiones colectivas que pueden reducir las ventajas del com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 a colusión y desarrollar “side-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to de costo de procesar información y comuni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Y COMUNICACIÓN</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as empresas superan a los mercados para organizar ciertas transacciones debe haber ventajas de información de la integración</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n desarrollar rutinas que hacen posible codificar información, reduciendo los costos intern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sarrollo de un lenguaje común provee una base eficiente para compartir conocimie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jerarquía introduce filtros que reducen el número de mensajes circuland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mbinación de recursos humanos extiende las capacidades de los individuos para absorber información y la reasignación de tareas a través del comando provee medios para procesar la información y transformarla en acción rápidamen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uidos de información pueden proveer una racionalidad para los límites de la empre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o más partes ponen en común recursos: coordinación entre empresa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 incapaz de conjugar los recursos y capac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gración reduce la flexibilidad, produce irreversibilidades y atenúa los incentiv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 la cooperación para alcanzar coordinación sin perder la ventaja de decisiones descentralizada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ato relacional</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identidad de las partes importa, se crea un marco para la reciprocidad transaccion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s: mayor market share, transferencia de competencias y acceso a recursos escasos (ej. Financiamien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esgos: revisiones no anticipadas, particularmente cuando inversión específica apoya procesos y productos muy inciertos o apuntan a demanda volatil (ej. Alianzas de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se contratos relacionales minimizando las renegoci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IBUCIONES CLA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emplaza supuesto de mercados sin fricciones y una teoría derivada de la física Newtoniana incorporando</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itu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 de transacció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conomía polític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ertidumbre</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debe ocupar un modelo estático para recomendaciones de política en un mundo dinámico de camb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 2</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etenc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unque cooperan en algunos temas, los socios compiten entre sí (por ejemplo I&amp;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íbridos en general compiten con otros arreglos incluyendo otros híbridos. Si las inversiones son moderadamente específicas, los socios pueden tentarse de cambiar de arreglo, haciendo al arreglo particularmente ines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mejor mecanismo para las decisiones comunes, disciplinando a los socios, resolviendo los conflictos y previniendo el free-rid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ACTORES DE INCERTIDUMBR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ertidumbre con los insum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n-observabilities en recursos o servicios transados o en cadenas de suministro, dificultades en la coordinación de insumos (construcción), o de proveedores externos que no están comprometidos con el acuerd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los product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que no cumplan el estándar, mal ajuste a las preferencias de los consumidores, o falta de flexibilidad para adaptarse a demandas cambiant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so de transformació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recursos en el acuerdo pueden traslaparse con actividades excluidas del acuerdo haciendo al control y la planificación más inciertas, tecnologías complejas y habilidades humanas pueden estar involucradas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finición de reglas para distribuir rentas o enfrentar costos inesperados se convierte en una fuente potencial de confli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frentados a incertidumbre los híbridos deben combinar</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aptación, para proveer ajustes flexi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en orden a reducir las discrepancias entre insumos, productos o calidad en el proceso mis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alvaguardias, para prevenir las conductas oportunistas que la incertidumbre hace difícil detect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ntensidad de la necesidad de estos tres factores es un buen predictor del grado de centralización de la estructura de gover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Qué estructura de governance?</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alvaguardias contractu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ormas de govern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gulatorios o “Author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socios transfieren subclases de decisiones que coordinan sus acciones: intencionalidad y mutualidad</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s cerca del mercado, los híbridos descansan primordialmente en confianza (trus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otro extremo se parecen más a la integración, con entidades coordinadoras cuasi-autónoma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 ambos formas más suaves de autoridad que pueden estar basadas en liderazgo o redes rela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MERCAD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entras la aproximación de North explora las instituciones que requieren los mercados para desarrollarse y ser efici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iciada por Coase y Williamson más bien enfatiza por qué utilizar los mercados para intercambiar derechos puede ser tan costoso que otros arreglos son prefer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SE ACEPTA LA IMPORTANCIA DE LOS PRECIOS PERO</a:t>
            </a:r>
            <a:endParaRPr b="0" lang="en-US" sz="3600" spc="-1" strike="noStrike">
              <a:solidFill>
                <a:srgbClr val="000000"/>
              </a:solidFill>
              <a:latin typeface="Arial"/>
            </a:endParaRPr>
          </a:p>
        </p:txBody>
      </p:sp>
      <p:sp>
        <p:nvSpPr>
          <p:cNvPr id="14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mercados no son estructuras puras, sino que deben ser analizadas considerando los factores institucionales que los defin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los precios no coordinan sino que envían señales a quienes coordin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recios no son señales a las que los agentes se adapten pas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n ser estudiados en relación a los modos alternativos de organización con los que interactú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S MERCADOS PUEDEN TENER UNA VARIEDAD DE FORMAS</a:t>
            </a: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tan una variedad de soportes institucionales para existir y desarrollar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políticos, soci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organización de mercado depende críticamente en los mecanismos de enforcemen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égimen legal sobre derechos de propiedad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como enforcer de derechos de propieda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variedad de soportes institucionales tiene un impacto significativo en los costos y beneficios de usarl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os mercados las relaciones personales tienen una importancia particular para determinar qué transacciones serán posib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edad de mecanismos involucrados en la formación de precios (negociaciones, licitacion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STOS DE USAR EL MERCADO</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recolectar información acerca de los bienes y servicios a ser transado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s de medición de los bienes a ser intercambiados</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intermediarios, sistemas de garantías, obligación de homogeneizar información para facilitar la comparación</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queridos para identificar y juntar a compradores y vendedores potenciale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artes operando en mercados extensivos necesitan elaborados sistemas para identificar con quien quieren hacer negoc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ontratos son uno de los dispositivos que permiten a los mercados existir: en realidad hay poco más que esto en que las partes puedan confi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ESPECIFICIDAD DE LOS CONTRATOS DE MERCADO</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énfasis está en reglas legales, documentos formales y transacciones que se autoliquid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dentidad de las partes tiene poca releva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jores alternativas en el mercado es central para impedir el oportunism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además, como los mercados no son perfectos, son necesarias salvaguardias adicional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Hostage clauses”, terceras partes como cortes y árbitros, y mecanismos informales como la repu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ROL DEL SISTEMA LEGAL</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dfield, Rub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que los mercados operen se requieren 3 funciones que deben desempeñar los sistemas legales, relacionadas con los derechos de propie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derechos de propiedad (property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ermitir la transferencia de estos derechos (Contract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roteger los derechos de propiedad (Tort law y criminal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rden exposició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ncepto de costos de transacción (Coase, No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conomía de los costos de transacción (William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AS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son transferibles y los costos de transacción no son muy altos, la definición de los derechos de propiedad no es importante porque las partes pueden intercambiar derechos de tal modo de moverse a sus usos más valua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as circunstancias, para facilitar el intercambio cuando la información asimétrica es importante, los derechos deben ser divididos para alentar a las partes a revelar su verdadera valoración (Johnson, 1995, Ayres y Talley, 2995, Schmitz, 20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los costos de transacción son altos por lo que la reasignación no está garantiza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falta de claridad en los derechos de propiedad afecta tanto la eficiencia de las transacciones como el uso de recursos (ejemplo Rusia, los dueños no son los que contro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RECHO DE PROPIEDAD Y EL IMPERIO DE LA LEY</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de propiedad no son bien protegi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nor inversión por retornos incier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edación” de los otros (delincuencia, políticos corrup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otegerse contra los predado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inversión en recursos menos productivos pero fácilmente protegibles (oro vs empres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de “rule of law” es proteger a los miembros de la sociedad de la “predación por el sobera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ien documentada evidencia tanto de series de tiempo como corte transvers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RIVADAS PARA PROTEGER EL DERECHO DE PROPIEDAD</a:t>
            </a:r>
            <a:endParaRPr b="0" lang="en-US" sz="3200" spc="-1" strike="noStrike">
              <a:solidFill>
                <a:srgbClr val="000000"/>
              </a:solidFill>
              <a:latin typeface="Arial"/>
            </a:endParaRPr>
          </a:p>
        </p:txBody>
      </p:sp>
      <p:sp>
        <p:nvSpPr>
          <p:cNvPr id="15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ayor costo del oportunismo cuando no puede ser prevenido en forma eficaz no es el costo del engaño ni de las precauciones que se deban tomar para impedirlo sino la pérdida de valor social por la no realización de negocios que de otra manera habrían sido atractivos</a:t>
            </a: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canismos disponibles para prevenir el oportunismo en ausencia de cor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ilaterales: inversión en reputación (que se pierde al engaña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ción de acuerdos “self-enforcing” (juego repetido)</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aciones verticales entre manufactureras y comercializadores (establecimientos de precio mínimo o máximo, exclusividad, etc.)</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Ofrecimiento de rehenes” (ej. Colateral depositado con un externo)</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bitraj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canismos multilaterales (ej. Trade associ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LGUNAS LECCION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erkowitz et al. (2003): la legalidad (enforcement e instituciones legales efectivas) es el factor más importante para el desarrollo económico. Leyes “trasplantadas” pueden llevar a mayor ineficiencia que baja legalidad, si el país no es adecuado para la le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viduos poderosos pueden oponerse a los cambios legal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instituciones son difíciles de cambiar por lo que las sugerencias para política son limitad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doptar o fortalecer instituciones que protejan derecho de propie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s posible adoptar más instituciones de “common law” que de “code law” (controversia sobre esto) y competencia entre sistemas legales para promover eficienci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mitir arbitraje y que las cortes lo “enforc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transacción </a:t>
            </a:r>
            <a:r>
              <a:rPr b="0" lang="es-CL" sz="2800" spc="-1" strike="noStrike">
                <a:solidFill>
                  <a:srgbClr val="000000"/>
                </a:solidFill>
                <a:latin typeface="Arial"/>
              </a:rPr>
              <a:t>(Coase, 1932)</a:t>
            </a:r>
            <a:endParaRPr b="0" lang="en-US" sz="2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costos de usar el mecanismo de pre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ecios deben ser descubierto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emprender ciertas negocia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os contrat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as inspec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acordar sistemas de resolución de controversia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la empresa, la asignación de recursos se produce por decisiones administrativas, para evitar los costos de usar el merca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empresa solo sobrevivirá si puede realizar su función de coordinación más eficientemente que a través de transacciones de mercado o que otras empre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costos de transacción no sólo afectan los arreglos contractuales sino también qué bienes y servicios son producidos</a:t>
            </a:r>
            <a:endParaRPr b="0" lang="en-US" sz="3200" spc="-1" strike="noStrike">
              <a:solidFill>
                <a:srgbClr val="000000"/>
              </a:solidFill>
              <a:latin typeface="Arial"/>
            </a:endParaRPr>
          </a:p>
        </p:txBody>
      </p:sp>
      <p:sp>
        <p:nvSpPr>
          <p:cNvPr id="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resarios al decidir sobre su forma de hacer negocios y qué producir deben considerar los costos de transac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os costos de realizar un intercambio son mayores que sus beneficios, el intercambio no se producirá, y la mayor producción que se obtendría de la mayor especialización no ocurrir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ayor beneficio del dinero es una disminución de los costos de transa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 que es transado en el mercado no son, como los economistas normalmente suponen, entidades físicas</a:t>
            </a:r>
            <a:endParaRPr b="0" lang="en-US" sz="3200" spc="-1" strike="noStrike">
              <a:solidFill>
                <a:srgbClr val="000000"/>
              </a:solidFill>
              <a:latin typeface="Arial"/>
            </a:endParaRPr>
          </a:p>
        </p:txBody>
      </p:sp>
      <p:sp>
        <p:nvSpPr>
          <p:cNvPr id="61"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se transa realmente son “derechos” de realizar ciertas accio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rechos que los individuos tienen son establecidos por el sistema leg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seable que los derechos sean asignados a quienes pueden usarlos más productivamente y con incentivos que los llevan a hace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aridad en la ley y requerimientos legales sobre las transferencias de derechos poco onero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dad de un sistema de derechos de propiedad y enforcement aprop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conomía de los costos de transacción (ECT)</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aradigma dominante es el de la teoría de la elección, que estudia como las cantidades son afectadas por cambios en los precios relativos</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ecesidad de desarrollar una ciencia del contrato:</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úblico: la política es una estructura de intercambio compleja entre individuos, una estructura donde las personas tratan de obtener colectivamente sus objetivos privados que no pueden asegurar eficientemente mediante el mercado (Buchan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rivado: esfuerzos de las partes que convergen en una transacción para alinear los incentivos y generar las estructuras de “governance” que son más adecuadas a sus necesidades de intercambio (William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contrato es la unidad básica</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unidad de análisis es el contrato, que contiene en sí mismo los tres principios de conflicto, mutualidad y orden (Comm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overnance es el medio por el cual se introduce </a:t>
            </a:r>
            <a:r>
              <a:rPr b="0" lang="es-CL" sz="2800" spc="-1" strike="noStrike" u="sng">
                <a:solidFill>
                  <a:srgbClr val="000000"/>
                </a:solidFill>
                <a:uFillTx/>
                <a:latin typeface="Arial"/>
              </a:rPr>
              <a:t>orden</a:t>
            </a:r>
            <a:r>
              <a:rPr b="0" lang="es-CL" sz="2800" spc="-1" strike="noStrike">
                <a:solidFill>
                  <a:srgbClr val="000000"/>
                </a:solidFill>
                <a:latin typeface="Arial"/>
              </a:rPr>
              <a:t>, mitigando así el </a:t>
            </a:r>
            <a:r>
              <a:rPr b="0" lang="es-CL" sz="2800" spc="-1" strike="noStrike" u="sng">
                <a:solidFill>
                  <a:srgbClr val="000000"/>
                </a:solidFill>
                <a:uFillTx/>
                <a:latin typeface="Arial"/>
              </a:rPr>
              <a:t>conflicto</a:t>
            </a:r>
            <a:r>
              <a:rPr b="0" lang="es-CL" sz="2800" spc="-1" strike="noStrike">
                <a:solidFill>
                  <a:srgbClr val="000000"/>
                </a:solidFill>
                <a:latin typeface="Arial"/>
              </a:rPr>
              <a:t> y realizando el </a:t>
            </a:r>
            <a:r>
              <a:rPr b="0" lang="es-CL" sz="2800" spc="-1" strike="noStrike" u="sng">
                <a:solidFill>
                  <a:srgbClr val="000000"/>
                </a:solidFill>
                <a:uFillTx/>
                <a:latin typeface="Arial"/>
              </a:rPr>
              <a:t>beneficio mutu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úmero pequeño de participantes a cada lado de la transacción</a:t>
            </a:r>
            <a:endParaRPr b="0" lang="en-US" sz="2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co es en develar y explicar los “strategic hazards” que plantea esta situación en un contexto de contratos incompletos y desarrollo costo-efectivo de “governance” para mitigar estos “hazard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23:58:46Z</dcterms:created>
  <dc:creator>Pablo González</dc:creator>
  <dc:description/>
  <dc:language>en-US</dc:language>
  <cp:lastModifiedBy>pabloa.gonzalez</cp:lastModifiedBy>
  <dcterms:modified xsi:type="dcterms:W3CDTF">2007-10-03T14:24:01Z</dcterms:modified>
  <cp:revision>31</cp:revision>
  <dc:subject/>
  <dc:title>ECONOMIA DE LAS INSTITU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19425111</vt:r8>
  </property>
  <property fmtid="{D5CDD505-2E9C-101B-9397-08002B2CF9AE}" pid="3" name="_AuthorEmail">
    <vt:lpwstr>pabloa.gonzalez@undp.org</vt:lpwstr>
  </property>
  <property fmtid="{D5CDD505-2E9C-101B-9397-08002B2CF9AE}" pid="4" name="_AuthorEmailDisplayName">
    <vt:lpwstr>Pablo González</vt:lpwstr>
  </property>
  <property fmtid="{D5CDD505-2E9C-101B-9397-08002B2CF9AE}" pid="5" name="_EmailSubject">
    <vt:lpwstr>Economía de las instituciones</vt:lpwstr>
  </property>
</Properties>
</file>