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8E87A-2BE3-40A3-81F3-FAD60CA0EF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costos de transacción aumentan al aumentar los activos específicos y la incertidumbre y bajan con la frecu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lgunos incorporan apropiabilidad como variable (desde perspectiva de derechos de propi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 difícil medir los costos de transacción. Williamson (1985) propone el “discrete alignment principle”: agentes calculadores operando en un ambiente competitivo elegirán el modo de organización que mejor se ajuste con los atributos de la transacción. Con esto los estudios empíricos pueden evitar medir directamente costos de transacción y concentrarse en la forma de organización como variable dependiente, en comparación a otras no elegidas, que no habrían minimizado los costos de transacció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híbridos coordinados por un líder dejan poco margen para la autonomía pero alguna simetría se mantiene. La subcontratación, particularmente con relaciones contractuales de largo plazo, o alianzas relacionadas con I&amp;D suelen ser de este tipo (Eccles, 1981, Pisano, 1990, Powell, 1996).</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rbitraje: parties rely on a non-judicial third party to resolve a dispute, and the parties agree that the decision of the arbitrator will be bi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entaj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uchos árbitros son expertos en la industria relevante, con lo que los costos de informar al tomador de decisión acerca de las circunstancias de la controversia se minimiz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mo las partes pagan por el arbitraje, hay mucho más flexibilidad en ésta que en las cortes. Por ejemplo, si el tiempo es importante, pueden pagar más para tener un fallo rápi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artes pueden elegir la ley que regirá sobre la controvers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i las decisiones de los árbitros quedan por escrito bien fundamentadas, entonces pueden servir de precedente e incluso alimentar mejoramientos lega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ímite al arbitraje: la parte desfavorecida tiene incentivos a ignorarlo. Importancia que las cortes enforce la decisión del árbitro, de lo contrario sólo queda el disuasivo del efecto reputación.</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ara poder especializarse los agentes necesitan transferir derechos sobre los bienes y servicios que controlan Hay varias formas de organizar las transacciones, todas costosas, por lo que sus ventajas relativas solo pueden evaluarse comparativamen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FD2E2-541D-4900-B69F-FDD749E78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67CBD-91B7-468B-B0E6-A53994E90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9E49E-906A-402C-868F-F45D67104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CC798-A183-46AA-B4C7-E22385B2C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7D334-D365-4890-B814-EAE733D4C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3053C-277A-4555-AD73-DC6352F5B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18FB6-D3BE-41CC-A44E-2893D8C38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4C578-D45B-4F01-B080-D60FB9EA9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70068-203F-419A-9409-46B3A20EE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B403F-72A0-4C50-8440-226466519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E84F3-E3AA-4C94-B9C8-4FB353FED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BEE54-F036-4D9B-AE54-3DC7FABA8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E142A-AC40-4246-86DD-C147991200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CONOMIA DE LAS INSTITUCION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Basado en Coase-North-Williamson-Men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66" name=""/>
          <p:cNvCxnSpPr/>
          <p:nvPr/>
        </p:nvCxnSpPr>
        <p:spPr>
          <a:xfrm flipV="1">
            <a:off x="1142640" y="685080"/>
            <a:ext cx="1677240" cy="2134440"/>
          </a:xfrm>
          <a:prstGeom prst="straightConnector1">
            <a:avLst/>
          </a:prstGeom>
          <a:ln w="9360">
            <a:solidFill>
              <a:srgbClr val="000000"/>
            </a:solidFill>
            <a:miter/>
          </a:ln>
        </p:spPr>
      </p:cxnSp>
      <p:cxnSp>
        <p:nvCxnSpPr>
          <p:cNvPr id="67" name=""/>
          <p:cNvCxnSpPr/>
          <p:nvPr/>
        </p:nvCxnSpPr>
        <p:spPr>
          <a:xfrm flipV="1">
            <a:off x="2743200" y="1219320"/>
            <a:ext cx="2363040" cy="2667240"/>
          </a:xfrm>
          <a:prstGeom prst="straightConnector1">
            <a:avLst/>
          </a:prstGeom>
          <a:ln w="9360">
            <a:solidFill>
              <a:srgbClr val="000000"/>
            </a:solidFill>
            <a:miter/>
          </a:ln>
        </p:spPr>
      </p:cxnSp>
      <p:cxnSp>
        <p:nvCxnSpPr>
          <p:cNvPr id="68" name=""/>
          <p:cNvCxnSpPr/>
          <p:nvPr/>
        </p:nvCxnSpPr>
        <p:spPr>
          <a:xfrm flipV="1">
            <a:off x="4571640" y="2819160"/>
            <a:ext cx="2057760" cy="2286720"/>
          </a:xfrm>
          <a:prstGeom prst="straightConnector1">
            <a:avLst/>
          </a:prstGeom>
          <a:ln w="9360">
            <a:solidFill>
              <a:srgbClr val="000000"/>
            </a:solidFill>
            <a:miter/>
          </a:ln>
        </p:spPr>
      </p:cxnSp>
      <p:cxnSp>
        <p:nvCxnSpPr>
          <p:cNvPr id="69" name=""/>
          <p:cNvCxnSpPr/>
          <p:nvPr/>
        </p:nvCxnSpPr>
        <p:spPr>
          <a:xfrm>
            <a:off x="1143000" y="2819520"/>
            <a:ext cx="5487120" cy="3658320"/>
          </a:xfrm>
          <a:prstGeom prst="straightConnector1">
            <a:avLst/>
          </a:prstGeom>
          <a:ln w="9360">
            <a:solidFill>
              <a:srgbClr val="000000"/>
            </a:solidFill>
            <a:miter/>
          </a:ln>
        </p:spPr>
      </p:cxnSp>
      <p:sp>
        <p:nvSpPr>
          <p:cNvPr id="70" name=""/>
          <p:cNvSpPr/>
          <p:nvPr/>
        </p:nvSpPr>
        <p:spPr>
          <a:xfrm>
            <a:off x="6553080" y="62485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post governance</a:t>
            </a:r>
            <a:endParaRPr b="0" lang="en-US" sz="1800" spc="-1" strike="noStrike">
              <a:solidFill>
                <a:srgbClr val="000000"/>
              </a:solidFill>
              <a:latin typeface="Arial"/>
            </a:endParaRPr>
          </a:p>
        </p:txBody>
      </p:sp>
      <p:sp>
        <p:nvSpPr>
          <p:cNvPr id="71" name=""/>
          <p:cNvSpPr/>
          <p:nvPr/>
        </p:nvSpPr>
        <p:spPr>
          <a:xfrm>
            <a:off x="6629400" y="228600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ineamiento de incentivos exante</a:t>
            </a:r>
            <a:endParaRPr b="0" lang="en-US" sz="1800" spc="-1" strike="noStrike">
              <a:solidFill>
                <a:srgbClr val="000000"/>
              </a:solidFill>
              <a:latin typeface="Arial"/>
            </a:endParaRPr>
          </a:p>
        </p:txBody>
      </p:sp>
      <p:sp>
        <p:nvSpPr>
          <p:cNvPr id="72" name=""/>
          <p:cNvSpPr/>
          <p:nvPr/>
        </p:nvSpPr>
        <p:spPr>
          <a:xfrm>
            <a:off x="5105520" y="9144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onomía constitucional</a:t>
            </a:r>
            <a:endParaRPr b="0" lang="en-US" sz="1800" spc="-1" strike="noStrike">
              <a:solidFill>
                <a:srgbClr val="000000"/>
              </a:solidFill>
              <a:latin typeface="Arial"/>
            </a:endParaRPr>
          </a:p>
        </p:txBody>
      </p:sp>
      <p:sp>
        <p:nvSpPr>
          <p:cNvPr id="73" name=""/>
          <p:cNvSpPr/>
          <p:nvPr/>
        </p:nvSpPr>
        <p:spPr>
          <a:xfrm>
            <a:off x="2514600" y="228600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rdenamiento público</a:t>
            </a:r>
            <a:endParaRPr b="0" lang="en-US" sz="1800" spc="-1" strike="noStrike">
              <a:solidFill>
                <a:srgbClr val="000000"/>
              </a:solidFill>
              <a:latin typeface="Arial"/>
            </a:endParaRPr>
          </a:p>
        </p:txBody>
      </p:sp>
      <p:sp>
        <p:nvSpPr>
          <p:cNvPr id="74" name=""/>
          <p:cNvSpPr/>
          <p:nvPr/>
        </p:nvSpPr>
        <p:spPr>
          <a:xfrm>
            <a:off x="2438280" y="434340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rdenamiento privado</a:t>
            </a:r>
            <a:endParaRPr b="0" lang="en-US" sz="1800" spc="-1" strike="noStrike">
              <a:solidFill>
                <a:srgbClr val="000000"/>
              </a:solidFill>
              <a:latin typeface="Arial"/>
            </a:endParaRPr>
          </a:p>
        </p:txBody>
      </p:sp>
      <p:sp>
        <p:nvSpPr>
          <p:cNvPr id="75" name=""/>
          <p:cNvSpPr/>
          <p:nvPr/>
        </p:nvSpPr>
        <p:spPr>
          <a:xfrm>
            <a:off x="0" y="24382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onomía</a:t>
            </a:r>
            <a:endParaRPr b="0" lang="en-US" sz="1800" spc="-1" strike="noStrike">
              <a:solidFill>
                <a:srgbClr val="000000"/>
              </a:solidFill>
              <a:latin typeface="Arial"/>
            </a:endParaRPr>
          </a:p>
        </p:txBody>
      </p:sp>
      <p:sp>
        <p:nvSpPr>
          <p:cNvPr id="76" name=""/>
          <p:cNvSpPr/>
          <p:nvPr/>
        </p:nvSpPr>
        <p:spPr>
          <a:xfrm>
            <a:off x="2743200" y="228600"/>
            <a:ext cx="2590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rtodoxia: recursos escasos y asignación de recursos</a:t>
            </a:r>
            <a:endParaRPr b="0" lang="en-US" sz="1800" spc="-1" strike="noStrike">
              <a:solidFill>
                <a:srgbClr val="000000"/>
              </a:solidFill>
              <a:latin typeface="Arial"/>
            </a:endParaRPr>
          </a:p>
        </p:txBody>
      </p:sp>
      <p:sp>
        <p:nvSpPr>
          <p:cNvPr id="77" name=""/>
          <p:cNvSpPr/>
          <p:nvPr/>
        </p:nvSpPr>
        <p:spPr>
          <a:xfrm>
            <a:off x="533520" y="99072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encias de la elección</a:t>
            </a:r>
            <a:endParaRPr b="0" lang="en-US" sz="1800" spc="-1" strike="noStrike">
              <a:solidFill>
                <a:srgbClr val="000000"/>
              </a:solidFill>
              <a:latin typeface="Arial"/>
            </a:endParaRPr>
          </a:p>
        </p:txBody>
      </p:sp>
      <p:sp>
        <p:nvSpPr>
          <p:cNvPr id="78" name=""/>
          <p:cNvSpPr/>
          <p:nvPr/>
        </p:nvSpPr>
        <p:spPr>
          <a:xfrm>
            <a:off x="762120" y="3505320"/>
            <a:ext cx="1447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encias del contrato</a:t>
            </a:r>
            <a:endParaRPr b="0" lang="en-US" sz="1800" spc="-1" strike="noStrike">
              <a:solidFill>
                <a:srgbClr val="000000"/>
              </a:solidFill>
              <a:latin typeface="Arial"/>
            </a:endParaRPr>
          </a:p>
        </p:txBody>
      </p:sp>
      <p:sp>
        <p:nvSpPr>
          <p:cNvPr id="79" name=""/>
          <p:cNvSpPr/>
          <p:nvPr/>
        </p:nvSpPr>
        <p:spPr>
          <a:xfrm>
            <a:off x="6934320" y="2895480"/>
            <a:ext cx="205740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iseño de mecanismo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eoría de agenci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recho de propiedad formal</a:t>
            </a:r>
            <a:endParaRPr b="0" lang="en-US" sz="1200" spc="-1" strike="noStrike">
              <a:solidFill>
                <a:srgbClr val="000000"/>
              </a:solidFill>
              <a:latin typeface="Arial"/>
            </a:endParaRPr>
          </a:p>
        </p:txBody>
      </p:sp>
      <p:sp>
        <p:nvSpPr>
          <p:cNvPr id="80" name=""/>
          <p:cNvSpPr/>
          <p:nvPr/>
        </p:nvSpPr>
        <p:spPr>
          <a:xfrm>
            <a:off x="7010280" y="5334120"/>
            <a:ext cx="17528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mplementación del contrato (donde aparecen los problemas de mala adapt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l problema central es mala adaptación</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literatura formal de alineamiento de incentivos hace irrelevante el tema de expost governance, por ejemplo a través del supuesto de common knowledge of payoffs y negociación sin cos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ambién ECT hace supuestos fuertes que pueden hacer irrelevante la etapa de alinear incentivos exante: por ejemplo neutralidad al ries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TRATO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acionalidad limitada</a:t>
            </a:r>
            <a:endParaRPr b="0" lang="en-US" sz="24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los contratos complejos son inevitablemente incompleto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gentes no son miopes sino que tienen la capacidad de mirar hacia delante, descubrir posibles </a:t>
            </a:r>
            <a:r>
              <a:rPr b="0" i="1" lang="es-CL" sz="1600" spc="-1" strike="noStrike">
                <a:solidFill>
                  <a:srgbClr val="000000"/>
                </a:solidFill>
                <a:latin typeface="Arial"/>
              </a:rPr>
              <a:t>hazards</a:t>
            </a:r>
            <a:r>
              <a:rPr b="0" lang="es-CL" sz="1600" spc="-1" strike="noStrike">
                <a:solidFill>
                  <a:srgbClr val="000000"/>
                </a:solidFill>
                <a:latin typeface="Arial"/>
              </a:rPr>
              <a:t> y trabajar las ramificaciones contractual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portunismo, aunque la mayoría de la gente hace lo que dice y muchos incluso más</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mensiones relevantes de las transacciones</a:t>
            </a:r>
            <a:endParaRPr b="0" lang="en-US" sz="24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ctivos específicos (medida de nonredeployability): crean dependencia bilateral</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sturbances que las afectan (que producen maladaptaciones): incertidumbre puede provocar desalineamiento de los contratos incompleto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recuencia (efecto reputación e incentivo a incurrir en costo de governance interna especializad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pósito: </a:t>
            </a:r>
            <a:r>
              <a:rPr b="0" lang="es-CL" sz="1600" spc="-1" strike="noStrike">
                <a:solidFill>
                  <a:srgbClr val="000000"/>
                </a:solidFill>
                <a:latin typeface="Arial"/>
              </a:rPr>
              <a:t>la adaptación es el problema crucial de la organización económica</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utónomas: individuos responden a oportunidades de mercado</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operativas: coordinada entre agentes a través de la administración (jerarquía)</a:t>
            </a:r>
            <a:endParaRPr b="0" lang="en-US" sz="1600" spc="-1" strike="noStrike">
              <a:solidFill>
                <a:srgbClr val="000000"/>
              </a:solidFill>
              <a:latin typeface="Arial"/>
            </a:endParaRPr>
          </a:p>
          <a:p>
            <a:pPr lvl="4" marL="2057400" indent="-228600">
              <a:lnSpc>
                <a:spcPct val="90000"/>
              </a:lnSpc>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sistemas económicos exitosos exhibirán capacidades adaptativas de ambos tip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TRATOS: Estructuras de governance</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mpresa como estructura de governance no como función de produc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ganancias del intercambio son realizadas moviéndose a la curva de contrato</a:t>
            </a:r>
            <a:endParaRPr b="0" lang="en-US" sz="20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ero cómo es esto realizado si los contratos complejos son incompletos y son implementados en el tiempo frente a disturbances para las cuales no se hicieron contingencias o se hicieron mal?</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rear estructuras de governance adecuadas para los hazards y que ayudan a las partes a restaurar eficiencia (volver a la curva de contrato) es más importantes que alinear los incentivos exante</a:t>
            </a: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ributos que las describen</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ensidad de incentiv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troles administrativ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égimen de contrato legal</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ributos de los modos genéricos de governance</a:t>
            </a:r>
            <a:endParaRPr b="0" lang="en-US" sz="4000" spc="-1" strike="noStrike">
              <a:solidFill>
                <a:srgbClr val="000000"/>
              </a:solidFill>
              <a:latin typeface="Arial"/>
            </a:endParaRPr>
          </a:p>
        </p:txBody>
      </p:sp>
      <p:graphicFrame>
        <p:nvGraphicFramePr>
          <p:cNvPr id="88" name=""/>
          <p:cNvGraphicFramePr/>
          <p:nvPr/>
        </p:nvGraphicFramePr>
        <p:xfrm>
          <a:off x="457200" y="2133720"/>
          <a:ext cx="8229600" cy="3992400"/>
        </p:xfrm>
        <a:graphic>
          <a:graphicData uri="http://schemas.openxmlformats.org/drawingml/2006/table">
            <a:tbl>
              <a:tblPr/>
              <a:tblGrid>
                <a:gridCol w="2438280"/>
                <a:gridCol w="1981440"/>
                <a:gridCol w="1752480"/>
                <a:gridCol w="2057400"/>
              </a:tblGrid>
              <a:tr h="998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rcad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íbrid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Jerarquí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centivo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to-po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ntermedio</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ajo-poder</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8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trol administrativ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ulo</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go</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ucho</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6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égimen leg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egalista</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to</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mpresa (fiat)</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ROBLEMA PARADIGMÁTICO: INTEGRACIÓN VERTICAL</a:t>
            </a:r>
            <a:endParaRPr b="0" lang="en-US" sz="32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ducirlo o comprarl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qué existen las empresas? ¿Por qué no “comprar” en vez de “produc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y un costo de usar el mecanismo de precios que es el descubrir cuáles son los precios relevan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procurarlo dentro de la empresa reduce los costos de descubrir los preci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asta la información contable de costos para transferir un bien o servicio de una etapa interna a otr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ero esto también se puede acordar con un proveedor externo, por ejemplo comprarle siempre a costo plu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sto de producirlo en dos firmas autónomas mayor que en una so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FECTO DE LA ESPECIFICIDAD DE LOS ACTIVO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k) costo de organizar las transacciones en un mercado es una función creciente de la especificidad de los activos, 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an X(k) y H(k) los costos de organizar las transacciones en modos híbridos de contrato y en jerarquía respectivamen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0) &lt; X(0) &lt; H(0)</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 &gt; X’ &gt; H’ </a:t>
            </a:r>
            <a:r>
              <a:rPr b="0" lang="es-CL" sz="2800" spc="-1" strike="noStrike">
                <a:solidFill>
                  <a:srgbClr val="000000"/>
                </a:solidFill>
                <a:latin typeface="Arial"/>
                <a:ea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odo de governance con menor costo será el mercado para k </a:t>
            </a:r>
            <a:r>
              <a:rPr b="0" lang="es-CL" sz="2800" spc="-1" strike="noStrike">
                <a:solidFill>
                  <a:srgbClr val="000000"/>
                </a:solidFill>
                <a:latin typeface="Arial"/>
                <a:ea typeface="Arial"/>
              </a:rPr>
              <a:t>≤ k</a:t>
            </a:r>
            <a:r>
              <a:rPr b="0" lang="es-CL" sz="2800" spc="-1" strike="noStrike" baseline="-25000">
                <a:solidFill>
                  <a:srgbClr val="000000"/>
                </a:solidFill>
                <a:latin typeface="Arial"/>
                <a:ea typeface="Arial"/>
              </a:rPr>
              <a:t>1</a:t>
            </a:r>
            <a:r>
              <a:rPr b="0" lang="es-CL" sz="2800" spc="-1" strike="noStrike">
                <a:solidFill>
                  <a:srgbClr val="000000"/>
                </a:solidFill>
                <a:latin typeface="Arial"/>
                <a:ea typeface="Arial"/>
              </a:rPr>
              <a:t>, X para k</a:t>
            </a:r>
            <a:r>
              <a:rPr b="0" lang="es-CL" sz="2800" spc="-1" strike="noStrike" baseline="-25000">
                <a:solidFill>
                  <a:srgbClr val="000000"/>
                </a:solidFill>
                <a:latin typeface="Arial"/>
                <a:ea typeface="Arial"/>
              </a:rPr>
              <a:t>1</a:t>
            </a:r>
            <a:r>
              <a:rPr b="0" lang="es-CL" sz="2800" spc="-1" strike="noStrike">
                <a:solidFill>
                  <a:srgbClr val="000000"/>
                </a:solidFill>
                <a:latin typeface="Arial"/>
                <a:ea typeface="Arial"/>
              </a:rPr>
              <a:t> </a:t>
            </a:r>
            <a:r>
              <a:rPr b="0" lang="es-CL" sz="2800" spc="-1" strike="noStrike">
                <a:solidFill>
                  <a:srgbClr val="000000"/>
                </a:solidFill>
                <a:latin typeface="Arial"/>
              </a:rPr>
              <a:t>&lt; k </a:t>
            </a:r>
            <a:r>
              <a:rPr b="0" lang="es-CL" sz="2800" spc="-1" strike="noStrike">
                <a:solidFill>
                  <a:srgbClr val="000000"/>
                </a:solidFill>
                <a:latin typeface="Arial"/>
                <a:ea typeface="Arial"/>
              </a:rPr>
              <a:t>≤ k</a:t>
            </a:r>
            <a:r>
              <a:rPr b="0" lang="es-CL" sz="2800" spc="-1" strike="noStrike" baseline="-25000">
                <a:solidFill>
                  <a:srgbClr val="000000"/>
                </a:solidFill>
                <a:latin typeface="Arial"/>
                <a:ea typeface="Arial"/>
              </a:rPr>
              <a:t>2</a:t>
            </a:r>
            <a:r>
              <a:rPr b="0" lang="es-CL" sz="2800" spc="-1" strike="noStrike">
                <a:solidFill>
                  <a:srgbClr val="000000"/>
                </a:solidFill>
                <a:latin typeface="Arial"/>
                <a:ea typeface="Arial"/>
              </a:rPr>
              <a:t> y H para k</a:t>
            </a:r>
            <a:r>
              <a:rPr b="0" lang="es-CL" sz="2800" spc="-1" strike="noStrike" baseline="-25000">
                <a:solidFill>
                  <a:srgbClr val="000000"/>
                </a:solidFill>
                <a:latin typeface="Arial"/>
                <a:ea typeface="Arial"/>
              </a:rPr>
              <a:t> </a:t>
            </a:r>
            <a:r>
              <a:rPr b="0" lang="es-CL" sz="2800" spc="-1" strike="noStrike">
                <a:solidFill>
                  <a:srgbClr val="000000"/>
                </a:solidFill>
                <a:latin typeface="Arial"/>
              </a:rPr>
              <a:t>&gt; k</a:t>
            </a:r>
            <a:r>
              <a:rPr b="0" lang="es-CL" sz="2800" spc="-1" strike="noStrike" baseline="-25000">
                <a:solidFill>
                  <a:srgbClr val="000000"/>
                </a:solidFill>
                <a:latin typeface="Arial"/>
              </a:rPr>
              <a:t>2</a:t>
            </a:r>
            <a:r>
              <a:rPr b="0" lang="es-C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ALVAGUARDIA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tes dependientes bilateralmente tienen incentivos para promover continuidad y resguardar su inversión específica: s</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ltas, information disclosure, procedimientos de verificación, resolución especializada de controversias (como arbitraj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egración vertical puede ser vista como último recurso, ya que tiene costos adicionales de burocracia, en caso que quiebres de contrato costoso sigan produciéndose pese a los esfuerzos de proveer salvaguardias</a:t>
            </a:r>
            <a:endParaRPr b="0" lang="en-US" sz="20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ando altos grados de especificidad de activos e incertidumbre hacen más necesaria </a:t>
            </a:r>
            <a:r>
              <a:rPr b="0" lang="es-CL" sz="1800" spc="-1" strike="noStrike" u="sng">
                <a:solidFill>
                  <a:srgbClr val="000000"/>
                </a:solidFill>
                <a:uFillTx/>
                <a:latin typeface="Arial"/>
              </a:rPr>
              <a:t>adaptación cooperati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95" name=""/>
          <p:cNvCxnSpPr/>
          <p:nvPr/>
        </p:nvCxnSpPr>
        <p:spPr>
          <a:xfrm flipV="1">
            <a:off x="1142640" y="685080"/>
            <a:ext cx="1677240" cy="2134440"/>
          </a:xfrm>
          <a:prstGeom prst="straightConnector1">
            <a:avLst/>
          </a:prstGeom>
          <a:ln w="9360">
            <a:solidFill>
              <a:srgbClr val="000000"/>
            </a:solidFill>
            <a:miter/>
          </a:ln>
        </p:spPr>
      </p:cxnSp>
      <p:cxnSp>
        <p:nvCxnSpPr>
          <p:cNvPr id="96" name=""/>
          <p:cNvCxnSpPr/>
          <p:nvPr/>
        </p:nvCxnSpPr>
        <p:spPr>
          <a:xfrm flipV="1">
            <a:off x="2743200" y="1828440"/>
            <a:ext cx="1829520" cy="2057760"/>
          </a:xfrm>
          <a:prstGeom prst="straightConnector1">
            <a:avLst/>
          </a:prstGeom>
          <a:ln w="9360">
            <a:solidFill>
              <a:srgbClr val="000000"/>
            </a:solidFill>
            <a:miter/>
          </a:ln>
        </p:spPr>
      </p:cxnSp>
      <p:cxnSp>
        <p:nvCxnSpPr>
          <p:cNvPr id="97" name=""/>
          <p:cNvCxnSpPr/>
          <p:nvPr/>
        </p:nvCxnSpPr>
        <p:spPr>
          <a:xfrm flipV="1">
            <a:off x="4571640" y="3276360"/>
            <a:ext cx="1677240" cy="1829520"/>
          </a:xfrm>
          <a:prstGeom prst="straightConnector1">
            <a:avLst/>
          </a:prstGeom>
          <a:ln w="9360">
            <a:solidFill>
              <a:srgbClr val="000000"/>
            </a:solidFill>
            <a:miter/>
          </a:ln>
        </p:spPr>
      </p:cxnSp>
      <p:cxnSp>
        <p:nvCxnSpPr>
          <p:cNvPr id="98" name=""/>
          <p:cNvCxnSpPr/>
          <p:nvPr/>
        </p:nvCxnSpPr>
        <p:spPr>
          <a:xfrm>
            <a:off x="1142640" y="2819520"/>
            <a:ext cx="5182200" cy="3505680"/>
          </a:xfrm>
          <a:prstGeom prst="straightConnector1">
            <a:avLst/>
          </a:prstGeom>
          <a:ln w="9360">
            <a:solidFill>
              <a:srgbClr val="000000"/>
            </a:solidFill>
            <a:miter/>
          </a:ln>
        </p:spPr>
      </p:cxnSp>
      <p:sp>
        <p:nvSpPr>
          <p:cNvPr id="99" name=""/>
          <p:cNvSpPr/>
          <p:nvPr/>
        </p:nvSpPr>
        <p:spPr>
          <a:xfrm>
            <a:off x="6324480" y="62485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 Jerarquía </a:t>
            </a:r>
            <a:endParaRPr b="0" lang="en-US" sz="1800" spc="-1" strike="noStrike">
              <a:solidFill>
                <a:srgbClr val="000000"/>
              </a:solidFill>
              <a:latin typeface="Arial"/>
            </a:endParaRPr>
          </a:p>
        </p:txBody>
      </p:sp>
      <p:sp>
        <p:nvSpPr>
          <p:cNvPr id="100" name=""/>
          <p:cNvSpPr/>
          <p:nvPr/>
        </p:nvSpPr>
        <p:spPr>
          <a:xfrm>
            <a:off x="6324480" y="30481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 Contrato creíble</a:t>
            </a:r>
            <a:endParaRPr b="0" lang="en-US" sz="1800" spc="-1" strike="noStrike">
              <a:solidFill>
                <a:srgbClr val="000000"/>
              </a:solidFill>
              <a:latin typeface="Arial"/>
            </a:endParaRPr>
          </a:p>
        </p:txBody>
      </p:sp>
      <p:sp>
        <p:nvSpPr>
          <p:cNvPr id="101" name=""/>
          <p:cNvSpPr/>
          <p:nvPr/>
        </p:nvSpPr>
        <p:spPr>
          <a:xfrm>
            <a:off x="4572000" y="16002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Unrelieved hazard</a:t>
            </a:r>
            <a:endParaRPr b="0" lang="en-US" sz="1800" spc="-1" strike="noStrike">
              <a:solidFill>
                <a:srgbClr val="000000"/>
              </a:solidFill>
              <a:latin typeface="Arial"/>
            </a:endParaRPr>
          </a:p>
        </p:txBody>
      </p:sp>
      <p:sp>
        <p:nvSpPr>
          <p:cNvPr id="102" name=""/>
          <p:cNvSpPr/>
          <p:nvPr/>
        </p:nvSpPr>
        <p:spPr>
          <a:xfrm>
            <a:off x="3200400" y="24382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0</a:t>
            </a:r>
            <a:endParaRPr b="0" lang="en-US" sz="1800" spc="-1" strike="noStrike">
              <a:solidFill>
                <a:srgbClr val="000000"/>
              </a:solidFill>
              <a:latin typeface="Arial"/>
            </a:endParaRPr>
          </a:p>
        </p:txBody>
      </p:sp>
      <p:sp>
        <p:nvSpPr>
          <p:cNvPr id="103" name=""/>
          <p:cNvSpPr/>
          <p:nvPr/>
        </p:nvSpPr>
        <p:spPr>
          <a:xfrm>
            <a:off x="2438280" y="43434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gt;0</a:t>
            </a:r>
            <a:endParaRPr b="0" lang="en-US" sz="1800" spc="-1" strike="noStrike">
              <a:solidFill>
                <a:srgbClr val="000000"/>
              </a:solidFill>
              <a:latin typeface="Arial"/>
            </a:endParaRPr>
          </a:p>
        </p:txBody>
      </p:sp>
      <p:sp>
        <p:nvSpPr>
          <p:cNvPr id="104" name=""/>
          <p:cNvSpPr/>
          <p:nvPr/>
        </p:nvSpPr>
        <p:spPr>
          <a:xfrm>
            <a:off x="2819520" y="38088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Mercado</a:t>
            </a:r>
            <a:endParaRPr b="0" lang="en-US" sz="1800" spc="-1" strike="noStrike">
              <a:solidFill>
                <a:srgbClr val="000000"/>
              </a:solidFill>
              <a:latin typeface="Arial"/>
            </a:endParaRPr>
          </a:p>
        </p:txBody>
      </p:sp>
      <p:sp>
        <p:nvSpPr>
          <p:cNvPr id="105" name=""/>
          <p:cNvSpPr/>
          <p:nvPr/>
        </p:nvSpPr>
        <p:spPr>
          <a:xfrm>
            <a:off x="1523880" y="14479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0</a:t>
            </a:r>
            <a:endParaRPr b="0" lang="en-US" sz="1800" spc="-1" strike="noStrike">
              <a:solidFill>
                <a:srgbClr val="000000"/>
              </a:solidFill>
              <a:latin typeface="Arial"/>
            </a:endParaRPr>
          </a:p>
        </p:txBody>
      </p:sp>
      <p:sp>
        <p:nvSpPr>
          <p:cNvPr id="106" name=""/>
          <p:cNvSpPr/>
          <p:nvPr/>
        </p:nvSpPr>
        <p:spPr>
          <a:xfrm>
            <a:off x="1295280" y="32767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a:t>
            </a:r>
            <a:r>
              <a:rPr b="0" lang="en-US" sz="1800" spc="-1" strike="noStrike">
                <a:solidFill>
                  <a:srgbClr val="000000"/>
                </a:solidFill>
                <a:latin typeface="Arial"/>
              </a:rPr>
              <a:t>&gt;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ONE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laciones laborales</a:t>
            </a:r>
            <a:endParaRPr b="0" lang="en-US" sz="28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empresa no puede comprar el trabajo por lo que las posibilidades se restringen a A, B o C</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hay inversión en capacidades específicas a la empresa los trabajadores perderán valor si los despiden y la empresa incurrirá en costos de capacitación si los trabajadores se va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ser la continuidad de la relación valiosa, se crean dispositivos de governance que nos mueven a C en lugar de B: indemnizaciones por años de servicio reducen los despidos, y nonvested benefits reducen las salidas de trabajadore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mbién se crean sistemas de resolución de controversias en una forma ordenada (grievance systems) en las cuales las partes confían, como los sindica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ÁREAS DE APLICACIÓ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stituciones políticas y el est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stituciones leg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dos de “govern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rat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gul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mbio institucional y desarrollo económ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LICACIONES (Cont.)</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inanciamiento de la empresa vía deuda o patrimonio</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trimonio es residual-claimant por toda la vida de la empres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ol del directorio para reducir el costo de capital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gulación del monopolio natural</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k es grande a hay considerable incertidumbre (en el mercado y la tecnología) licitación es problemát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RITERIO PARA POLÍTICA PÚBLICA (Dixit)</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emplaza Pareto por criterio de “remediabilida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práctica o modo de organización para el cual ningún modo </a:t>
            </a:r>
            <a:r>
              <a:rPr b="0" lang="es-CL" sz="2400" spc="-1" strike="noStrike" u="sng">
                <a:solidFill>
                  <a:srgbClr val="000000"/>
                </a:solidFill>
                <a:uFillTx/>
                <a:latin typeface="Arial"/>
              </a:rPr>
              <a:t>factible</a:t>
            </a:r>
            <a:r>
              <a:rPr b="0" lang="es-CL" sz="2400" spc="-1" strike="noStrike">
                <a:solidFill>
                  <a:srgbClr val="000000"/>
                </a:solidFill>
                <a:latin typeface="Arial"/>
              </a:rPr>
              <a:t> superior puede describirse e </a:t>
            </a:r>
            <a:r>
              <a:rPr b="0" lang="es-CL" sz="2400" spc="-1" strike="noStrike" u="sng">
                <a:solidFill>
                  <a:srgbClr val="000000"/>
                </a:solidFill>
                <a:uFillTx/>
                <a:latin typeface="Arial"/>
              </a:rPr>
              <a:t>implementarse</a:t>
            </a:r>
            <a:r>
              <a:rPr b="0" lang="es-CL" sz="2400" spc="-1" strike="noStrike">
                <a:solidFill>
                  <a:srgbClr val="000000"/>
                </a:solidFill>
                <a:latin typeface="Arial"/>
              </a:rPr>
              <a:t> con ganancias esperadas se presume </a:t>
            </a:r>
            <a:r>
              <a:rPr b="0" lang="es-CL" sz="2400" spc="-1" strike="noStrike" u="sng">
                <a:solidFill>
                  <a:srgbClr val="000000"/>
                </a:solidFill>
                <a:uFillTx/>
                <a:latin typeface="Arial"/>
              </a:rPr>
              <a:t>eficien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una reforma no basta que haya triángulos de pérdida de bienestar</a:t>
            </a:r>
            <a:endParaRPr b="0" lang="en-US" sz="24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e ser factible</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sistencia legítima puede ser superada en una forma costo-efectiva (compensación sin costo a los perdedores no es fact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MPRESA</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una compleja combinación de dimension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gales: opera y es responsable como un agente  respecto a la transferencia de derech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conómicas: descansa en un complejo conjunto de arreglos contractuales coordinados por una jerarquí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ciales: define un espacio en el cual las motivaciones van mucho más allá de incentivos monetario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visiones, en común la importancia de derechos de propiedad</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empresa es una red de contratos y de activos específicos</a:t>
            </a:r>
            <a:endParaRPr b="0" lang="en-US" sz="20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or qué algunas tienen más poder que otras en dirigir recursos?</a:t>
            </a:r>
            <a:endParaRPr b="0" lang="en-US" sz="16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 una estructura jerárquica basada en relaciones asimétricas</a:t>
            </a:r>
            <a:endParaRPr b="0" lang="en-US" sz="20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ál es la fuente de esta asimetría?</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utoridad es la voluntad y la capacidad de los individuos de someterse a la necesidad de sistemas cooperativos (Barnard)</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finición de una organización formal (Barnard, 1938)</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n sistema de actividades o fuerzas personales coordinadas conscientemente, cuya eficiencia depende de</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unicacion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posición a servi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pósitos compartidos</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supervisores a cargo de implementar el sistema son el corazón de la empresa y su función caracteriza la relación laboral (relaciones de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entajas del control y comando</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lexibilidad al dar a los supervisores la capacidad de evaluar la adecuación de las acciones a las órdenes y el derecho a reorganizar las tareas, sin renegociar los contratos ni usar el sistema de precios. En este sentido la coordinación central puede ser más rápida que la adaptación descentralizada</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vee herramientas poderosas para restringir el oportunismo a través de las interacciones entre los distintos niveles gerenciales</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uede permitir realizar experimentos controlados para aprender a organizar los activos más efectivamente</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ermite resolver controversias sin el tiempo y los costos que tendría el arbitraje por terceros</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trol interno vía auditor a menudo es superior al control externo respecto a la capacidad de recoger y procesar información relevante y a la posibilidad de proveer las adaptaciones necesari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SVENTAJAS DEL CONTROL</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sto de excluir a los no propietarios del uso de los recursos como una limitación mayor del control en las grandes corporaciones (Demsetz)</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dueños de activos físicos están tan preocupados por controlar su uso como controlar las utilidades residuales (Hansman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mposibilidad de replicar al interior de la empresa los poderosos incentivos del mercado (William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ctividades de influencia entre los geren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érdida de información a través de las líneas verticales de transmisión en organizaciones jerárquic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OPERACIÓN</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sición de los agentes a combinar recursos aún cuando no pueden evaluar los beneficios esperados o incluso si no hay beneficios esperado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mportancia del clima como una fuente de eficiencia (Williamson, 1987, Arrow, 1974)</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conomías de escala en la adquisición de información</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iesgo compartido en el grupo cuando se enfrenta contingencias no anticipada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tigación de selección adversa y riesgo mora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mento de productividad debido a un sentido más desarrollado de la responsabilida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ÍMITES Y COSTOS DE LA COOPERACIÓN</a:t>
            </a:r>
            <a:endParaRPr b="0" lang="en-US" sz="40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rategia de free rider a través de la selección de miembros (ex ante) y conducta maliciosa una vez seleccionado (ex po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cisiones colectivas que pueden reducir las ventajas del coman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centivo a colusión y desarrollar “side-pay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lto de costo de procesar información y comunic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FORMACIÓN Y COMUNICACIÓN</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las empresas superan a los mercados para organizar ciertas transacciones debe haber ventajas de información de la integración</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ueden desarrollar rutinas que hacen posible codificar información, reduciendo los costos interno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desarrollo de un lenguaje común provee una base eficiente para compartir conocimient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jerarquía introduce filtros que reducen el número de mensajes circuland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ombinación de recursos humanos extiende las capacidades de los individuos para absorber información y la reasignación de tareas a través del comando provee medios para procesar la información y transformarla en acción rápidamente</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uidos de información pueden proveer una racionalidad para los límites de la empres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ÍBRIDOS: CARACTERÍSTICAS</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o más partes ponen en común recursos: coordinación entre empresas</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 incapaz de conjugar los recursos y capacidad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gración reduce la flexibilidad, produce irreversibilidades y atenúa los incentiv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ómo pueden asegurar la cooperación para alcanzar coordinación sin perder la ventaja de decisiones descentralizadas</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rato relacional</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identidad de las partes importa, se crea un marco para la reciprocidad transacciona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jas: mayor market share, transferencia de competencias y acceso a recursos escasos (ej. Financiamient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esgos: revisiones no anticipadas, particularmente cuando inversión específica apoya procesos y productos muy inciertos o apuntan a demanda volatil (ej. Alianzas de I&amp;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ómo pueden asegurarse contratos relacionales minimizando las renegoci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TRIBUCIONES CLAV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emplaza supuesto de mercados sin fricciones y una teoría derivada de la física Newtoniana incorporando</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stitucion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stos de transacció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conomía polític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certidumbre</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se debe ocupar un modelo estático para recomendaciones de política en un mundo dinámico de camb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ÍBRIDOS: CARACTERÍSTICAS 2</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petenci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unque cooperan en algunos temas, los socios compiten entre sí (por ejemplo I&amp;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íbridos en general compiten con otros arreglos incluyendo otros híbridos. Si las inversiones son moderadamente específicas, los socios pueden tentarse de cambiar de arreglo, haciendo al arreglo particularmente inest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es el mejor mecanismo para las decisiones comunes, disciplinando a los socios, resolviendo los conflictos y previniendo el free-riding</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ACTORES DE INCERTIDUMBRE</a:t>
            </a:r>
            <a:endParaRPr b="0" lang="en-US" sz="40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certidumbre con los insum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n-observabilities en recursos o servicios transados o en cadenas de suministro, dificultades en la coordinación de insumos (construcción), o de proveedores externos que no están comprometidos con el acuerdo</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 los product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tos que no cumplan el estándar, mal ajuste a las preferencias de los consumidores, o falta de flexibilidad para adaptarse a demandas cambiante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proceso de transformació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recursos en el acuerdo pueden traslaparse con actividades excluidas del acuerdo haciendo al control y la planificación más inciertas, tecnologías complejas y habilidades humanas pueden estar involucradas (I&amp;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definición de reglas para distribuir rentas o enfrentar costos inesperados se convierte en una fuente potencial de confli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nfrentados a incertidumbre los híbridos deben combinar</a:t>
            </a:r>
            <a:endParaRPr b="0" lang="en-US" sz="40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aptación, para proveer ajustes flexib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trol, en orden a reducir las discrepancias entre insumos, productos o calidad en el proceso mism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alvaguardias, para prevenir las conductas oportunistas que la incertidumbre hace difícil detect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intensidad de la necesidad de estos tres factores es un buen predictor del grado de centralización de la estructura de govern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Qué estructura de governance?</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alvaguardias contractua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ormas de governa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sitivos regulatorios o “Authoriti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socios transfieren subclases de decisiones que coordinan sus acciones: intencionalidad y mutualidad</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ás cerca del mercado, los híbridos descansan primordialmente en confianza (trust)</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l otro extremo se parecen más a la integración, con entidades coordinadoras cuasi-autónomas</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tre ambos formas más suaves de autoridad que pueden estar basadas en liderazgo o redes relacion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MERCADO</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ientras la aproximación de North explora las instituciones que requieren los mercados para desarrollarse y ser eficie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iniciada por Coase y Williamson más bien enfatiza por qué utilizar los mercados para intercambiar derechos puede ser tan costoso que otros arreglos son preferi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SE ACEPTA LA IMPORTANCIA DE LOS PRECIOS PERO</a:t>
            </a:r>
            <a:endParaRPr b="0" lang="en-US" sz="3600" spc="-1" strike="noStrike">
              <a:solidFill>
                <a:srgbClr val="000000"/>
              </a:solidFill>
              <a:latin typeface="Arial"/>
            </a:endParaRPr>
          </a:p>
        </p:txBody>
      </p:sp>
      <p:sp>
        <p:nvSpPr>
          <p:cNvPr id="14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mercados no son estructuras puras, sino que deben ser analizadas considerando los factores institucionales que los defin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ro los precios no coordinan sino que envían señales a quienes coordina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precios no son señales a las que los agentes se adapten pasivamen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en ser estudiados en relación a los modos alternativos de organización con los que interactú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S MERCADOS PUEDEN TENER UNA VARIEDAD DE FORMAS</a:t>
            </a: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ecesitan una variedad de soportes institucionales para existir y desarrollars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gales, políticos, socia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organización de mercado depende críticamente en los mecanismos de enforcement: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égimen legal sobre derechos de propiedad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do como enforcer de derechos de propiedad</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variedad de soportes institucionales tiene un impacto significativo en los costos y beneficios de usarl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algunos mercados las relaciones personales tienen una importancia particular para determinar qué transacciones serán posib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riedad de mecanismos involucrados en la formación de precios (negociaciones, licitacione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STOS DE USAR EL MERCADO</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stos de recolectar información acerca de los bienes y servicios a ser transados</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tos de medición de los bienes a ser intercambiados</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de intermediarios, sistemas de garantías, obligación de homogeneizar información para facilitar la comparación</a:t>
            </a: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positivos requeridos para identificar y juntar a compradores y vendedores potenciales</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partes operando en mercados extensivos necesitan elaborados sistemas para identificar con quien quieren hacer negocio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ontratos son uno de los dispositivos que permiten a los mercados existir: en realidad hay poco más que esto en que las partes puedan confi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ESPECIFICIDAD DE LOS CONTRATOS DE MERCADO</a:t>
            </a:r>
            <a:endParaRPr b="0" lang="en-US" sz="40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énfasis está en reglas legales, documentos formales y transacciones que se autoliquid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identidad de las partes tiene poca relevanc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jores alternativas en el mercado es central para impedir el oportunism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ro además, como los mercados no son perfectos, son necesarias salvaguardias adicionales</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Hostage clauses”, terceras partes como cortes y árbitros, y mecanismos informales como la reput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ROL DEL SISTEMA LEGAL</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dfield, Rub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a que los mercados operen se requieren 3 funciones que deben desempeñar los sistemas legales, relacionadas con los derechos de propieda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de derechos de propiedad (property la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istema debe permitir la transferencia de estos derechos (Contract la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istema debe proteger los derechos de propiedad (Tort law y criminal la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rden exposició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concepto de costos de transacción (Coase, No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conomía de los costos de transacción (William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dos de “govern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empre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íbrid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EOREMA de COASE</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los derechos son transferibles y los costos de transacción no son muy altos, la definición de los derechos de propiedad no es importante porque las partes pueden intercambiar derechos de tal modo de moverse a sus usos más valuado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algunas circunstancias, para facilitar el intercambio cuando la información asimétrica es importante, los derechos deben ser divididos para alentar a las partes a revelar su verdadera valoración (Johnson, 1995, Ayres y Talley, 2995, Schmitz, 200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general los costos de transacción son altos por lo que la reasignación no está garantizad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falta de claridad en los derechos de propiedad afecta tanto la eficiencia de las transacciones como el uso de recursos (ejemplo Rusia, los dueños no son los que contro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RECHO DE PROPIEDAD Y EL IMPERIO DE LA LEY</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los derechos de propiedad no son bien protegido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enor inversión por retornos inciert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mento de la actividad de “predación” de los otros (delincuencia, políticos corrupt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mento de la actividad de protegerse contra los predador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mento de la inversión en recursos menos productivos pero fácilmente protegibles (oro vs empres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pósito de “rule of law” es proteger a los miembros de la sociedad de la “predación por el soberan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ien documentada evidencia tanto de series de tiempo como corte transvers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STITUCIONES PRIVADAS PARA PROTEGER EL DERECHO DE PROPIEDAD</a:t>
            </a:r>
            <a:endParaRPr b="0" lang="en-US" sz="3200" spc="-1" strike="noStrike">
              <a:solidFill>
                <a:srgbClr val="000000"/>
              </a:solidFill>
              <a:latin typeface="Arial"/>
            </a:endParaRPr>
          </a:p>
        </p:txBody>
      </p:sp>
      <p:sp>
        <p:nvSpPr>
          <p:cNvPr id="15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mayor costo del oportunismo cuando no puede ser prevenido en forma eficaz no es el costo del engaño ni de las precauciones que se deban tomar para impedirlo sino la pérdida de valor social por la no realización de negocios que de otra manera habrían sido atractivos</a:t>
            </a:r>
            <a:endParaRPr b="0" lang="en-US" sz="1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ecanismos disponibles para prevenir el oportunismo en ausencia de cor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ilaterales: inversión en reputación (que se pierde al engaña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Bilateral: </a:t>
            </a:r>
            <a:endParaRPr b="0" lang="en-US" sz="20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reación de acuerdos “self-enforcing” (juego repetido)</a:t>
            </a:r>
            <a:endParaRPr b="0" lang="en-US" sz="1600" spc="-1" strike="noStrike">
              <a:solidFill>
                <a:srgbClr val="000000"/>
              </a:solidFill>
              <a:latin typeface="Arial"/>
            </a:endParaRPr>
          </a:p>
          <a:p>
            <a:pPr lvl="4" marL="2057400" indent="-228600">
              <a:lnSpc>
                <a:spcPct val="9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laciones verticales entre manufactureras y comercializadores (establecimientos de precio mínimo o máximo, exclusividad, etc.)</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r>
              <a:rPr b="0" lang="es-CL" sz="1600" spc="-1" strike="noStrike">
                <a:solidFill>
                  <a:srgbClr val="000000"/>
                </a:solidFill>
                <a:latin typeface="Arial"/>
              </a:rPr>
              <a:t>Ofrecimiento de rehenes” (ej. Colateral depositado con un externo)</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ltilateral: </a:t>
            </a:r>
            <a:endParaRPr b="0" lang="en-US" sz="20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rbitraje</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ecanismos multilaterales (ej. Trade associ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LGUNAS LECCIONES</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erkowitz et al. (2003): la legalidad (enforcement e instituciones legales efectivas) es el factor más importante para el desarrollo económico. Leyes “trasplantadas” pueden llevar a mayor ineficiencia que baja legalidad, si el país no es adecuado para la ley.</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dividuos poderosos pueden oponerse a los cambios legale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instituciones son difíciles de cambiar por lo que las sugerencias para política son limitada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doptar o fortalecer instituciones que protejan derecho de propieda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es posible adoptar más instituciones de “common law” que de “code law” (controversia sobre esto) y competencia entre sistemas legales para promover eficienci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mitir arbitraje y que las cortes lo “enforc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I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stos de transacción </a:t>
            </a:r>
            <a:r>
              <a:rPr b="0" lang="es-CL" sz="2800" spc="-1" strike="noStrike">
                <a:solidFill>
                  <a:srgbClr val="000000"/>
                </a:solidFill>
                <a:latin typeface="Arial"/>
              </a:rPr>
              <a:t>(Coase, 1932)</a:t>
            </a:r>
            <a:endParaRPr b="0" lang="en-US" sz="28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y costos de usar el mecanismo de preci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precios deben ser descubierto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que emprender ciertas negociacion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que hacer ciertos contrato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que hacer ciertas inspeccion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ay que acordar sistemas de resolución de controversia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la empresa, la asignación de recursos se produce por decisiones administrativas, para evitar los costos de usar el merca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empresa solo sobrevivirá si puede realizar su función de coordinación más eficientemente que a través de transacciones de mercado o que otras empres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costos de transacción no sólo afectan los arreglos contractuales sino también qué bienes y servicios son producidos</a:t>
            </a:r>
            <a:endParaRPr b="0" lang="en-US" sz="3200" spc="-1" strike="noStrike">
              <a:solidFill>
                <a:srgbClr val="000000"/>
              </a:solidFill>
              <a:latin typeface="Arial"/>
            </a:endParaRPr>
          </a:p>
        </p:txBody>
      </p:sp>
      <p:sp>
        <p:nvSpPr>
          <p:cNvPr id="59"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empresarios al decidir sobre su forma de hacer negocios y qué producir deben considerar los costos de transac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los costos de realizar un intercambio son mayores que sus beneficios, el intercambio no se producirá, y la mayor producción que se obtendría de la mayor especialización no ocurrirá</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ayor beneficio del dinero es una disminución de los costos de transa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 que es transado en el mercado no son, como los economistas normalmente suponen, entidades físicas</a:t>
            </a:r>
            <a:endParaRPr b="0" lang="en-US" sz="3200" spc="-1" strike="noStrike">
              <a:solidFill>
                <a:srgbClr val="000000"/>
              </a:solidFill>
              <a:latin typeface="Arial"/>
            </a:endParaRPr>
          </a:p>
        </p:txBody>
      </p:sp>
      <p:sp>
        <p:nvSpPr>
          <p:cNvPr id="61"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 que se transa realmente son “derechos” de realizar ciertas accion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derechos que los individuos tienen son establecidos por el sistema leg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deseable que los derechos sean asignados a quienes pueden usarlos más productivamente y con incentivos que los llevan a hacerl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laridad en la ley y requerimientos legales sobre las transferencias de derechos poco oneros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ecesidad de un sistema de derechos de propiedad y enforcement apropi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conomía de los costos de transacción (ECT)</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paradigma dominante es el de la teoría de la elección, que estudia como las cantidades son afectadas por cambios en los precios relativos</a:t>
            </a: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ecesidad de desarrollar una ciencia del contrato:</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rdenamiento público: la política es una estructura de intercambio compleja entre individuos, una estructura donde las personas tratan de obtener colectivamente sus objetivos privados que no pueden asegurar eficientemente mediante el mercado (Buchana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rdenamiento privado: esfuerzos de las partes que convergen en una transacción para alinear los incentivos y generar las estructuras de “governance” que son más adecuadas a sus necesidades de intercambio (William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contrato es la unidad básica</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unidad de análisis es el contrato, que contiene en sí mismo los tres principios de conflicto, mutualidad y orden (Comm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overnance es el medio por el cual se introduce </a:t>
            </a:r>
            <a:r>
              <a:rPr b="0" lang="es-CL" sz="2800" spc="-1" strike="noStrike" u="sng">
                <a:solidFill>
                  <a:srgbClr val="000000"/>
                </a:solidFill>
                <a:uFillTx/>
                <a:latin typeface="Arial"/>
              </a:rPr>
              <a:t>orden</a:t>
            </a:r>
            <a:r>
              <a:rPr b="0" lang="es-CL" sz="2800" spc="-1" strike="noStrike">
                <a:solidFill>
                  <a:srgbClr val="000000"/>
                </a:solidFill>
                <a:latin typeface="Arial"/>
              </a:rPr>
              <a:t>, mitigando así el </a:t>
            </a:r>
            <a:r>
              <a:rPr b="0" lang="es-CL" sz="2800" spc="-1" strike="noStrike" u="sng">
                <a:solidFill>
                  <a:srgbClr val="000000"/>
                </a:solidFill>
                <a:uFillTx/>
                <a:latin typeface="Arial"/>
              </a:rPr>
              <a:t>conflicto</a:t>
            </a:r>
            <a:r>
              <a:rPr b="0" lang="es-CL" sz="2800" spc="-1" strike="noStrike">
                <a:solidFill>
                  <a:srgbClr val="000000"/>
                </a:solidFill>
                <a:latin typeface="Arial"/>
              </a:rPr>
              <a:t> y realizando el </a:t>
            </a:r>
            <a:r>
              <a:rPr b="0" lang="es-CL" sz="2800" spc="-1" strike="noStrike" u="sng">
                <a:solidFill>
                  <a:srgbClr val="000000"/>
                </a:solidFill>
                <a:uFillTx/>
                <a:latin typeface="Arial"/>
              </a:rPr>
              <a:t>beneficio mutu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úmero pequeño de participantes a cada lado de la transacción</a:t>
            </a:r>
            <a:endParaRPr b="0" lang="en-US" sz="2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oco es en develar y explicar los “strategic hazards” que plantea esta situación en un contexto de contratos incompletos y desarrollo costo-efectivo de “governance” para mitigar estos “hazard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4T23:58:46Z</dcterms:created>
  <dc:creator>Pablo González</dc:creator>
  <dc:description/>
  <dc:language>en-US</dc:language>
  <cp:lastModifiedBy>pabloa.gonzalez</cp:lastModifiedBy>
  <dcterms:modified xsi:type="dcterms:W3CDTF">2007-10-03T14:24:01Z</dcterms:modified>
  <cp:revision>31</cp:revision>
  <dc:subject/>
  <dc:title>ECONOMIA DE LAS INSTITU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19425111</vt:r8>
  </property>
  <property fmtid="{D5CDD505-2E9C-101B-9397-08002B2CF9AE}" pid="3" name="_AuthorEmail">
    <vt:lpwstr>pabloa.gonzalez@undp.org</vt:lpwstr>
  </property>
  <property fmtid="{D5CDD505-2E9C-101B-9397-08002B2CF9AE}" pid="4" name="_AuthorEmailDisplayName">
    <vt:lpwstr>Pablo González</vt:lpwstr>
  </property>
  <property fmtid="{D5CDD505-2E9C-101B-9397-08002B2CF9AE}" pid="5" name="_EmailSubject">
    <vt:lpwstr>Economía de las instituciones</vt:lpwstr>
  </property>
</Properties>
</file>