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2A54-91A4-464C-9A23-A6CB6A8F58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os dos primeros provocan rigidez de precios, empresarios usan estratégicamente capacidad ociosa, no hay competencia perfecta (Sraffa, Kaldor). Schumpeter: esto provee los recursos y los incentivos a los empresarios para innovar en procesos y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n la economía del conocimiento hay patrones de inclusión (de los que invierten) y de exclusión: brechas entre agentes, empresas, networks o aglomeraciones de estas y entre regiones y países. Uso de tecnología favorece más uso de tecnología, inversió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BDE-361F-470D-BBCC-A601229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4AA-C70B-4051-82BE-4937F43A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0E2-DCB3-41AE-9239-369669EA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01D-526A-4422-BCC8-616170E5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108-E4D9-4980-88FA-73E709DD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9DA-8156-4C61-9064-5D91B7D6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C4D-D28A-4698-BAA4-4154B878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195-55C1-4F21-8ABF-E5E72542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352-4D5D-4F92-852B-9BCB36E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8C5-51CF-4031-9DB7-B62A1DC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382-45FA-48B5-BA5B-3BBE4F5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5D0-BC68-43DE-A7D9-9BFAD52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6299-648C-4ADA-9DF3-559E30F9B4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ECONÓMICO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s c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 de equidad, integración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ilidad económica (desempleo, inflación, creci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es de mérito o pre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cionalidad de l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E PUEDE LA ENTREGA DE UN SERVICIO POR PARTE DEL ESTADO NO SER SATISFACTO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o: pocos incentivos a la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s con poca capacidad o incentivos para dem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 efi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tes que “capturan” un porcentaje desproporcionado de los beneficios a expensas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eza de ciertos servicios hace difícil su medición y cuantificación (tema especificida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del servicio no corresponden a las preferencias de l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”: OPCIONES UTILIZADAS POR BENEFICIARIOS   PARA ASEGURAR UN CIERTO NIVEL Y CALIDAD DE U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Marlett" charset="2"/>
              <a:buChar char="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jerárquico”: acciones “internas” para asegurar un buen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E PUEDEN HACER LOS BENEFICIAR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550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cambiar de  proveed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ando no están satisfechos (hay “competencia en la ofert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poder influir en 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sultado final a través de participació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esta o feedbac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 QUE SIRVE LA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ción de capital social y habilitació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OS OPCION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fomentar la par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cionalización distribu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ECANISMOS DE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y 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ías a ciudad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compartido o del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iz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PARA AUMENTAR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antar barrer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ón d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 a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tecnológicas y traslado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3640" y="617400"/>
          <a:ext cx="550404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17400"/>
                    <a:ext cx="55040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 PROCESO DE GENERACIÓN DE POLÍTICAS PÚB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05120"/>
          <a:ext cx="7597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97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DE CONSTRUCCION DE UNA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escasos (ingre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dades múltiples (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usión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/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ción: análisis alternativas (técnica, económica, institucional, polí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PÚBLICO DE LA EC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ociedad “decide” (conscientemente o por omisión) el set de reglas que rigen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conomía busca contribuir a que ese set de reglas permita una asignación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cada problema hay un set de instrumentos disponible, que pueden abrir nuev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 debida a menor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s y el problema del monopolio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tema de las pa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s asociadas a falta de “pre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 p. 5 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licación seguro de des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asimétrica (r.a P(.) de quedar desemple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 de abuso (caen costos de perder el trabajo y posteriormente de no encont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uestos, subsidios, regulación, permisos tra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de us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chos de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ción del juego y 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sión 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as del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pía” y bienes de mérito: ejemplo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llas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tornos crecientes son claves para problemas de 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straciones de existencia de equilibrio competitivo y su eficiencia requieren retornos decrecientes o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distintos ámbitos se observan retorno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medios decrecientes al aumentar el nivel de utilización de l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decrecientes con plantas de mayor 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os: en varias formas de acumul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anancias en productividad a través de cambio tecnológico que permiten mayor especialización del trabajo (Young, Kaldor, Rom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lementariedades estratégicas entre inversión y tamaño de mercado que producen economías externas (Krug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xternalidades de la generación de conocimiento y la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cnología (Arth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stituciones (North)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(2 últimos los veremos posteriorm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FECTOS RETORNOS C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quilibrio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económica o instituciones pueden mover a la economía hacia una mejor trayectoria </a:t>
            </a: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(ej. Blanchard-Kiyotaki: shock de demanda + rigidez de precios ocurre por ausencia de coordinación en flexibilizar márge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 economía geográfica: concen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conomía del conocimiento (espacio) y acumulación de capacidades (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rnalidades debidas al carácter de bien público del 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&amp;D “spillovers”: retorno crece con el aumento del stock público de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th depend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ES PARA SOLUCIONES PRIVAD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el acuerdo sea mutuamente conven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os muy específ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ificabilidad por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mplimiento (enforce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 costos de trans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 ad hoc:  necesidad conocimient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0:49:39Z</dcterms:created>
  <dc:creator>UNIVERSIDAD DE CHILE.</dc:creator>
  <dc:description/>
  <dc:language>en-US</dc:language>
  <cp:lastModifiedBy>Pablo</cp:lastModifiedBy>
  <dcterms:modified xsi:type="dcterms:W3CDTF">2007-10-04T23:38:11Z</dcterms:modified>
  <cp:revision>20</cp:revision>
  <dc:subject/>
  <dc:title>FALLAS DE MERCADO</dc:title>
</cp:coreProperties>
</file>