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C496-AAE3-491E-8947-0756D2A431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os dos primeros provocan rigidez de precios, empresarios usan estratégicamente capacidad ociosa, no hay competencia perfecta (Sraffa, Kaldor). Schumpeter: esto provee los recursos y los incentivos a los empresarios para innovar en procesos y 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n la economía del conocimiento hay patrones de inclusión (de los que invierten) y de exclusión: brechas entre agentes, empresas, networks o aglomeraciones de estas y entre regiones y países. Uso de tecnología favorece más uso de tecnología, inversión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894-2BA0-4DD2-BBAE-D4579DC0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932-9251-4A76-A486-FE51104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AAA-0BE7-4565-AC24-BAD21454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084-1599-4254-B3E7-038A79A4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75B-8F4D-4B5B-AE09-3A8D745E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562-26DF-4042-8178-30D1A721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260-8F57-4B52-AF0A-D89ACE51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CD6-D1DF-4F43-B8D2-DCF0456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A9D-1209-4E44-BEEB-A11C8A89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F5B-4032-40FD-A1B2-0BF13CC2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BCF-FB4B-49BE-9111-5718D55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DD4-D75A-46D6-B603-C22F02CD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ED2E-5272-4519-92A7-A0A6F389DD4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ECONÓMICO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s cre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ciones de equidad, integración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ilidad económica (desempleo, inflación, creci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enes de mérito o pref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acionalidad de los a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POR QUE PUEDE LA ENTREGA DE UN SERVICIO POR PARTE DEL ESTADO NO SER SATISFACTOR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opolio: pocos incentivos a la efi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ciarios con poca capacidad o incentivos para dema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ios efic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ites que “capturan” un porcentaje desproporcionado de los beneficios a expensas del r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eza de ciertos servicios hace difícil su medición y cuantificación (tema especificidad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acterísticas del servicio no corresponden a las preferencias de los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ABILITY”: OPCIONES UTILIZADAS POR BENEFICIARIOS   PARA ASEGURAR UN CIERTO NIVEL Y CALIDAD DE U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cr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Marlett" charset="2"/>
              <a:buChar char="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jerárquico”: acciones “internas” para asegurar un buen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E PUEDEN HACER LOS BENEFICIAR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550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I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cambiar de  proveedo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uando no están satisfechos (hay “competencia en la ofert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poder influir en e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sultado final a través de participación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testa o feedbac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 QUE SIRVE LA PARTICIP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ción de capital social y habilitación ciuda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OS OPCION SAL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 fomentar la particip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cionalización distribu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MECANISMOS DE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y ex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la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ías a ciudad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compartido o del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caliz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PARA AUMENTAR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antar barreras artif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ón del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 a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ciones tecnológicas y traslado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63640" y="617400"/>
          <a:ext cx="5504040" cy="55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17400"/>
                    <a:ext cx="55040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 PROCESO DE GENERACIÓN DE POLÍTICAS PÚB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1905120"/>
          <a:ext cx="75978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978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CESO DE CONSTRUCCION DE UNA POLI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escasos (ingre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idades múltiples (gas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usión de los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/ Estrate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ción: análisis alternativas (técnica, económica, institucional, polí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PÚBLICO DE LA ECONOM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ociedad “decide” (conscientemente o por omisión) el set de reglas que rigen 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economía busca contribuir a que ese set de reglas permita una asignación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cada problema hay un set de instrumentos disponible, que pueden abrir nuevo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etencia imperf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 debida a menor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s y el problema del monopolio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tema de las pa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s asociadas a falta de “pres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 p. 5 a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licación seguro de des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formación asimétrica (r.a P(.) de quedar desemple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iesgo de abuso (caen costos de perder el trabajo y posteriormente de no encontrar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uestos, subsidios, regulación, permisos tra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os de us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echos de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ción del juego y co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sión 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as del mercado de cap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opía” y bienes de mérito: ejemplo p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llas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etornos crecientes son claves para problemas de coordin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straciones de existencia de equilibrio competitivo y su eficiencia requieren retornos decrecientes o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distintos ámbitos se observan retornos crec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medios decrecientes al aumentar el nivel de utilización de la 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decrecientes con plantas de mayor 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os: en varias formas de acumula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anancias en productividad a través de cambio tecnológico que permiten mayor especialización del trabajo (Young, Kaldor, Rom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lementariedades estratégicas entre inversión y tamaño de mercado que producen economías externas (Krug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xternalidades de la generación de conocimiento y la inno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cnología (Arth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stituciones (North)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(2 últimos los veremos posteriormen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FECTOS RETORNOS CREC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quilibrios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económica o instituciones pueden mover a la economía hacia una mejor trayectoria </a:t>
            </a: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(ej. Blanchard-Kiyotaki: shock de demanda + rigidez de precios ocurre por ausencia de coordinación en flexibilizar márge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 economía geográfica: concen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conomía del conocimiento (espacio) y acumulación de capacidades (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rnalidades debidas al carácter de bien público del 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&amp;D “spillovers”: retorno crece con el aumento del stock público de id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th dependen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ES PARA SOLUCIONES PRIVAD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el acuerdo sea mutuamente conven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atos muy específ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sur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ificabilidad por ter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mplimiento (enforce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de costos de trans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DO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es ad hoc:  necesidad conocimiento téc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20:49:39Z</dcterms:created>
  <dc:creator>UNIVERSIDAD DE CHILE.</dc:creator>
  <dc:description/>
  <dc:language>en-US</dc:language>
  <cp:lastModifiedBy>Pablo</cp:lastModifiedBy>
  <dcterms:modified xsi:type="dcterms:W3CDTF">2007-10-04T23:38:11Z</dcterms:modified>
  <cp:revision>20</cp:revision>
  <dc:subject/>
  <dc:title>FALLAS DE MERCADO</dc:title>
</cp:coreProperties>
</file>