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D9E0-BC98-4668-97F5-C35D0647F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8D83-7910-44AA-B15C-05F780E50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5600" y="685800"/>
            <a:ext cx="4471920" cy="335448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BFF07-D966-45D9-A11E-7C454DE1E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7196-FA69-4C3A-BC62-DC5F8C2A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B7FDC-ED10-4C52-B774-74B16A6AA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2DDA7-DC12-4C8D-A183-EFC92D39B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41C3-6CD0-4FB9-A3B4-3C1671DB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CCBC-00C0-43FC-802E-F7E75DA41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B33A-3074-4D57-857E-C38897F3B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0B95D-05CB-49FD-BE20-34BBE3A2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9EFD-68F3-4CD4-B590-FD2C124C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7DD9-98BF-428F-BA9A-0752059B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C03C-C5D8-4A3B-98B2-E17F8C8DD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F08B-4503-48A7-A2DA-99B332E2B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0EF7-C340-4040-8ED2-617EE42C8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8080" y="1066680"/>
            <a:ext cx="77724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10-07T22:25:36Z</dcterms:modified>
  <cp:revision>17</cp:revision>
  <dc:subject/>
  <dc:title>EFICIENCIA Y COMPETENCIA PERFECTA</dc:title>
</cp:coreProperties>
</file>