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CD191-324F-4D2C-8F23-123081F256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47891-185D-40FD-B8AC-5975B5C0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36FC-6400-4F55-916D-85B8412F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90F20-A3E5-4285-AE7D-A82C667924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B662-A6F8-4CE0-8F96-3BF6B54C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35C16-5F1F-458A-8251-5020B6DC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0BD16-E2D6-446A-A26C-A3C34216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9A8B-279B-4379-BB97-A3F11FE5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D35BC-34DA-424D-A1E7-2174959C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2264-5FFE-4306-B4BC-5ECE912E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1D6B1-3F1E-4209-BC15-ED795B8C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5CC9-0B48-4C20-9DBF-F1E43946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7BEF-489E-4E45-8949-C63D6796A780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31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ción 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novación, Colaboración y Organizacion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6283440"/>
            <a:ext cx="5616360" cy="385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2058840"/>
            <a:ext cx="777240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Criterios para la aprobación del Curso </a:t>
            </a:r>
            <a:br>
              <a:rPr sz="3200"/>
            </a:b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Introducción al trabajo de t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Criterios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el alumno un tema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tá bien elaborado el proyec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factible el proyecto de títul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5D5E-0159-4F62-98F3-5A7BBE07AD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¿Tiene el alumno un tema?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un tema de investigació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necesario que sea abordado por un ICI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client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una idea de producto final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8D29-B42B-498F-A842-D52877BEF3F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¿Está bien elaborado el proyecto?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Coherencia intern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Sustento bibliográf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Aplicación de competencias de la malla de curso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Mínimos del informe. (según pauta FCFM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7362-E050-4CF8-B68E-F1F7668BA4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Factibilidad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Plazos/Plan de Trabaj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poyos instituciona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s en la discipli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Competencias/madurez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bajo autónomo durante el se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tancia 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lidad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Driver Motivacional. ¿es tu tema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BEC9-92C3-4BA3-B989-5893C9ED47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dii</cp:lastModifiedBy>
  <dcterms:modified xsi:type="dcterms:W3CDTF">2007-11-05T19:09:06Z</dcterms:modified>
  <cp:revision>37</cp:revision>
  <dc:subject/>
  <dc:title>Título </dc:title>
</cp:coreProperties>
</file>