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490FB-471A-4409-BB2B-B8609ED02B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A5DD-0BE1-4D80-9405-A044AD53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DC6E1-17A3-4A63-9AE0-6C117C42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3E8AD-7057-40C6-8F45-0C4780671F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CCF0-8A68-416E-B86B-EF596823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7589-C027-4E21-871E-A7451641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EBCA0-A54D-42A4-AAF4-6D23B5B4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AC79-FD1D-4DAB-90C3-B5F900B0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24080" y="1519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DDCA-5A79-4246-ABF1-40F99957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C46F7-F869-4C06-A7EA-EEA5A4AE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AF6E-0C4C-40CF-98FC-BE25775F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BA642-3631-4DCD-B9D9-55BF31B9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B07D-91F7-4A80-8B11-79B0A461CF55}" type="slidenum">
              <a:rPr b="0" lang="en-US" sz="1000" spc="-1" strike="noStrike">
                <a:solidFill>
                  <a:srgbClr val="80808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131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ección 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nnovación, Colaboración y Organizacion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35280" y="6283440"/>
            <a:ext cx="5616360" cy="385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2058840"/>
            <a:ext cx="7772400" cy="17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Criterios para la aprobación del Curso </a:t>
            </a:r>
            <a:br>
              <a:rPr sz="3200"/>
            </a:b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Introducción al trabajo de tít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Criterios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el alumno un tema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tá bien elaborado el proyect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factible el proyecto de título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F76B-3144-4C3B-BE26-D047F2E3E4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¿Tiene el alumno un tema?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un tema de investigació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Es necesario que sea abordado por un ICI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client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¿Tiene una idea de producto final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2949C-41B1-46B1-9A3E-12304221B3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¿Está bien elaborado el proyecto?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Coherencia interna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Sustento bibliográfico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Aplicación de competencias de la malla de cursos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rebuchet MS"/>
              </a:rPr>
              <a:t>Mínimos del informe. (según pauta FCFM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0F00-AB48-43F0-913C-D824837C45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4080" y="1519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8080"/>
                </a:solidFill>
                <a:latin typeface="Trebuchet MS"/>
              </a:rPr>
              <a:t>Factibilidad</a:t>
            </a:r>
            <a:endParaRPr b="1" lang="en-US" sz="3200" spc="-1" strike="noStrike">
              <a:solidFill>
                <a:srgbClr val="80808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Plazos/Plan de Trabaj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poyos institucional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Antecedentes en la discipli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Competencias/madurez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rabajo autónomo durante el seme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tancia ana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lidad del 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rebuchet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rebuchet MS"/>
              </a:rPr>
              <a:t>Driver Motivacional. ¿es tu tema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208E-BA19-4782-A819-251DC13CF5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20:51:25Z</dcterms:created>
  <dc:creator>usuario</dc:creator>
  <dc:description/>
  <dc:language>en-US</dc:language>
  <cp:lastModifiedBy>dii</cp:lastModifiedBy>
  <dcterms:modified xsi:type="dcterms:W3CDTF">2007-11-05T19:09:06Z</dcterms:modified>
  <cp:revision>37</cp:revision>
  <dc:subject/>
  <dc:title>Título </dc:title>
</cp:coreProperties>
</file>