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A667-4233-4E2C-AE74-0978AFAE0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F459-2B3E-4D28-85F8-8C918A9C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E563-60CE-45A2-9EC0-BC6341E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0041-A582-43C6-84B7-53AA8D33ED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F7A5-5465-4269-8673-10E8D05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23F7-7261-4630-858B-C57EDDA7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8B9A-0C0E-4638-9799-F9E21D17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06D5-0364-4C80-A328-181B4C34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D5DB-CE84-4A53-BB55-58284E80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5F43-69D5-4D71-AE30-72C9B48B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39AC-1A97-4FA8-A0F8-CB47F326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5958-09E6-4967-9A38-C583C3E8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B8F8-5408-4F6D-A740-68D22DFCD62F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31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ción 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novación, Colaboración y Organiza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6283440"/>
            <a:ext cx="5616360" cy="38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2058840"/>
            <a:ext cx="777240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Criterios para la aprobación del Curso 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Introducción al trabajo de 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Criterios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el alumno un tem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tá bien elaborado el proyec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factible el proyecto de títul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FF99-BCA2-42B8-BCA7-E747A204E5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¿Tiene el alumno un tema?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un tema de investigació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necesario que sea abordado por un ICI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client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una idea de producto final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E98D-4E17-42AA-8620-6841803D80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¿Está bien elaborado el proyecto?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Coherencia intern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Sustento bibliográf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Aplicación de competencias de la malla de curso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Mínimos del informe. (según pauta FCFM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39C7-74C8-4F0E-9F71-1E9DCD767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Factibilidad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Plazos/Plan de Trabaj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poyos instituciona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s en la discipli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Competencias/madurez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bajo autónomo durante el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tancia 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lidad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Driver Motivacional. ¿es tu tema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9076-B119-4084-A9B2-FE5DC19FA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dii</cp:lastModifiedBy>
  <dcterms:modified xsi:type="dcterms:W3CDTF">2007-11-05T19:09:06Z</dcterms:modified>
  <cp:revision>37</cp:revision>
  <dc:subject/>
  <dc:title>Título </dc:title>
</cp:coreProperties>
</file>