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0BF36D-096B-428E-8A8B-BBA515FE9EF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12408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C755BF-9C3B-4782-87B7-624ADE47A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12408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4D0564-6935-4244-BE12-A5C36A733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12408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4E0847-5802-4D90-BD01-0BB178DB0BB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12408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FC882D-D871-4C5E-8DA1-2AC19BFB4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2408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294004-C855-46A9-AD15-C21B44B3C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2408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0FA3F4-9F2B-47ED-8D3C-CCE34C7AF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12408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35138C-3E27-4D19-B60B-D19C64B22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124080" y="151920"/>
            <a:ext cx="5562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6DD257-6666-433C-A717-D5A38E659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2408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D65BE5-39A9-48BF-BC95-8352E2AA9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12408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40F765-0C26-4836-A54C-5C102E05D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12408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84F0B1-A3F2-48E0-96E1-C549D5DAA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12408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Trebuchet MS"/>
              </a:rPr>
              <a:t>Click to edit the title text format</a:t>
            </a:r>
            <a:endParaRPr b="1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8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78537-1BCF-4F46-B5F2-89075B561E40}" type="slidenum">
              <a:rPr b="0" lang="en-US" sz="1000" spc="-1" strike="noStrike">
                <a:solidFill>
                  <a:srgbClr val="808080"/>
                </a:solidFill>
                <a:latin typeface="Trebuchet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6126120"/>
            <a:ext cx="822960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2131920" y="4149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Sección 9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Innovación, Colaboración y Organizaciones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835280" y="6283440"/>
            <a:ext cx="5616360" cy="3855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611280" y="2058840"/>
            <a:ext cx="7772400" cy="173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rebuchet MS"/>
              </a:rPr>
              <a:t>Criterios para la aprobación del Curso </a:t>
            </a:r>
            <a:br>
              <a:rPr sz="3200"/>
            </a:br>
            <a:r>
              <a:rPr b="1" lang="es-MX" sz="3200" spc="-1" strike="noStrike">
                <a:solidFill>
                  <a:srgbClr val="000000"/>
                </a:solidFill>
                <a:latin typeface="Trebuchet MS"/>
              </a:rPr>
              <a:t>Introducción al trabajo de títu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12408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808080"/>
                </a:solidFill>
                <a:latin typeface="Trebuchet MS"/>
              </a:rPr>
              <a:t>Criterios</a:t>
            </a:r>
            <a:endParaRPr b="1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>
              <a:spcBef>
                <a:spcPts val="799"/>
              </a:spcBef>
              <a:buClr>
                <a:srgbClr val="000000"/>
              </a:buClr>
              <a:buFont typeface="Trebuchet MS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rebuchet MS"/>
              </a:rPr>
              <a:t>¿Tiene el alumno un tema?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812880" indent="-812880">
              <a:spcBef>
                <a:spcPts val="799"/>
              </a:spcBef>
              <a:buClr>
                <a:srgbClr val="000000"/>
              </a:buClr>
              <a:buFont typeface="Trebuchet MS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rebuchet MS"/>
              </a:rPr>
              <a:t>¿Está bien elaborado el proyecto?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812880" indent="-812880">
              <a:spcBef>
                <a:spcPts val="799"/>
              </a:spcBef>
              <a:buClr>
                <a:srgbClr val="000000"/>
              </a:buClr>
              <a:buFont typeface="Trebuchet MS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rebuchet MS"/>
              </a:rPr>
              <a:t>¿es factible el proyecto de título?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63BC0D-F476-4292-9530-89B41736399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12408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808080"/>
                </a:solidFill>
                <a:latin typeface="Trebuchet MS"/>
              </a:rPr>
              <a:t>¿Tiene el alumno un tema?</a:t>
            </a:r>
            <a:endParaRPr b="1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>
              <a:spcBef>
                <a:spcPts val="799"/>
              </a:spcBef>
              <a:buClr>
                <a:srgbClr val="000000"/>
              </a:buClr>
              <a:buFont typeface="Trebuchet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rebuchet MS"/>
              </a:rPr>
              <a:t>¿Es un tema de investigación?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812880" indent="-812880">
              <a:spcBef>
                <a:spcPts val="799"/>
              </a:spcBef>
              <a:buClr>
                <a:srgbClr val="000000"/>
              </a:buClr>
              <a:buFont typeface="Trebuchet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rebuchet MS"/>
              </a:rPr>
              <a:t>¿Es necesario que sea abordado por un ICI?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812880" indent="-812880">
              <a:spcBef>
                <a:spcPts val="799"/>
              </a:spcBef>
              <a:buClr>
                <a:srgbClr val="000000"/>
              </a:buClr>
              <a:buFont typeface="Trebuchet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rebuchet MS"/>
              </a:rPr>
              <a:t>¿Tiene cliente?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812880" indent="-812880">
              <a:spcBef>
                <a:spcPts val="799"/>
              </a:spcBef>
              <a:buClr>
                <a:srgbClr val="000000"/>
              </a:buClr>
              <a:buFont typeface="Trebuchet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rebuchet MS"/>
              </a:rPr>
              <a:t>¿Tiene una idea de producto final?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ABBE4E-1DA0-42CE-BAFE-BFB810DC5F1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12408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808080"/>
                </a:solidFill>
                <a:latin typeface="Trebuchet MS"/>
              </a:rPr>
              <a:t>¿Está bien elaborado el proyecto?</a:t>
            </a:r>
            <a:endParaRPr b="1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>
              <a:spcBef>
                <a:spcPts val="799"/>
              </a:spcBef>
              <a:buClr>
                <a:srgbClr val="000000"/>
              </a:buClr>
              <a:buFont typeface="Trebuchet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rebuchet MS"/>
              </a:rPr>
              <a:t>Coherencia interna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812880" indent="-812880">
              <a:spcBef>
                <a:spcPts val="799"/>
              </a:spcBef>
              <a:buClr>
                <a:srgbClr val="000000"/>
              </a:buClr>
              <a:buFont typeface="Trebuchet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rebuchet MS"/>
              </a:rPr>
              <a:t>Sustento bibliográfico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812880" indent="-812880">
              <a:spcBef>
                <a:spcPts val="799"/>
              </a:spcBef>
              <a:buClr>
                <a:srgbClr val="000000"/>
              </a:buClr>
              <a:buFont typeface="Trebuchet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rebuchet MS"/>
              </a:rPr>
              <a:t>Aplicación de competencias de la malla de cursos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812880" indent="-812880">
              <a:spcBef>
                <a:spcPts val="799"/>
              </a:spcBef>
              <a:buClr>
                <a:srgbClr val="000000"/>
              </a:buClr>
              <a:buFont typeface="Trebuchet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rebuchet MS"/>
              </a:rPr>
              <a:t>Mínimos del informe. (según pauta FCFM)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E6288B-E132-48E8-A7A7-853224B9F8F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12408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808080"/>
                </a:solidFill>
                <a:latin typeface="Trebuchet MS"/>
              </a:rPr>
              <a:t>Factibilidad</a:t>
            </a:r>
            <a:endParaRPr b="1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>
              <a:spcBef>
                <a:spcPts val="700"/>
              </a:spcBef>
              <a:buClr>
                <a:srgbClr val="000000"/>
              </a:buClr>
              <a:buFont typeface="Trebuchet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rebuchet MS"/>
              </a:rPr>
              <a:t>Plazos/Plan de Trabajo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812880" indent="-812880">
              <a:spcBef>
                <a:spcPts val="700"/>
              </a:spcBef>
              <a:buClr>
                <a:srgbClr val="000000"/>
              </a:buClr>
              <a:buFont typeface="Trebuchet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rebuchet MS"/>
              </a:rPr>
              <a:t>Apoyos institucionale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812880" indent="-812880">
              <a:spcBef>
                <a:spcPts val="700"/>
              </a:spcBef>
              <a:buClr>
                <a:srgbClr val="000000"/>
              </a:buClr>
              <a:buFont typeface="Trebuchet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rebuchet MS"/>
              </a:rPr>
              <a:t>Antecedentes en la disciplina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812880" indent="-812880">
              <a:spcBef>
                <a:spcPts val="700"/>
              </a:spcBef>
              <a:buClr>
                <a:srgbClr val="000000"/>
              </a:buClr>
              <a:buFont typeface="Trebuchet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rebuchet MS"/>
              </a:rPr>
              <a:t>Competencias/madurez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1168560" indent="-711360">
              <a:spcBef>
                <a:spcPts val="601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Trabajo autónomo durante el semest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spcBef>
                <a:spcPts val="601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Distancia analí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spcBef>
                <a:spcPts val="601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Calidad del proce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spcBef>
                <a:spcPts val="601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Proactiv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00"/>
              </a:spcBef>
              <a:buClr>
                <a:srgbClr val="000000"/>
              </a:buClr>
              <a:buFont typeface="Trebuchet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rebuchet MS"/>
              </a:rPr>
              <a:t>Driver Motivacional. ¿es tu tema?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812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C77C77-2A65-41E7-B694-BDD6A0AF52E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2T20:51:25Z</dcterms:created>
  <dc:creator>usuario</dc:creator>
  <dc:description/>
  <dc:language>en-US</dc:language>
  <cp:lastModifiedBy>dii</cp:lastModifiedBy>
  <dcterms:modified xsi:type="dcterms:W3CDTF">2007-11-05T19:09:06Z</dcterms:modified>
  <cp:revision>37</cp:revision>
  <dc:subject/>
  <dc:title>Título </dc:title>
</cp:coreProperties>
</file>