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4A223-7AEB-4E5F-809A-704A36BE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48259-09E5-48C8-B0BD-ADA9953C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578AB-1E0F-4A50-8F91-4C45595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6D317-6166-44C8-BF15-70835B4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7A99E-5E38-4C32-BD95-2406AB3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AAFC6-87AB-474A-858D-D24FDED1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23CA6-830E-4043-B394-7C62C6E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BF99-2E05-4F1B-8775-60F4ADF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30C53-3386-48B0-B226-2E03F4F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2538C-0618-43FB-B311-C4F1DDEC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93A05-3ACE-403A-86EF-0F22284E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D8908-7C38-4FEE-96B5-4F3D5A44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0F46-C63F-4BC0-ACF7-6391D3719F6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 Porter (competidores, productos alternativos, proveedo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clusiones más importantes del análisis interno y externo (FO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necesito saber? ¿Qué voy a pregunt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fundamentar 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Antonio</cp:lastModifiedBy>
  <dcterms:modified xsi:type="dcterms:W3CDTF">2007-08-08T16:38:20Z</dcterms:modified>
  <cp:revision>12</cp:revision>
  <dc:subject/>
  <dc:title>Sin título de diapositiva</dc:title>
</cp:coreProperties>
</file>