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636A3-3981-4CB2-A588-CD0472B2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ABB1D-9ACF-44F8-B643-36F10AA9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7EA91-BB2B-4440-899E-8E9B8A5C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FB2CA-243B-4C3B-B80F-2AED81D5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C028D-535D-43AC-B865-F8B9448D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F263E-26AB-4AB4-B8FC-976CA6D6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F765F-358E-45C1-B3BC-BE4011FB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09B43-6BBF-4B34-A249-92270087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65433-967D-46E7-95C2-920BEE45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B61A0-232C-4823-98CD-BCD3FBCC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503EB-F0B6-4357-B8F3-8A209781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F193F-0697-4029-9E3F-372220E3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9730-6487-4A40-95AE-245AB2CA127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clusiones más importantes de Porter (competidores, productos alternativos, proveed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clusiones más importantes del análisis interno y externo (FOD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necesito saber? ¿Qué voy a pregunt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lie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rganización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sultados Final 2a Etapa y 2o infor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fundamentar con datos duros para las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y crecimient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n de trabaj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ú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Antonio</cp:lastModifiedBy>
  <dcterms:modified xsi:type="dcterms:W3CDTF">2007-08-08T16:38:20Z</dcterms:modified>
  <cp:revision>12</cp:revision>
  <dc:subject/>
  <dc:title>Sin título de diapositiva</dc:title>
</cp:coreProperties>
</file>