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33EC8-74A9-46EB-86C7-8AC243F1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3F401-3845-456B-8069-691B37CB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3078B-CB95-43B7-8F75-F0AB74F4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5C651-E750-4DC9-99E0-79D9B3F8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F5E7F-78AB-48EE-A688-BB7BD21D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44AEE-C675-47B4-AA5F-232CAAE2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B2290-C37C-4C97-8165-422D65DC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AE9C4-DE0C-45C7-8E90-A198241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F8B30-E839-4B04-A2B1-CCA6B63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A303D-54A8-4C6E-AD3E-46AB1361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A7F06-E44C-45ED-9C00-FEE5C631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8CA41-2FF7-4D71-B43B-E3248D9B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697D-30F0-4CDC-87C5-F4AE667D9C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 Porter (competidores, productos alternativos, 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l análisis interno y externo (FOD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necesito saber? ¿Qué voy a pregunt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sultados Final 2a Etapa y 2o in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fundamentar con datos duros para las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y crecimient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ú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Antonio</cp:lastModifiedBy>
  <dcterms:modified xsi:type="dcterms:W3CDTF">2007-08-08T16:38:20Z</dcterms:modified>
  <cp:revision>12</cp:revision>
  <dc:subject/>
  <dc:title>Sin título de diapositiva</dc:title>
</cp:coreProperties>
</file>