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1A828-5B60-44FF-A921-82F78D10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52075-F236-4EA0-B2CC-53B3594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DC998-54FE-4D42-8B5A-5EB3A4A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A1B13-B298-4532-BC22-274D7AC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F28C-4DCB-449E-9597-41BFC3C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606C2-5708-4F71-899D-B6B62128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0FAEC-EBB6-401D-9DDA-7C3F8EF1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876BE-95B1-4C4F-8A93-1982BF1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3B8FA-1B6D-48A0-8FCA-72D0DE7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26C75-EF56-4A73-9015-42773258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ADF7E-6617-4BDA-9D16-21A9B449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6233-AC2F-484F-8FE7-576731DA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C9D-2765-49F6-B6AF-77C1F81762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80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Ucurso</cp:lastModifiedBy>
  <dcterms:modified xsi:type="dcterms:W3CDTF">2007-03-26T21:50:53Z</dcterms:modified>
  <cp:revision>18</cp:revision>
  <dc:subject/>
  <dc:title>Modelo de Negocios</dc:title>
</cp:coreProperties>
</file>