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D7F32-C300-4EB9-B14B-6F0E1400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1CCFD-B0B6-455A-B39D-B9F0AA9A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2B81A-645D-444B-8D21-6A898197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94B6B-3D86-435F-9B2C-565C6569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59499-8B7C-4356-8995-3C160150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6457D-890A-420C-B64F-B3695162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93225-BF2C-4A5E-801E-8705B20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934EC-23D2-4F7F-86EB-08B6BEC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F5E89-C62C-434B-B1C4-A06BDF2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F42BA-050F-493F-A5AE-25F85083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0B297-E9BF-4C04-8691-315C93B1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63144-9ED1-469E-8798-E1AE6718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64E4-3139-44BB-9E7D-E576214BB0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80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Ucurso</cp:lastModifiedBy>
  <dcterms:modified xsi:type="dcterms:W3CDTF">2007-03-26T21:50:53Z</dcterms:modified>
  <cp:revision>18</cp:revision>
  <dc:subject/>
  <dc:title>Modelo de Negocios</dc:title>
</cp:coreProperties>
</file>