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D056B-F539-45E7-A8DF-1769592E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3BCD6-4684-4D80-BBF6-548C7F88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93837-CD62-43F5-8445-ED04F869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B1C40-055B-4D4D-962E-B9D893D2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3A5AF-F851-4A5C-B24D-41C3E222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EE8CC-21D1-416A-BE9A-56AEE782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B4EFF-FE33-4887-A26A-1E7C17AB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A08D5-A4ED-4726-82DF-59FEB60A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94643-E3A3-4474-ABFC-C33E208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2D939-80BF-4E67-AA62-55BF5AA4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5FD4F-77A2-483A-83DC-EB5073F4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12531-ACB6-40CA-AAC1-749AC87C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229600" y="594360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9436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51C1-CBA6-4EDE-9DD7-67A6CF5C7F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l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31760" y="1905120"/>
            <a:ext cx="6120000" cy="3306600"/>
            <a:chOff x="1031760" y="1905120"/>
            <a:chExt cx="6120000" cy="3306600"/>
          </a:xfrm>
        </p:grpSpPr>
        <p:sp>
          <p:nvSpPr>
            <p:cNvPr id="180" name=""/>
            <p:cNvSpPr/>
            <p:nvPr/>
          </p:nvSpPr>
          <p:spPr>
            <a:xfrm>
              <a:off x="1031760" y="520704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31760" y="312408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31760" y="416556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6200" y="1917720"/>
              <a:ext cx="4179600" cy="3294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82840" y="1905120"/>
              <a:ext cx="2860560" cy="2255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9120" y="1905120"/>
              <a:ext cx="1547640" cy="121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5680" y="2514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12920" y="3352680"/>
              <a:ext cx="15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49200" y="4267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12920" y="231156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Ucurso</cp:lastModifiedBy>
  <dcterms:modified xsi:type="dcterms:W3CDTF">2007-03-26T21:50:53Z</dcterms:modified>
  <cp:revision>18</cp:revision>
  <dc:subject/>
  <dc:title>Modelo de Negocios</dc:title>
</cp:coreProperties>
</file>