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16.wmf" ContentType="image/x-wmf"/>
  <Override PartName="/ppt/media/image1.png" ContentType="image/png"/>
  <Override PartName="/ppt/media/image3.jpeg" ContentType="image/jpeg"/>
  <Override PartName="/ppt/media/image15.png" ContentType="image/png"/>
  <Override PartName="/ppt/media/image9.wmf" ContentType="image/x-wmf"/>
  <Override PartName="/ppt/media/image4.jpeg" ContentType="image/jpeg"/>
  <Override PartName="/ppt/media/image2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BC95-9E2F-42A3-946A-01C79EBA3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BFB1-0184-4338-94B9-362E9291D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47727-72E3-4D48-B3F2-986971E00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531F3-7578-4F3F-8668-05DBD6E17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661C1-1BC9-4214-9862-A5AAA83C7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7DDD9-2DCC-4BBF-B778-E47AA6CF9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39A20-C663-4671-AAAC-43A122665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BE14A-E02A-4B67-82D8-197207FC3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8E66F-AAEE-4CC1-BCFB-4163CBAD8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70BD6-4F3D-4610-B9EC-B9171CBED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5BEFA-ED13-493C-BD13-CA30FA6F6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41BDE-234B-4375-9BAA-370A427A4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DB9B5-B853-4021-9BA1-3B304796F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913B8-CCAA-4D70-8462-BB96B4E9B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C1FC847A-29C5-4379-AB4B-1913C329E063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83FE6-C462-43E6-BEC8-36B1C4E111EE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7EAAF-C86F-4FB1-9291-5C2299F7BBDC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9010B-D78C-4A99-A0A1-3C2BE7335C9B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47254-6F7E-49CE-8559-FFF3F9F9FB3A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6FEEB-FB99-48AB-B1D3-A1DA18DB0F45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8E0C4-0671-474A-8E56-25837D8ACBF9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89A10-B7DE-4B3C-94CE-73E4BE0814D4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6DD3D-4EBB-4A9A-99FF-EC06FA074051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D7BDC-A16F-4D2F-8707-B5559A3794BC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6805-D73C-4091-98D7-6FF27CEB198F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5AC39-2A0C-4D7A-90F4-D5DDCCD7CF83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322A7-A27A-4E78-82AB-68B4FCE23E12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AA8A4-88D1-422B-8286-6C2017E04F86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24B09-F40A-4138-B0D7-B55C2A4C9C9C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571E5-B291-400A-B07B-3954D6CB1F2C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88115-CB36-4AD3-9C6F-46D6683D4E2F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82677-ABF5-4A30-85E6-97CFC2AF7236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4A117-8398-49B8-A0A5-C5E5681FDC30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3F506-747C-4D8F-8FC7-2983CE71F50A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8ABDD-0B6D-41FB-9591-49A22A63D52A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326A5-52B7-419C-949C-4BB6753FF33D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99E57-4632-43B3-AEB4-E1F821E2586D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B8D6C-EDB8-4DBE-801A-FFB54DEBBB67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987EA-7895-4B8A-A24B-9B046A4861E8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CF67D-90C9-44F3-A9C4-AC2E161AC67E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B0687-717F-43E8-A0F2-A46BDACC4550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85B66-255F-4C7E-80ED-42792B734847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3E89C-5567-499C-822A-784394F73B01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CEEA2-6D9C-4A45-B2A7-A5F62ECF51C6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50D4D-E428-4ADC-BA74-E0FA6812761C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16FA3-DEC3-4030-A74F-7A567EFECC85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1E3D7-D25C-460A-AA26-80F3B0F2944C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54391-812E-4978-82E3-2D57E1742EA7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B67DB-1CDF-432D-911F-5A22C624E3BA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BFF8B-785E-4503-99B5-56EC2678EF6B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037A1-506F-4B73-8941-04B27B63D970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46A45-8A9A-4493-9D82-B5879B64DBFB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3A0C0-9B77-48FB-8918-659FD260F6ED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B5828-C3F4-4561-9F60-3601CC2BC2E4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27F7C-98FB-4E5B-936B-0D94074624F1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4C74B-E250-436B-BE0F-C26B806D1EB3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4C196-4C82-4B4A-BC15-59C0FD548888}" type="slidenum">
              <a:t>48</a:t>
            </a:fld>
          </a:p>
        </p:txBody>
      </p:sp>
    </p:spTree>
  </p:cSld>
  <p:transition>
    <p:random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EB7E0-2F1B-4377-B381-C6861C70CF19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9D679-CC62-4A8A-AB1F-5E3E15BFB83C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A54BE-6050-42A0-8528-59E565F3117E}" type="slidenum">
              <a:t>50</a:t>
            </a:fld>
          </a:p>
        </p:txBody>
      </p:sp>
    </p:spTree>
  </p:cSld>
  <p:transition>
    <p:random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3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40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BB2C8-8AC1-43D5-8EFD-B47C0518AECA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34E1-3006-44E5-B8FB-A4F317C0C9B1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9DF01-3A4D-4153-8FB6-7CFBD0A35600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370D7-93A3-4514-A557-39B56ED64A91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F8FE2-6856-45A4-95B7-B710F9123561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44023-B22B-4E67-B11A-6CCD0F44D9CF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24055-AFA7-49D7-8A53-EABEC5672EA6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</a:rPr>
              <a:t>mplement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AD90-69DF-4E1D-B474-CD8C64C8A10C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51078-2CE1-411E-8BCD-F3D52092D163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Teodoro Wigodski</cp:lastModifiedBy>
  <dcterms:modified xsi:type="dcterms:W3CDTF">2006-07-14T03:20:02Z</dcterms:modified>
  <cp:revision>53</cp:revision>
  <dc:subject>Chapter 1</dc:subject>
  <dc:title>Strategic Management 7e.</dc:title>
</cp:coreProperties>
</file>