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7.xml.rels" ContentType="application/vnd.openxmlformats-package.relationships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wmf" ContentType="image/x-wmf"/>
  <Override PartName="/ppt/media/image16.wmf" ContentType="image/x-wmf"/>
  <Override PartName="/ppt/media/image1.png" ContentType="image/png"/>
  <Override PartName="/ppt/media/image3.jpeg" ContentType="image/jpeg"/>
  <Override PartName="/ppt/media/image15.png" ContentType="image/png"/>
  <Override PartName="/ppt/media/image9.wmf" ContentType="image/x-wmf"/>
  <Override PartName="/ppt/media/image4.jpeg" ContentType="image/jpeg"/>
  <Override PartName="/ppt/media/image2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5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move the slide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420FD-C375-4091-BEEC-C197B95F5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122F8-5AA9-4DE7-A4D5-7A214F1B6C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9A2548-8AB9-4CD7-BA48-33BB680D8F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AB897-186B-4BF1-AD60-2A7B03E9960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A5CC0-D759-4D7D-9D4B-FB5986EFE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EFF58D-013D-406C-BF20-226D9EEECB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47C80-AD6B-483E-9120-02C08A6D72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028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12720" y="11426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4784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028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12720" y="384912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CE28FC-4A92-462C-9ABF-4D830EED5C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ACF52-5862-44A1-B107-DCECAACCA90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7E58D4-B4CE-4DDC-BAAD-C451C8473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47840" y="312480"/>
            <a:ext cx="8229600" cy="278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1D7448-4E86-4C17-BC68-FC9AA5B0BE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5E4FB-0A40-4320-8297-3AAA208850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4880" y="384912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7343A6-626F-42E9-9F61-217CC3E6AC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4880" y="11426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47840" y="384912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C9F2C-F8EF-4881-820D-4081B990C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lick to edit the title text forma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57200" y="6476760"/>
            <a:ext cx="411480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© 2007 Thomson/South-Western. All rights reserved.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81440" y="6476760"/>
            <a:ext cx="129564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–</a:t>
            </a:r>
            <a:fld id="{FD94671C-3D56-405A-8F7C-B2386B99E851}" type="slidenum"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2819520" y="0"/>
            <a:ext cx="6324480" cy="44197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2819520" y="4419720"/>
            <a:ext cx="6324480" cy="24382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819520" y="0"/>
            <a:ext cx="0" cy="685800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4419720"/>
            <a:ext cx="6324480" cy="0"/>
          </a:xfrm>
          <a:prstGeom prst="line">
            <a:avLst/>
          </a:prstGeom>
          <a:ln w="57240">
            <a:solidFill>
              <a:srgbClr val="0066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352320" y="1938240"/>
            <a:ext cx="480060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Click to edit the title text format</a:t>
            </a:r>
            <a:endParaRPr b="0" i="1" lang="en-US" sz="28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3"/>
          </p:nvPr>
        </p:nvSpPr>
        <p:spPr>
          <a:xfrm>
            <a:off x="304560" y="6035760"/>
            <a:ext cx="23619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© 2007 Thomson/South-Western.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Times New Roman"/>
              </a:rPr>
              <a:t>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5791320"/>
            <a:ext cx="236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PowerPoint Presentation by Charlie Cook</a:t>
            </a:r>
            <a:br>
              <a:rPr sz="800"/>
            </a:br>
            <a:r>
              <a:rPr b="1" lang="en-US" sz="800" spc="-1" strike="noStrike">
                <a:solidFill>
                  <a:srgbClr val="006666"/>
                </a:solidFill>
                <a:latin typeface="Arial"/>
              </a:rPr>
              <a:t>The University of West Alab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80000"/>
            <a:ext cx="51055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Tahoma"/>
              </a:rPr>
              <a:t>Strategic Management</a:t>
            </a:r>
            <a:br>
              <a:rPr sz="3200"/>
            </a:b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Competitiveness and Globalization: Concepts and Cases</a:t>
            </a:r>
            <a:r>
              <a:rPr b="1" i="1" lang="en-US" sz="2400" spc="-1" strike="noStrike">
                <a:solidFill>
                  <a:srgbClr val="0066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09920" y="60958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ichael A. Hitt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. Duane Ireland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•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obert E. Hoskiss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629400" y="560700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6666"/>
                </a:solidFill>
                <a:latin typeface="Arial"/>
              </a:rPr>
              <a:t>Seventh edi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3048120"/>
            <a:ext cx="2133720" cy="1373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cc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TEGIC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ANAGEMENT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PU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8120" y="2057400"/>
            <a:ext cx="5943600" cy="149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CHAPTER 1</a:t>
            </a:r>
            <a:br>
              <a:rPr sz="2800"/>
            </a:br>
            <a:r>
              <a:rPr b="0" i="1" lang="en-US" sz="3600" spc="-1" strike="noStrike">
                <a:solidFill>
                  <a:srgbClr val="000000"/>
                </a:solidFill>
                <a:latin typeface="Tahoma"/>
              </a:rPr>
              <a:t>Strategic Management and Strategic Competitiveness</a:t>
            </a:r>
            <a:endParaRPr b="0" i="1" lang="en-US" sz="3600" spc="-1" strike="noStrike" u="sng">
              <a:solidFill>
                <a:srgbClr val="000000"/>
              </a:solidFill>
              <a:uFillTx/>
              <a:latin typeface="Tahoma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Global Econom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Goods, people, skills, and ideas move freely across geographic border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ovement is relatively unfettered by artificial constraint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ansion into global arena complicates a firm’s competitive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ort-term: Where is the fastest growth likely to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ng-term: Where will sustainable growth occu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11693-21AA-4790-8AA5-F213109BAF73}" type="slidenum">
              <a:t>10</a:t>
            </a:fld>
          </a:p>
        </p:txBody>
      </p:sp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Global Economy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March of Globaliz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economic interdependence among countrie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low of goods and services, financial capital, and knowledge across country bor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performance level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q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ality, cost, productivity, product introduction time, and operational effici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creased range of opportunities for companies competing in the 21st-century competitive landscap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ability of foreignnes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—the risks of participating outside of a firm’s domestic country in the global econom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amount of time required for firms to learn how to compete in markets that are new to th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4A6D16-811A-414E-A9C0-DE1A4EB27E2C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y and 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echnology Diffu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speed at which new technologies become availab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isruptive Technolog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ies that destroy the value of existing technology and create new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erpetual Innovat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rapidity and consistency with which new, information-intensive technologies replace older on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153B-3A5A-4228-8283-99689337C388}" type="slidenum">
              <a:t>12</a:t>
            </a:fld>
          </a:p>
        </p:txBody>
      </p:sp>
    </p:spTree>
  </p:cSld>
  <p:transition>
    <p:random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500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Information 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ability to effectively and efficiently access and use information has become an important source of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echnology includes personal computers, cellular phones, artificial intelligence, virtual reality, massive databases, electronic networks, internet trad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248520" y="4419720"/>
            <a:ext cx="1892160" cy="1724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72C3C4-FAED-4B93-A340-1BE0F755983C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echnological Change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creasing Knowledge Intens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Knowledge as a critical organizational resource for creating an intangible competitive advantag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Strategic flexibility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the set of capabilities used to respond to various demands and opportunities in dynamic and uncertain competitive environmen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6600"/>
                </a:solidFill>
                <a:latin typeface="Arial"/>
              </a:rPr>
              <a:t>Organizational slack: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 slack resources that allow the firm flexibility to respond to environmental chang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Organizational capacity to lear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7A7AF-2766-4AAA-894F-EDF043D1B9CD}" type="slidenum">
              <a:t>14</a:t>
            </a:fld>
          </a:p>
        </p:txBody>
      </p:sp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ominance of the External Environment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 in which a firm competes has a stronger influence on the firm’s performance than do the choices managers make inside their organiza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perties Determining Performanc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4F7E2C-EB75-4CE8-A1A2-DB853FCB065A}" type="slidenum">
              <a:t>15</a:t>
            </a:fld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our Assumptions of the I/O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82840" y="1486080"/>
            <a:ext cx="6975360" cy="72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External environment imposes pressures and constraints that determine strategies leading to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549360" y="1459080"/>
            <a:ext cx="838080" cy="761760"/>
            <a:chOff x="549360" y="1459080"/>
            <a:chExt cx="838080" cy="761760"/>
          </a:xfrm>
        </p:grpSpPr>
        <p:sp>
          <p:nvSpPr>
            <p:cNvPr id="138" name=""/>
            <p:cNvSpPr/>
            <p:nvPr/>
          </p:nvSpPr>
          <p:spPr>
            <a:xfrm>
              <a:off x="549360" y="145908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89320" y="152820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549360" y="2705040"/>
            <a:ext cx="838080" cy="762120"/>
            <a:chOff x="549360" y="2705040"/>
            <a:chExt cx="838080" cy="762120"/>
          </a:xfrm>
        </p:grpSpPr>
        <p:sp>
          <p:nvSpPr>
            <p:cNvPr id="141" name=""/>
            <p:cNvSpPr/>
            <p:nvPr/>
          </p:nvSpPr>
          <p:spPr>
            <a:xfrm>
              <a:off x="549360" y="270504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89320" y="277416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1539720" y="2743200"/>
            <a:ext cx="71470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Most firms competing in an industry control similar strategically relevant resources and pursue similar strateg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539720" y="3867120"/>
            <a:ext cx="6096240" cy="69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Resources used to implement strategies are highly mobile across fir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549360" y="3832200"/>
            <a:ext cx="838080" cy="762120"/>
            <a:chOff x="549360" y="3832200"/>
            <a:chExt cx="838080" cy="762120"/>
          </a:xfrm>
        </p:grpSpPr>
        <p:sp>
          <p:nvSpPr>
            <p:cNvPr id="146" name=""/>
            <p:cNvSpPr/>
            <p:nvPr/>
          </p:nvSpPr>
          <p:spPr>
            <a:xfrm>
              <a:off x="549360" y="3832200"/>
              <a:ext cx="838080" cy="7621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89320" y="3901320"/>
              <a:ext cx="758160" cy="62352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49360" y="5105520"/>
            <a:ext cx="838080" cy="761760"/>
            <a:chOff x="549360" y="5105520"/>
            <a:chExt cx="838080" cy="761760"/>
          </a:xfrm>
        </p:grpSpPr>
        <p:sp>
          <p:nvSpPr>
            <p:cNvPr id="149" name=""/>
            <p:cNvSpPr/>
            <p:nvPr/>
          </p:nvSpPr>
          <p:spPr>
            <a:xfrm>
              <a:off x="549360" y="5105520"/>
              <a:ext cx="838080" cy="7617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303a3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89320" y="5174640"/>
              <a:ext cx="758160" cy="623160"/>
            </a:xfrm>
            <a:prstGeom prst="rect">
              <a:avLst/>
            </a:prstGeom>
            <a:gradFill rotWithShape="0">
              <a:gsLst>
                <a:gs pos="0">
                  <a:srgbClr val="303a3b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1539720" y="5029200"/>
            <a:ext cx="6858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Organizational decision makers are assumed to be rational and committed to acting in the firm’s best interests (profit-maximizi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26F76-025D-4439-9B3A-1A1FFBCC7DBB}" type="slidenum">
              <a:t>16</a:t>
            </a:fld>
          </a:p>
        </p:txBody>
      </p:sp>
    </p:spTree>
  </p:cSld>
  <p:transition>
    <p:random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0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2155680" cy="1371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55200"/>
            <a:ext cx="190512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3300"/>
                </a:solidFill>
                <a:latin typeface="Arial"/>
              </a:rPr>
              <a:t>1.2</a:t>
            </a:r>
            <a:r>
              <a:rPr b="1" i="1" lang="en-US" sz="1200" spc="-1" strike="noStrike">
                <a:solidFill>
                  <a:srgbClr val="cc33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I/O Model of Above-Average Return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54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2"/>
          <a:stretch/>
        </p:blipFill>
        <p:spPr>
          <a:xfrm>
            <a:off x="2743200" y="380880"/>
            <a:ext cx="4781520" cy="609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564A1-9BB9-437B-8402-A378C8C89AD7}" type="slidenum">
              <a:t>17</a:t>
            </a:fld>
          </a:p>
        </p:txBody>
      </p:sp>
    </p:spTree>
  </p:cSld>
  <p:transition>
    <p:random/>
  </p:transition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586440" y="1833480"/>
            <a:ext cx="3842280" cy="4340160"/>
            <a:chOff x="586440" y="1833480"/>
            <a:chExt cx="3842280" cy="4340160"/>
          </a:xfrm>
        </p:grpSpPr>
        <p:sp>
          <p:nvSpPr>
            <p:cNvPr id="158" name=""/>
            <p:cNvSpPr/>
            <p:nvPr/>
          </p:nvSpPr>
          <p:spPr>
            <a:xfrm>
              <a:off x="609480" y="2152800"/>
              <a:ext cx="3687840" cy="3687480"/>
            </a:xfrm>
            <a:prstGeom prst="ellipse">
              <a:avLst/>
            </a:prstGeom>
            <a:solidFill>
              <a:srgbClr val="33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997280" y="2205000"/>
              <a:ext cx="91224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Glob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573200" y="5349960"/>
              <a:ext cx="176256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Technologic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rot="17976600">
              <a:off x="3161160" y="4602960"/>
              <a:ext cx="12718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Econom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rot="3531600">
              <a:off x="2964960" y="3099240"/>
              <a:ext cx="172152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Demograph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rot="3576600">
              <a:off x="360720" y="4550040"/>
              <a:ext cx="167868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Sociocultu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rot="17993400">
              <a:off x="290880" y="3016080"/>
              <a:ext cx="1814400" cy="36828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ahoma"/>
                </a:rPr>
                <a:t>Political/Leg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6520" y="2894040"/>
              <a:ext cx="2633760" cy="2278080"/>
            </a:xfrm>
            <a:prstGeom prst="hexagon">
              <a:avLst>
                <a:gd name="adj" fmla="val 28903"/>
                <a:gd name="vf" fmla="val 115470"/>
              </a:avLst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21080" y="302436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Industr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621080" y="4319640"/>
              <a:ext cx="166500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Competi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cc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911960" y="1833480"/>
              <a:ext cx="1081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Genera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621080" y="5805360"/>
              <a:ext cx="16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nviro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328760" y="4284720"/>
              <a:ext cx="2249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/O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876560" y="1255320"/>
            <a:ext cx="3886200" cy="407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Strategy is dictated by the external environment of the firm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opportunities exist in these environment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Firm develops internal skills required by external environment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i="1" lang="en-US" sz="2400" spc="-1" strike="noStrike">
                <a:solidFill>
                  <a:srgbClr val="336699"/>
                </a:solidFill>
                <a:latin typeface="Arial"/>
              </a:rPr>
              <a:t>what can the firm do about the opportunities?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40160" y="1403280"/>
            <a:ext cx="366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xternal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97400" y="1681200"/>
            <a:ext cx="50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100320" y="1681200"/>
            <a:ext cx="1805040" cy="13795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2876040" y="1700280"/>
            <a:ext cx="2009880" cy="528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2903040" y="1681200"/>
            <a:ext cx="2001960" cy="2670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9FEB5-F5DA-405E-B08A-EDC993D167B9}" type="slidenum">
              <a:t>18</a:t>
            </a:fld>
          </a:p>
        </p:txBody>
      </p:sp>
    </p:spTree>
  </p:cSld>
  <p:transition>
    <p:random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61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500"/>
                            </p:stCondLst>
                            <p:childTnLst>
                              <p:par>
                                <p:cTn id="16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22680" y="1447920"/>
            <a:ext cx="407664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99960" indent="-399960"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udy the external environment, especially the industry environment: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Economies of scale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Barriers to market en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iversific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Product differentiation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28600">
              <a:spcBef>
                <a:spcPts val="49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Arial"/>
              </a:rPr>
              <a:t>Degree of concentration of firms in the industry</a:t>
            </a:r>
            <a:endParaRPr b="0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541440" y="1380960"/>
            <a:ext cx="3801960" cy="593640"/>
            <a:chOff x="541440" y="1380960"/>
            <a:chExt cx="3801960" cy="593640"/>
          </a:xfrm>
        </p:grpSpPr>
        <p:sp>
          <p:nvSpPr>
            <p:cNvPr id="181" name=""/>
            <p:cNvSpPr/>
            <p:nvPr/>
          </p:nvSpPr>
          <p:spPr>
            <a:xfrm>
              <a:off x="54144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50000">
                  <a:srgbClr val="bbe0e3"/>
                </a:gs>
                <a:gs pos="100000">
                  <a:srgbClr val="43505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20640" y="1452240"/>
              <a:ext cx="3643560" cy="449280"/>
            </a:xfrm>
            <a:prstGeom prst="rect">
              <a:avLst/>
            </a:prstGeom>
            <a:gradFill rotWithShape="0">
              <a:gsLst>
                <a:gs pos="0">
                  <a:srgbClr val="7b9395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146ECE-1E5B-4679-9D60-D9E36B3BEC78}" type="slidenum">
              <a:t>19</a:t>
            </a:fld>
          </a:p>
        </p:txBody>
      </p:sp>
    </p:spTree>
  </p:cSld>
  <p:transition>
    <p:random/>
  </p:transition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500"/>
                            </p:stCondLst>
                            <p:childTnLst>
                              <p:par>
                                <p:cTn id="1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0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5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30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560" y="185760"/>
            <a:ext cx="42670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</a:t>
            </a:r>
            <a:endParaRPr b="0" lang="en-US" sz="1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rategic competitiveness, strategy, competitive advantage, above-average returns, and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21st-century competitive landscape and explain how globalization and technological changes shape it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industrial organization (I/O) model to explain how firms can earn above-average retur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199"/>
              </a:spcBef>
              <a:buClr>
                <a:srgbClr val="0033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resource-based model to explain how firms can earn above-average return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769BE8-0268-46AF-80DC-106F5EF8D593}" type="slidenum">
              <a:t>2</a:t>
            </a:fld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02240" y="1981080"/>
            <a:ext cx="3525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 with a high potential for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3429000"/>
            <a:ext cx="3505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One whose structural characteristics suggest above-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541440" y="1371600"/>
            <a:ext cx="3801960" cy="593640"/>
            <a:chOff x="541440" y="1371600"/>
            <a:chExt cx="3801960" cy="593640"/>
          </a:xfrm>
        </p:grpSpPr>
        <p:sp>
          <p:nvSpPr>
            <p:cNvPr id="187" name=""/>
            <p:cNvSpPr/>
            <p:nvPr/>
          </p:nvSpPr>
          <p:spPr>
            <a:xfrm>
              <a:off x="54144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2064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541440" y="1982880"/>
            <a:ext cx="3801960" cy="593640"/>
            <a:chOff x="541440" y="1982880"/>
            <a:chExt cx="3801960" cy="593640"/>
          </a:xfrm>
        </p:grpSpPr>
        <p:sp>
          <p:nvSpPr>
            <p:cNvPr id="190" name=""/>
            <p:cNvSpPr/>
            <p:nvPr/>
          </p:nvSpPr>
          <p:spPr>
            <a:xfrm>
              <a:off x="54144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064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F1A3D-83D3-47D8-8E34-EC6BC2C5ADAE}" type="slidenum">
              <a:t>20</a:t>
            </a:fld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4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8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150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2640" y="2592000"/>
            <a:ext cx="4114800" cy="11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strategy called for by the attractive industry to earn above-average return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40280" y="3765600"/>
            <a:ext cx="3822840" cy="14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: Selection of a strategy linked with above-average returns in a particular indus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541440" y="1390680"/>
            <a:ext cx="3801960" cy="593640"/>
            <a:chOff x="541440" y="1390680"/>
            <a:chExt cx="3801960" cy="593640"/>
          </a:xfrm>
        </p:grpSpPr>
        <p:sp>
          <p:nvSpPr>
            <p:cNvPr id="196" name=""/>
            <p:cNvSpPr/>
            <p:nvPr/>
          </p:nvSpPr>
          <p:spPr>
            <a:xfrm>
              <a:off x="541440" y="1390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20640" y="1461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8" name=""/>
          <p:cNvGrpSpPr/>
          <p:nvPr/>
        </p:nvGrpSpPr>
        <p:grpSpPr>
          <a:xfrm>
            <a:off x="541440" y="2001960"/>
            <a:ext cx="3801960" cy="593640"/>
            <a:chOff x="541440" y="2001960"/>
            <a:chExt cx="3801960" cy="593640"/>
          </a:xfrm>
        </p:grpSpPr>
        <p:sp>
          <p:nvSpPr>
            <p:cNvPr id="199" name=""/>
            <p:cNvSpPr/>
            <p:nvPr/>
          </p:nvSpPr>
          <p:spPr>
            <a:xfrm>
              <a:off x="541440" y="2001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20640" y="2073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541440" y="2614680"/>
            <a:ext cx="3801960" cy="593640"/>
            <a:chOff x="541440" y="2614680"/>
            <a:chExt cx="3801960" cy="593640"/>
          </a:xfrm>
        </p:grpSpPr>
        <p:sp>
          <p:nvSpPr>
            <p:cNvPr id="202" name=""/>
            <p:cNvSpPr/>
            <p:nvPr/>
          </p:nvSpPr>
          <p:spPr>
            <a:xfrm>
              <a:off x="541440" y="26146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20640" y="26859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AF2F6-D0EC-4B2C-AF8E-F4643205D5C7}" type="slidenum">
              <a:t>21</a:t>
            </a:fld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000"/>
                            </p:stCondLst>
                            <p:childTnLst>
                              <p:par>
                                <p:cTn id="2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602240" y="3201480"/>
            <a:ext cx="4075200" cy="110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velop or acquir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ssets and skill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 needed to implement a chosen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952880" y="4343400"/>
            <a:ext cx="373392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ssets and skills: those assets and skills required to implement a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33520" y="1380960"/>
            <a:ext cx="3801960" cy="593640"/>
            <a:chOff x="533520" y="1380960"/>
            <a:chExt cx="3801960" cy="593640"/>
          </a:xfrm>
        </p:grpSpPr>
        <p:sp>
          <p:nvSpPr>
            <p:cNvPr id="208" name=""/>
            <p:cNvSpPr/>
            <p:nvPr/>
          </p:nvSpPr>
          <p:spPr>
            <a:xfrm>
              <a:off x="533520" y="13809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12720" y="14522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541440" y="1990800"/>
            <a:ext cx="3801960" cy="593640"/>
            <a:chOff x="541440" y="1990800"/>
            <a:chExt cx="3801960" cy="593640"/>
          </a:xfrm>
        </p:grpSpPr>
        <p:sp>
          <p:nvSpPr>
            <p:cNvPr id="211" name=""/>
            <p:cNvSpPr/>
            <p:nvPr/>
          </p:nvSpPr>
          <p:spPr>
            <a:xfrm>
              <a:off x="541440" y="19908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20640" y="20620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41440" y="2603520"/>
            <a:ext cx="3801960" cy="593640"/>
            <a:chOff x="541440" y="2603520"/>
            <a:chExt cx="3801960" cy="593640"/>
          </a:xfrm>
        </p:grpSpPr>
        <p:sp>
          <p:nvSpPr>
            <p:cNvPr id="214" name=""/>
            <p:cNvSpPr/>
            <p:nvPr/>
          </p:nvSpPr>
          <p:spPr>
            <a:xfrm>
              <a:off x="541440" y="26035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20640" y="26748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541440" y="3216240"/>
            <a:ext cx="3801960" cy="593640"/>
            <a:chOff x="541440" y="3216240"/>
            <a:chExt cx="3801960" cy="593640"/>
          </a:xfrm>
        </p:grpSpPr>
        <p:sp>
          <p:nvSpPr>
            <p:cNvPr id="217" name=""/>
            <p:cNvSpPr/>
            <p:nvPr/>
          </p:nvSpPr>
          <p:spPr>
            <a:xfrm>
              <a:off x="541440" y="32162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20640" y="32875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3831A-926E-4B07-8291-9659977E4D26}" type="slidenum">
              <a:t>22</a:t>
            </a:fld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949560" cy="139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59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 Use the firm’s strengths (its developed or acquired assets and skills) to implement the strateg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43600" y="5181480"/>
            <a:ext cx="387180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implementation: select strategic actions linked with effective implementation of the chosen strateg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33520" y="1376280"/>
            <a:ext cx="3801960" cy="593640"/>
            <a:chOff x="533520" y="1376280"/>
            <a:chExt cx="3801960" cy="593640"/>
          </a:xfrm>
        </p:grpSpPr>
        <p:sp>
          <p:nvSpPr>
            <p:cNvPr id="223" name=""/>
            <p:cNvSpPr/>
            <p:nvPr/>
          </p:nvSpPr>
          <p:spPr>
            <a:xfrm>
              <a:off x="533520" y="1376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12720" y="1447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533520" y="1987560"/>
            <a:ext cx="3801960" cy="593640"/>
            <a:chOff x="533520" y="1987560"/>
            <a:chExt cx="3801960" cy="593640"/>
          </a:xfrm>
        </p:grpSpPr>
        <p:sp>
          <p:nvSpPr>
            <p:cNvPr id="226" name=""/>
            <p:cNvSpPr/>
            <p:nvPr/>
          </p:nvSpPr>
          <p:spPr>
            <a:xfrm>
              <a:off x="533520" y="1987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2720" y="2058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533520" y="2600280"/>
            <a:ext cx="3801960" cy="593640"/>
            <a:chOff x="533520" y="2600280"/>
            <a:chExt cx="3801960" cy="593640"/>
          </a:xfrm>
        </p:grpSpPr>
        <p:sp>
          <p:nvSpPr>
            <p:cNvPr id="229" name=""/>
            <p:cNvSpPr/>
            <p:nvPr/>
          </p:nvSpPr>
          <p:spPr>
            <a:xfrm>
              <a:off x="533520" y="2600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12720" y="2671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533520" y="3213000"/>
            <a:ext cx="3801960" cy="593640"/>
            <a:chOff x="533520" y="3213000"/>
            <a:chExt cx="3801960" cy="593640"/>
          </a:xfrm>
        </p:grpSpPr>
        <p:sp>
          <p:nvSpPr>
            <p:cNvPr id="232" name=""/>
            <p:cNvSpPr/>
            <p:nvPr/>
          </p:nvSpPr>
          <p:spPr>
            <a:xfrm>
              <a:off x="533520" y="3213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2720" y="3284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533520" y="3825720"/>
            <a:ext cx="3801960" cy="593640"/>
            <a:chOff x="533520" y="3825720"/>
            <a:chExt cx="3801960" cy="593640"/>
          </a:xfrm>
        </p:grpSpPr>
        <p:sp>
          <p:nvSpPr>
            <p:cNvPr id="235" name=""/>
            <p:cNvSpPr/>
            <p:nvPr/>
          </p:nvSpPr>
          <p:spPr>
            <a:xfrm>
              <a:off x="533520" y="38257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12720" y="38970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5AFC0D-2314-4F8F-A09C-FE36A5C4BF86}" type="slidenum">
              <a:t>23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7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ndustrial Organization (I/O) Model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533520" y="1371600"/>
            <a:ext cx="3801960" cy="593640"/>
            <a:chOff x="533520" y="1371600"/>
            <a:chExt cx="3801960" cy="593640"/>
          </a:xfrm>
        </p:grpSpPr>
        <p:sp>
          <p:nvSpPr>
            <p:cNvPr id="239" name=""/>
            <p:cNvSpPr/>
            <p:nvPr/>
          </p:nvSpPr>
          <p:spPr>
            <a:xfrm>
              <a:off x="533520" y="1371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12720" y="1442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The External Environm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533520" y="1982880"/>
            <a:ext cx="3801960" cy="593640"/>
            <a:chOff x="533520" y="1982880"/>
            <a:chExt cx="3801960" cy="593640"/>
          </a:xfrm>
        </p:grpSpPr>
        <p:sp>
          <p:nvSpPr>
            <p:cNvPr id="242" name=""/>
            <p:cNvSpPr/>
            <p:nvPr/>
          </p:nvSpPr>
          <p:spPr>
            <a:xfrm>
              <a:off x="533520" y="19828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12720" y="20541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533520" y="2595600"/>
            <a:ext cx="3801960" cy="593640"/>
            <a:chOff x="533520" y="2595600"/>
            <a:chExt cx="3801960" cy="593640"/>
          </a:xfrm>
        </p:grpSpPr>
        <p:sp>
          <p:nvSpPr>
            <p:cNvPr id="245" name=""/>
            <p:cNvSpPr/>
            <p:nvPr/>
          </p:nvSpPr>
          <p:spPr>
            <a:xfrm>
              <a:off x="533520" y="25956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12720" y="26668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533520" y="3208320"/>
            <a:ext cx="3801960" cy="593640"/>
            <a:chOff x="533520" y="3208320"/>
            <a:chExt cx="3801960" cy="593640"/>
          </a:xfrm>
        </p:grpSpPr>
        <p:sp>
          <p:nvSpPr>
            <p:cNvPr id="248" name=""/>
            <p:cNvSpPr/>
            <p:nvPr/>
          </p:nvSpPr>
          <p:spPr>
            <a:xfrm>
              <a:off x="533520" y="3208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612720" y="3279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ssets and Skil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533520" y="3821040"/>
            <a:ext cx="3801960" cy="593640"/>
            <a:chOff x="533520" y="3821040"/>
            <a:chExt cx="3801960" cy="593640"/>
          </a:xfrm>
        </p:grpSpPr>
        <p:sp>
          <p:nvSpPr>
            <p:cNvPr id="251" name=""/>
            <p:cNvSpPr/>
            <p:nvPr/>
          </p:nvSpPr>
          <p:spPr>
            <a:xfrm>
              <a:off x="533520" y="382104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612720" y="389232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5891040" y="332424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329000" y="1631880"/>
            <a:ext cx="843120" cy="247356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560"/>
              <a:gd name="textAreaBottom" fmla="*/ 2409120 h 247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65720" y="2867040"/>
            <a:ext cx="1861920" cy="190512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64920" y="5181480"/>
            <a:ext cx="3725640" cy="76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33520" y="4433760"/>
            <a:ext cx="3801960" cy="593640"/>
            <a:chOff x="533520" y="4433760"/>
            <a:chExt cx="3801960" cy="593640"/>
          </a:xfrm>
        </p:grpSpPr>
        <p:sp>
          <p:nvSpPr>
            <p:cNvPr id="258" name=""/>
            <p:cNvSpPr/>
            <p:nvPr/>
          </p:nvSpPr>
          <p:spPr>
            <a:xfrm>
              <a:off x="533520" y="44337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12720" y="45050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F8A9A-E328-4AE0-A881-E4AD4A24D279}" type="slidenum">
              <a:t>24</a:t>
            </a:fld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86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y Profitabilit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industry’s rate of return on invested capital relative to its cost of capital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n industry’s profitability results from interaction among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li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Buy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ve rivalry among firms currently in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duct substitut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otential entrants to the industr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F4545-E8BE-4BB8-B009-95EE03469703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Five Forces Model of Competit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808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Firms earn above-average returns by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Cost leadership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ducing standardized products or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6600"/>
                </a:solidFill>
                <a:latin typeface="Arial"/>
              </a:rPr>
              <a:t>Differentiation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ufacturing differentiated products for which customers are willing to pay a price prem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6483240" y="4267080"/>
            <a:ext cx="17449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3DE0A-DD09-49B0-BD4B-A658BC50BA84}" type="slidenum">
              <a:t>26</a:t>
            </a:fld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11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Resource-Based Model of Above-Average Retur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47840" y="1676160"/>
            <a:ext cx="8229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odel Assumptio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ach organization is a collection of unique resources and capabilities that provides the basis for its strategy and that is the primary source of its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bilities evolve and must be managed dynamicall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ifferences in firms’ performances are due primarily to their unique resources and capabilities rather than structural characteristics of the industr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irms acquire different resources and develop unique capabilit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5E4436-B06E-4839-8DE0-C7BF7C41E0C3}" type="slidenum">
              <a:t>27</a:t>
            </a:fld>
          </a:p>
        </p:txBody>
      </p:sp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434880" y="457200"/>
            <a:ext cx="2156040" cy="182880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19051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3</a:t>
            </a:r>
            <a:r>
              <a:rPr b="1" i="1" lang="en-US" sz="1200" spc="-1" strike="noStrike">
                <a:solidFill>
                  <a:srgbClr val="cc6600"/>
                </a:solidFill>
                <a:latin typeface="Tahoma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 Resource-Based Model of Above-Average Returns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1" name=""/>
          <p:cNvSpPr/>
          <p:nvPr/>
        </p:nvSpPr>
        <p:spPr>
          <a:xfrm>
            <a:off x="685800" y="684360"/>
            <a:ext cx="0" cy="479160"/>
          </a:xfrm>
          <a:prstGeom prst="line">
            <a:avLst/>
          </a:prstGeom>
          <a:ln w="284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2971800" y="380880"/>
            <a:ext cx="4954680" cy="6034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6D495-E9FC-4EDF-87B4-9B196640703D}" type="slidenum">
              <a:t>28</a:t>
            </a:fld>
          </a:p>
        </p:txBody>
      </p:sp>
    </p:spTree>
  </p:cSld>
  <p:transition>
    <p:random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09480" y="4724280"/>
            <a:ext cx="3505320" cy="1371600"/>
          </a:xfrm>
          <a:prstGeom prst="ellipse">
            <a:avLst/>
          </a:prstGeom>
          <a:gradFill rotWithShape="0">
            <a:gsLst>
              <a:gs pos="0">
                <a:srgbClr val="996600"/>
              </a:gs>
              <a:gs pos="100000">
                <a:srgbClr val="462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of Above-Average Retur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7160" y="1523880"/>
            <a:ext cx="4232160" cy="29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1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Strategy is dictated by the firm’s unique resources and capabilitie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2.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  <a:ea typeface="Times New Roman"/>
              </a:rPr>
              <a:t>Find an environment in which to exploit these assets (where are the best opportunities?)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837720" y="1981080"/>
            <a:ext cx="3048120" cy="3124440"/>
            <a:chOff x="837720" y="1981080"/>
            <a:chExt cx="3048120" cy="3124440"/>
          </a:xfrm>
        </p:grpSpPr>
        <p:sp>
          <p:nvSpPr>
            <p:cNvPr id="278" name=""/>
            <p:cNvSpPr/>
            <p:nvPr/>
          </p:nvSpPr>
          <p:spPr>
            <a:xfrm rot="5400000">
              <a:off x="799560" y="2018880"/>
              <a:ext cx="3124440" cy="3048120"/>
            </a:xfrm>
            <a:custGeom>
              <a:avLst/>
              <a:gdLst>
                <a:gd name="textAreaLeft" fmla="*/ 0 w 3124440"/>
                <a:gd name="textAreaRight" fmla="*/ 3124800 w 3124440"/>
                <a:gd name="textAreaTop" fmla="*/ 0 h 3048120"/>
                <a:gd name="textAreaBottom" fmla="*/ 3048480 h 3048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Strategy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c3300"/>
                  </a:solidFill>
                  <a:latin typeface="Arial"/>
                </a:rPr>
                <a:t>Competitive Advantag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19320" y="3938760"/>
              <a:ext cx="2286000" cy="337320"/>
            </a:xfrm>
            <a:prstGeom prst="rect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ore Competenc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62320" y="301320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62320" y="3565440"/>
              <a:ext cx="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219320" y="3394080"/>
              <a:ext cx="2286000" cy="337320"/>
            </a:xfrm>
            <a:prstGeom prst="rect">
              <a:avLst/>
            </a:prstGeom>
            <a:solidFill>
              <a:srgbClr val="3366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Capabiliti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219320" y="2819520"/>
              <a:ext cx="2286000" cy="337320"/>
            </a:xfrm>
            <a:prstGeom prst="rect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Resourc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64473C-3E37-4F98-898C-8BFA70FA83C8}" type="slidenum">
              <a:t>29</a:t>
            </a:fld>
          </a:p>
        </p:txBody>
      </p:sp>
    </p:spTree>
  </p:cSld>
  <p:transition>
    <p:random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6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1000"/>
                            </p:stCondLst>
                            <p:childTnLst>
                              <p:par>
                                <p:cTn id="30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"/>
                            </p:stCondLst>
                            <p:childTnLst>
                              <p:par>
                                <p:cTn id="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560" y="182520"/>
            <a:ext cx="5181480" cy="48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WLEDG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JECTIVES </a:t>
            </a: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(cont’d)</a:t>
            </a:r>
            <a:endParaRPr b="0" lang="en-US" sz="16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47840" y="1724040"/>
            <a:ext cx="8229600" cy="43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vision and mission and discuss their value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stakeholders and describe their ability to influence organization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work of strategic leaders. 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marL="533520" indent="-533520">
              <a:spcBef>
                <a:spcPts val="1500"/>
              </a:spcBef>
              <a:buClr>
                <a:srgbClr val="003366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strategic management process.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9960" y="885960"/>
            <a:ext cx="8325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tudying this chapter should provide you with the strategic management knowledge need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32103-E163-4F39-A5B8-FFCF5A6E690B}" type="slidenum">
              <a:t>3</a:t>
            </a:fld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s and Capabilit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47480" y="1142640"/>
            <a:ext cx="40366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nputs into a firm’s production process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pital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kills of individual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t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na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lented 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40400" y="1142640"/>
            <a:ext cx="4037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apabil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apacity of a set of resources to perform in an integrative manner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apability should </a:t>
            </a:r>
            <a:r>
              <a:rPr b="0" i="1" lang="en-US" sz="2400" spc="-1" strike="noStrike">
                <a:solidFill>
                  <a:srgbClr val="cc3300"/>
                </a:solidFill>
                <a:latin typeface="Arial"/>
              </a:rPr>
              <a:t>n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e: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simple that it is highly imit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 complex that it defies internal steering and contro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B267C9-E0D6-4D33-8E0C-897408D627C6}" type="slidenum">
              <a:t>30</a:t>
            </a:fld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602240" y="1142640"/>
            <a:ext cx="4075200" cy="24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Identify the firm’s resourc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trengths and weaknesses compared with competitors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541440" y="1300320"/>
            <a:ext cx="3801960" cy="593640"/>
            <a:chOff x="541440" y="1300320"/>
            <a:chExt cx="3801960" cy="593640"/>
          </a:xfrm>
        </p:grpSpPr>
        <p:sp>
          <p:nvSpPr>
            <p:cNvPr id="290" name=""/>
            <p:cNvSpPr/>
            <p:nvPr/>
          </p:nvSpPr>
          <p:spPr>
            <a:xfrm>
              <a:off x="541440" y="130032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20640" y="137160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762120" y="2057400"/>
            <a:ext cx="3576600" cy="7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Resources: inputs into a firm’s produc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26264-85EB-4C79-B382-C7308D28C4E8}" type="slidenum">
              <a:t>31</a:t>
            </a:fld>
          </a:p>
        </p:txBody>
      </p:sp>
    </p:spTree>
  </p:cSld>
  <p:transition>
    <p:random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1500"/>
                            </p:stCondLst>
                            <p:childTnLst>
                              <p:par>
                                <p:cTn id="3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3" dur="500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01880" y="1821960"/>
            <a:ext cx="3933720" cy="122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firm’s capabilities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  <a:ea typeface="Arial"/>
              </a:rPr>
              <a:t>—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what it can do better than its competitors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296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299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609480" y="2630520"/>
            <a:ext cx="3881520" cy="15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apability: capacity of an integrated set of resources to integratively perform a task or acti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166B0-C8E9-4435-B14D-5028D5EFED2D}" type="slidenum">
              <a:t>32</a:t>
            </a:fld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500"/>
                            </p:stCondLst>
                            <p:childTnLst>
                              <p:par>
                                <p:cTn id="3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4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1000"/>
                            </p:stCondLst>
                            <p:childTnLst>
                              <p:par>
                                <p:cTn id="3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2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02240" y="2416320"/>
            <a:ext cx="3541680" cy="16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3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Determine the potential of the firm’s resources and capabilities in terms of a competitive advantage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05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08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11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685800" y="3200400"/>
            <a:ext cx="3429000" cy="125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Competitive advantage: </a:t>
            </a:r>
            <a:br>
              <a:rPr sz="2000"/>
            </a:b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bility of a firm to outperform its rival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33407-54E0-453F-A927-496D55D9DC51}" type="slidenum">
              <a:t>33</a:t>
            </a:fld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0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500"/>
                            </p:stCondLst>
                            <p:childTnLst>
                              <p:par>
                                <p:cTn id="3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1000"/>
                            </p:stCondLst>
                            <p:childTnLst>
                              <p:par>
                                <p:cTn id="3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62640" y="3154320"/>
            <a:ext cx="41148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Locate an attractive industry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17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20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23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26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"/>
          <p:cNvSpPr/>
          <p:nvPr/>
        </p:nvSpPr>
        <p:spPr>
          <a:xfrm>
            <a:off x="533520" y="3809880"/>
            <a:ext cx="38811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Attractive industry: an industry with opportunities that can be exploited by the firm’s resources and capabiliti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9B04F-5057-4E46-A0F7-92D3DFBF43C9}" type="slidenum">
              <a:t>34</a:t>
            </a:fld>
          </a:p>
        </p:txBody>
      </p: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0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1000"/>
                            </p:stCondLst>
                            <p:childTnLst>
                              <p:par>
                                <p:cTn id="3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679640" y="3862440"/>
            <a:ext cx="377676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5.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336699"/>
                </a:solidFill>
                <a:latin typeface="Arial"/>
              </a:rPr>
              <a:t>Select a strategy that best allows the firm to utilize its resources and capabilities relative to opportunities in the external environment.</a:t>
            </a:r>
            <a:endParaRPr b="0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541440" y="1295280"/>
            <a:ext cx="3801960" cy="593640"/>
            <a:chOff x="541440" y="1295280"/>
            <a:chExt cx="3801960" cy="593640"/>
          </a:xfrm>
        </p:grpSpPr>
        <p:sp>
          <p:nvSpPr>
            <p:cNvPr id="332" name=""/>
            <p:cNvSpPr/>
            <p:nvPr/>
          </p:nvSpPr>
          <p:spPr>
            <a:xfrm>
              <a:off x="54144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2064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541440" y="1906560"/>
            <a:ext cx="3801960" cy="593640"/>
            <a:chOff x="541440" y="1906560"/>
            <a:chExt cx="3801960" cy="593640"/>
          </a:xfrm>
        </p:grpSpPr>
        <p:sp>
          <p:nvSpPr>
            <p:cNvPr id="335" name=""/>
            <p:cNvSpPr/>
            <p:nvPr/>
          </p:nvSpPr>
          <p:spPr>
            <a:xfrm>
              <a:off x="54144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62064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541440" y="2519280"/>
            <a:ext cx="3801960" cy="593640"/>
            <a:chOff x="541440" y="2519280"/>
            <a:chExt cx="3801960" cy="593640"/>
          </a:xfrm>
        </p:grpSpPr>
        <p:sp>
          <p:nvSpPr>
            <p:cNvPr id="338" name=""/>
            <p:cNvSpPr/>
            <p:nvPr/>
          </p:nvSpPr>
          <p:spPr>
            <a:xfrm>
              <a:off x="54144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2064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541440" y="3132000"/>
            <a:ext cx="3801960" cy="593640"/>
            <a:chOff x="541440" y="3132000"/>
            <a:chExt cx="3801960" cy="593640"/>
          </a:xfrm>
        </p:grpSpPr>
        <p:sp>
          <p:nvSpPr>
            <p:cNvPr id="341" name=""/>
            <p:cNvSpPr/>
            <p:nvPr/>
          </p:nvSpPr>
          <p:spPr>
            <a:xfrm>
              <a:off x="54144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2064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541440" y="3745080"/>
            <a:ext cx="3801960" cy="1131480"/>
            <a:chOff x="541440" y="3745080"/>
            <a:chExt cx="3801960" cy="1131480"/>
          </a:xfrm>
        </p:grpSpPr>
        <p:sp>
          <p:nvSpPr>
            <p:cNvPr id="344" name=""/>
            <p:cNvSpPr/>
            <p:nvPr/>
          </p:nvSpPr>
          <p:spPr>
            <a:xfrm>
              <a:off x="541440" y="3745080"/>
              <a:ext cx="3801960" cy="11314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620640" y="3880800"/>
              <a:ext cx="3642840" cy="8560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trategy Formulation </a:t>
              </a:r>
              <a:br>
                <a:rPr sz="2000"/>
              </a:b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838080" y="4890960"/>
            <a:ext cx="311940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trategy formulation and implementation: strategic actions taken to earn above average retur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BE06-2FD6-4CC0-82BC-CFC754DD43BD}" type="slidenum">
              <a:t>35</a:t>
            </a:fld>
          </a:p>
        </p:txBody>
      </p:sp>
    </p:spTree>
  </p:cSld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fill="hold">
                            <p:stCondLst>
                              <p:cond delay="500"/>
                            </p:stCondLst>
                            <p:childTnLst>
                              <p:par>
                                <p:cTn id="3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1000"/>
                            </p:stCondLst>
                            <p:childTnLst>
                              <p:par>
                                <p:cTn id="4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3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Resource-Based Model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348" name=""/>
          <p:cNvGrpSpPr/>
          <p:nvPr/>
        </p:nvGrpSpPr>
        <p:grpSpPr>
          <a:xfrm>
            <a:off x="533520" y="1295280"/>
            <a:ext cx="3801960" cy="593640"/>
            <a:chOff x="533520" y="1295280"/>
            <a:chExt cx="3801960" cy="593640"/>
          </a:xfrm>
        </p:grpSpPr>
        <p:sp>
          <p:nvSpPr>
            <p:cNvPr id="349" name=""/>
            <p:cNvSpPr/>
            <p:nvPr/>
          </p:nvSpPr>
          <p:spPr>
            <a:xfrm>
              <a:off x="533520" y="1295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12720" y="1366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Resour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"/>
          <p:cNvGrpSpPr/>
          <p:nvPr/>
        </p:nvGrpSpPr>
        <p:grpSpPr>
          <a:xfrm>
            <a:off x="533520" y="1906560"/>
            <a:ext cx="3801960" cy="593640"/>
            <a:chOff x="533520" y="1906560"/>
            <a:chExt cx="3801960" cy="593640"/>
          </a:xfrm>
        </p:grpSpPr>
        <p:sp>
          <p:nvSpPr>
            <p:cNvPr id="352" name=""/>
            <p:cNvSpPr/>
            <p:nvPr/>
          </p:nvSpPr>
          <p:spPr>
            <a:xfrm>
              <a:off x="533520" y="190656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2720" y="197784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apabilit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"/>
          <p:cNvGrpSpPr/>
          <p:nvPr/>
        </p:nvGrpSpPr>
        <p:grpSpPr>
          <a:xfrm>
            <a:off x="533520" y="2519280"/>
            <a:ext cx="3801960" cy="593640"/>
            <a:chOff x="533520" y="2519280"/>
            <a:chExt cx="3801960" cy="593640"/>
          </a:xfrm>
        </p:grpSpPr>
        <p:sp>
          <p:nvSpPr>
            <p:cNvPr id="355" name=""/>
            <p:cNvSpPr/>
            <p:nvPr/>
          </p:nvSpPr>
          <p:spPr>
            <a:xfrm>
              <a:off x="533520" y="251928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12720" y="259056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Competitive Advantag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7" name=""/>
          <p:cNvGrpSpPr/>
          <p:nvPr/>
        </p:nvGrpSpPr>
        <p:grpSpPr>
          <a:xfrm>
            <a:off x="533520" y="3132000"/>
            <a:ext cx="3801960" cy="593640"/>
            <a:chOff x="533520" y="3132000"/>
            <a:chExt cx="3801960" cy="593640"/>
          </a:xfrm>
        </p:grpSpPr>
        <p:sp>
          <p:nvSpPr>
            <p:cNvPr id="358" name=""/>
            <p:cNvSpPr/>
            <p:nvPr/>
          </p:nvSpPr>
          <p:spPr>
            <a:xfrm>
              <a:off x="533520" y="31320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12720" y="32032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ttractive Indust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533520" y="3745080"/>
            <a:ext cx="3801960" cy="1053720"/>
            <a:chOff x="533520" y="3745080"/>
            <a:chExt cx="3801960" cy="1053720"/>
          </a:xfrm>
        </p:grpSpPr>
        <p:sp>
          <p:nvSpPr>
            <p:cNvPr id="361" name=""/>
            <p:cNvSpPr/>
            <p:nvPr/>
          </p:nvSpPr>
          <p:spPr>
            <a:xfrm>
              <a:off x="533520" y="3745080"/>
              <a:ext cx="3801960" cy="105372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12720" y="3871440"/>
              <a:ext cx="3642840" cy="79740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Strategy Formulation</a:t>
              </a:r>
              <a:br>
                <a:rPr sz="2000"/>
              </a:br>
              <a:r>
                <a:rPr b="1" lang="en-US" sz="2000" spc="-1" strike="noStrike">
                  <a:solidFill>
                    <a:srgbClr val="ffffff"/>
                  </a:solidFill>
                  <a:latin typeface="Tahoma"/>
                </a:rPr>
                <a:t>and Implement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533520" y="4813200"/>
            <a:ext cx="3801960" cy="593640"/>
            <a:chOff x="533520" y="4813200"/>
            <a:chExt cx="3801960" cy="593640"/>
          </a:xfrm>
        </p:grpSpPr>
        <p:sp>
          <p:nvSpPr>
            <p:cNvPr id="364" name=""/>
            <p:cNvSpPr/>
            <p:nvPr/>
          </p:nvSpPr>
          <p:spPr>
            <a:xfrm>
              <a:off x="533520" y="4813200"/>
              <a:ext cx="3801960" cy="59364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435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12720" y="4884480"/>
              <a:ext cx="3642840" cy="449280"/>
            </a:xfrm>
            <a:prstGeom prst="rect">
              <a:avLst/>
            </a:prstGeom>
            <a:gradFill rotWithShape="0">
              <a:gsLst>
                <a:gs pos="0">
                  <a:srgbClr val="435051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cc"/>
                  </a:solidFill>
                  <a:latin typeface="Tahoma"/>
                </a:rPr>
                <a:t>Superior Retur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"/>
          <p:cNvSpPr/>
          <p:nvPr/>
        </p:nvSpPr>
        <p:spPr>
          <a:xfrm>
            <a:off x="5891040" y="330516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883120" y="3246480"/>
            <a:ext cx="177840" cy="747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321080" y="1554120"/>
            <a:ext cx="843120" cy="2473200"/>
          </a:xfrm>
          <a:custGeom>
            <a:avLst/>
            <a:gdLst>
              <a:gd name="textAreaLeft" fmla="*/ 0 w 843120"/>
              <a:gd name="textAreaRight" fmla="*/ 304560 w 843120"/>
              <a:gd name="textAreaTop" fmla="*/ 64440 h 2473200"/>
              <a:gd name="textAreaBottom" fmla="*/ 2408760 h 24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357800" y="2789280"/>
            <a:ext cx="1861920" cy="2314440"/>
          </a:xfrm>
          <a:custGeom>
            <a:avLst/>
            <a:gdLst/>
            <a:ahLst/>
            <a:rect l="l" t="t" r="r" b="b"/>
            <a:pathLst>
              <a:path w="1056" h="1200">
                <a:moveTo>
                  <a:pt x="384" y="0"/>
                </a:moveTo>
                <a:lnTo>
                  <a:pt x="1056" y="0"/>
                </a:lnTo>
                <a:lnTo>
                  <a:pt x="1056" y="1200"/>
                </a:lnTo>
                <a:lnTo>
                  <a:pt x="0" y="120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38080" y="5484960"/>
            <a:ext cx="3341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00"/>
                </a:solidFill>
                <a:latin typeface="Tahoma"/>
              </a:rPr>
              <a:t>Superior returns: earning above-average retu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1" name="" descr=""/>
          <p:cNvPicPr/>
          <p:nvPr/>
        </p:nvPicPr>
        <p:blipFill>
          <a:blip r:embed="rId1"/>
          <a:stretch/>
        </p:blipFill>
        <p:spPr>
          <a:xfrm>
            <a:off x="5473800" y="1876320"/>
            <a:ext cx="1466640" cy="1793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EF4CBA-5646-46BD-A539-EF0A274C4924}" type="slidenum">
              <a:t>36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4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1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160" y="519120"/>
            <a:ext cx="8001000" cy="94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3366"/>
                </a:solidFill>
                <a:uFillTx/>
                <a:latin typeface="Tahoma"/>
              </a:rPr>
              <a:t>Criteria for Resources and Capabilities That Become Core Competencies</a:t>
            </a:r>
            <a:endParaRPr b="0" lang="en-US" sz="28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74" name=""/>
          <p:cNvSpPr/>
          <p:nvPr/>
        </p:nvSpPr>
        <p:spPr>
          <a:xfrm>
            <a:off x="3276720" y="3022560"/>
            <a:ext cx="2590560" cy="16257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re 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mpe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685800" y="1905120"/>
            <a:ext cx="7772400" cy="3886200"/>
            <a:chOff x="685800" y="1905120"/>
            <a:chExt cx="7772400" cy="3886200"/>
          </a:xfrm>
        </p:grpSpPr>
        <p:sp>
          <p:nvSpPr>
            <p:cNvPr id="376" name=""/>
            <p:cNvSpPr/>
            <p:nvPr/>
          </p:nvSpPr>
          <p:spPr>
            <a:xfrm>
              <a:off x="2590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5866920" y="2654640"/>
              <a:ext cx="68580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2590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866920" y="4647960"/>
              <a:ext cx="685800" cy="3812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85800" y="1905120"/>
              <a:ext cx="2819520" cy="990720"/>
            </a:xfrm>
            <a:prstGeom prst="ellips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alu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38680" y="1905120"/>
              <a:ext cx="2819520" cy="990720"/>
            </a:xfrm>
            <a:prstGeom prst="ellipse">
              <a:avLst/>
            </a:prstGeom>
            <a:solidFill>
              <a:srgbClr val="666699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Ra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638680" y="4800960"/>
              <a:ext cx="2819520" cy="990360"/>
            </a:xfrm>
            <a:prstGeom prst="ellipse">
              <a:avLst/>
            </a:prstGeom>
            <a:solidFill>
              <a:srgbClr val="cc66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stly to Imitat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85800" y="4800960"/>
              <a:ext cx="2819520" cy="990360"/>
            </a:xfrm>
            <a:prstGeom prst="ellipse">
              <a:avLst/>
            </a:prstGeom>
            <a:solidFill>
              <a:srgbClr val="cc33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nsubstitutab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98EF52-D179-492F-B20C-5EC9E8C3B0C9}" type="slidenum">
              <a:t>37</a:t>
            </a:fld>
          </a:p>
        </p:txBody>
      </p:sp>
    </p:spTree>
  </p:cSld>
  <p:transition>
    <p:random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0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00"/>
                            </p:stCondLst>
                            <p:childTnLst>
                              <p:par>
                                <p:cTn id="43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2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 flipV="1">
            <a:off x="533520" y="1090080"/>
            <a:ext cx="8074080" cy="7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80010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How Resources and Capabilities Provide Competitive Advantag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3417840" y="5102280"/>
            <a:ext cx="526752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firm is organized appropriately to obtain the full benefits of the resources in order to realize a competitive advantage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555920" y="2027160"/>
            <a:ext cx="1752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alu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421080" y="2065320"/>
            <a:ext cx="533088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the firm to exploit opportunities or neutralize threats in its external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71560" y="3063960"/>
            <a:ext cx="1536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417840" y="3111480"/>
            <a:ext cx="51166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essed by few, if any, current and potential compet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8280" y="4078440"/>
            <a:ext cx="26701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ly to imi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417840" y="4102200"/>
            <a:ext cx="524196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en other firms cannot obtain them or must obtain them at a much higher c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71680" y="5059440"/>
            <a:ext cx="273672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360" tIns="44280" bIns="4428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onsubstitu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4B15E-39E1-48CB-8447-1C2B7041B2BF}" type="slidenum">
              <a:t>38</a:t>
            </a:fld>
          </a:p>
        </p:txBody>
      </p:sp>
    </p:spTree>
  </p:cSld>
  <p:transition>
    <p:random/>
  </p:transition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500"/>
                            </p:stCondLst>
                            <p:childTnLst>
                              <p:par>
                                <p:cTn id="4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500"/>
                            </p:stCondLst>
                            <p:childTnLst>
                              <p:par>
                                <p:cTn id="4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6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ore Competencie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When the four key criteria of resources and capabilities are met, they become core competencies.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rial competencies are especially importan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re competencies serve as a source of competitive advantage, create value, and provide the opportunity for above-average return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529BEE-C107-4E22-8B11-206D4505F6B0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Competitiven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successfully formulates and implements a value-creating strategy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tegrated and coordinated set of commitments and actions designed to exploit core competencies and gain a competitive advantag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ompetitive Advantag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hen a firm implements a strategy that its competitors are unable to duplicate or find too costly to try to imitat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85863-916D-4D04-A002-7D45489E0567}" type="slidenum">
              <a:t>4</a:t>
            </a:fld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Why Two Models?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41241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270000" indent="-2700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ustrial Organization (I/O)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690840" indent="-26568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environment outside the firm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38240" y="1142640"/>
            <a:ext cx="403884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esource-Based Mode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cuses on the inside of the firm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3733920"/>
            <a:ext cx="78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6699"/>
                </a:solidFill>
                <a:latin typeface="Arial"/>
              </a:rPr>
              <a:t>Successful strategy formulation and implementation actions result only when the firm properly uses both mode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6B0E-B0D0-445E-B9E5-9838A9499DA8}" type="slidenum">
              <a:t>40</a:t>
            </a:fld>
          </a:p>
        </p:txBody>
      </p:sp>
    </p:spTree>
  </p:cSld>
  <p:transition>
    <p:random/>
  </p:transition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0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500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500"/>
                            </p:stCondLst>
                            <p:childTnLst>
                              <p:par>
                                <p:cTn id="4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1" dur="500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500"/>
                                        <p:tgtEl>
                                          <p:spTgt spid="3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0" dur="500"/>
                                        <p:tgtEl>
                                          <p:spTgt spid="3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Vi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 enduring picture of what the firm wants to be and, in broad terms, what it wants to ultimately achie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tches and challenges people and evokes emotions and drea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ffective vision statements are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veloped by a host of people from across the organizat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early tied to external and internal environmental condi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sistent with strategic leaders’ decisions and actio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2B0D49-21AA-4E50-BB50-6582E0DEC312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Vision and Mission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ission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pecifies the business or businesses in which the firm intends to compete and the customers it intends to serv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concrete than the firm’s vi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Is more effective when it fosters strong ethical standard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 are the fruits of the firm’s efforts to achieve its vision and mission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64B32-6A02-40DD-AFB9-7C9E554D0018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8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dividuals and groups who can affect, and are affected by, the strategic outcomes achieved and who have enforceable claims on a firm’s performance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laims on the firm’s performance are enforced by the stakeholder’s ability to withhold participation essential to the firm’s surviva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more critical and valued a stakeholder’s participation, the greater a firm’s dependency on i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Managers must find ways to either accommodate or insulate the organization from the demands of stakeholders controlling critical resourc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F8AF04-5BC3-4D9F-A92A-55B54E64D7B1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 Involvement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wo issues affect the extent of stakeholder involvement in the firm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divide return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keep stakeholder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lved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increas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turns so everyone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more to share?</a:t>
            </a:r>
            <a:endParaRPr b="0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4889520" y="2590920"/>
            <a:ext cx="356868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661311-D059-4136-A0F2-DDCFDEC575A8}" type="slidenum">
              <a:t>44</a:t>
            </a:fld>
          </a:p>
        </p:txBody>
      </p:sp>
    </p:spTree>
  </p:cSld>
  <p:transition>
    <p:random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500"/>
                                        <p:tgtEl>
                                          <p:spTgt spid="4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417600"/>
            <a:ext cx="80010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054160" indent="0">
              <a:buNone/>
              <a:tabLst>
                <a:tab algn="l" pos="0"/>
                <a:tab algn="l" pos="20541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8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800" spc="-1" strike="noStrike">
                <a:solidFill>
                  <a:srgbClr val="cc6600"/>
                </a:solidFill>
                <a:latin typeface="Arial"/>
              </a:rPr>
              <a:t>1.4</a:t>
            </a:r>
            <a:r>
              <a:rPr b="1" i="1" lang="en-US" sz="1800" spc="-1" strike="noStrike">
                <a:solidFill>
                  <a:srgbClr val="003366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Three Stakeholder Groups</a:t>
            </a:r>
            <a:endParaRPr b="0" lang="en-US" sz="20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10" name=""/>
          <p:cNvSpPr/>
          <p:nvPr/>
        </p:nvSpPr>
        <p:spPr>
          <a:xfrm>
            <a:off x="457200" y="380880"/>
            <a:ext cx="8229600" cy="466920"/>
          </a:xfrm>
          <a:custGeom>
            <a:avLst/>
            <a:gdLst/>
            <a:ahLst/>
            <a:rect l="l" t="t" r="r" b="b"/>
            <a:pathLst>
              <a:path w="5136" h="437">
                <a:moveTo>
                  <a:pt x="0" y="5"/>
                </a:moveTo>
                <a:cubicBezTo>
                  <a:pt x="201" y="5"/>
                  <a:pt x="926" y="0"/>
                  <a:pt x="1207" y="8"/>
                </a:cubicBezTo>
                <a:cubicBezTo>
                  <a:pt x="1484" y="79"/>
                  <a:pt x="1055" y="434"/>
                  <a:pt x="1665" y="434"/>
                </a:cubicBezTo>
                <a:cubicBezTo>
                  <a:pt x="2275" y="434"/>
                  <a:pt x="4413" y="437"/>
                  <a:pt x="5136" y="437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457200" y="485640"/>
            <a:ext cx="1828800" cy="479520"/>
            <a:chOff x="457200" y="485640"/>
            <a:chExt cx="1828800" cy="479520"/>
          </a:xfrm>
        </p:grpSpPr>
        <p:sp>
          <p:nvSpPr>
            <p:cNvPr id="412" name=""/>
            <p:cNvSpPr/>
            <p:nvPr/>
          </p:nvSpPr>
          <p:spPr>
            <a:xfrm>
              <a:off x="990720" y="485640"/>
              <a:ext cx="0" cy="479520"/>
            </a:xfrm>
            <a:prstGeom prst="line">
              <a:avLst/>
            </a:prstGeom>
            <a:ln w="2844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57200" y="792000"/>
              <a:ext cx="1828800" cy="0"/>
            </a:xfrm>
            <a:prstGeom prst="line">
              <a:avLst/>
            </a:prstGeom>
            <a:ln w="57240">
              <a:solidFill>
                <a:srgbClr val="cc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4" name="" descr=""/>
          <p:cNvPicPr/>
          <p:nvPr/>
        </p:nvPicPr>
        <p:blipFill>
          <a:blip r:embed="rId1"/>
          <a:stretch/>
        </p:blipFill>
        <p:spPr>
          <a:xfrm>
            <a:off x="1776240" y="1228680"/>
            <a:ext cx="5691240" cy="511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25B76-FB10-4DCD-9913-B2EF71BC80B8}" type="slidenum">
              <a:t>45</a:t>
            </a:fld>
          </a:p>
        </p:txBody>
      </p:sp>
    </p:spTree>
  </p:cSld>
  <p:transition>
    <p:random/>
  </p:transition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0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10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500"/>
                            </p:stCondLst>
                            <p:childTnLst>
                              <p:par>
                                <p:cTn id="5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4" dur="1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4589640" y="1371600"/>
            <a:ext cx="39448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ital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Shareholders</a:t>
            </a:r>
            <a:br>
              <a:rPr sz="2400"/>
            </a:br>
            <a:r>
              <a:rPr b="0" lang="en-US" sz="2400" spc="-1" strike="noStrike">
                <a:solidFill>
                  <a:srgbClr val="cc3300"/>
                </a:solidFill>
                <a:latin typeface="Tahoma"/>
                <a:ea typeface="Times New Roman"/>
              </a:rPr>
              <a:t>Major suppliers of ca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Ban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Private len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77880" indent="-23184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Venture capita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533520" y="1371600"/>
            <a:ext cx="3639960" cy="1098360"/>
            <a:chOff x="533520" y="1371600"/>
            <a:chExt cx="3639960" cy="1098360"/>
          </a:xfrm>
        </p:grpSpPr>
        <p:sp>
          <p:nvSpPr>
            <p:cNvPr id="418" name=""/>
            <p:cNvSpPr/>
            <p:nvPr/>
          </p:nvSpPr>
          <p:spPr>
            <a:xfrm>
              <a:off x="533520" y="137160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20640" y="145260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7CA2E4-3C48-4683-9989-23A71ADC5CCE}" type="slidenum">
              <a:t>46</a:t>
            </a:fld>
          </a:p>
        </p:txBody>
      </p:sp>
    </p:spTree>
  </p:cSld>
  <p:transition>
    <p:random/>
  </p:transition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500"/>
                            </p:stCondLst>
                            <p:childTnLst>
                              <p:par>
                                <p:cTn id="55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5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1500"/>
                            </p:stCondLst>
                            <p:childTnLst>
                              <p:par>
                                <p:cTn id="5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3" dur="500"/>
                                        <p:tgtEl>
                                          <p:spTgt spid="4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2000"/>
                            </p:stCondLst>
                            <p:childTnLst>
                              <p:par>
                                <p:cTn id="5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4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500"/>
                                        <p:tgtEl>
                                          <p:spTgt spid="4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2500"/>
                            </p:stCondLst>
                            <p:childTnLst>
                              <p:par>
                                <p:cTn id="5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4" dur="500"/>
                                        <p:tgtEl>
                                          <p:spTgt spid="4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3000"/>
                            </p:stCondLst>
                            <p:childTnLst>
                              <p:par>
                                <p:cTn id="5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4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Capital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hareholders and lenders expect the firm to preserve and enhance the wealth they have entrusted to it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the return on their investment (and, hence, their wealth) to be maximized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returns to be commensurate with the degree of risk to the shareholder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Management must balance the interests of shareholders and lenders with its concerns for the firm’s future competitive ability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5FBE-00B1-4C51-B7CE-C1FB25CE772A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33520" y="1295280"/>
            <a:ext cx="3639960" cy="1098360"/>
            <a:chOff x="533520" y="1295280"/>
            <a:chExt cx="3639960" cy="1098360"/>
          </a:xfrm>
        </p:grpSpPr>
        <p:sp>
          <p:nvSpPr>
            <p:cNvPr id="424" name=""/>
            <p:cNvSpPr/>
            <p:nvPr/>
          </p:nvSpPr>
          <p:spPr>
            <a:xfrm>
              <a:off x="533520" y="129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0640" y="137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557280" y="2454120"/>
            <a:ext cx="3639960" cy="1098360"/>
            <a:chOff x="557280" y="2454120"/>
            <a:chExt cx="3639960" cy="1098360"/>
          </a:xfrm>
        </p:grpSpPr>
        <p:sp>
          <p:nvSpPr>
            <p:cNvPr id="427" name=""/>
            <p:cNvSpPr/>
            <p:nvPr/>
          </p:nvSpPr>
          <p:spPr>
            <a:xfrm>
              <a:off x="557280" y="24541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644400" y="25351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4589640" y="2441520"/>
            <a:ext cx="40971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t Market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Custom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Suppl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Host comm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2520" indent="-222480">
              <a:lnSpc>
                <a:spcPct val="100000"/>
              </a:lnSpc>
              <a:spcBef>
                <a:spcPts val="1500"/>
              </a:spcBef>
              <a:buClr>
                <a:srgbClr val="333399"/>
              </a:buClr>
              <a:buSzPct val="9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Un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9A519-43FF-4E01-8BFD-2CD8495C3285}" type="slidenum">
              <a:t>48</a:t>
            </a:fld>
          </a:p>
        </p:txBody>
      </p:sp>
    </p:spTree>
  </p:cSld>
  <p:transition>
    <p:random/>
  </p:transition>
  <p:timing>
    <p:tnLst>
      <p:par>
        <p:cTn id="579" dur="indefinite" restart="never" nodeType="tmRoot">
          <p:childTnLst>
            <p:seq>
              <p:cTn id="580" dur="indefinite" nodeType="mainSeq">
                <p:childTnLst>
                  <p:par>
                    <p:cTn id="581" fill="hold">
                      <p:stCondLst>
                        <p:cond delay="0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500"/>
                            </p:stCondLst>
                            <p:childTnLst>
                              <p:par>
                                <p:cTn id="58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89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000"/>
                            </p:stCondLst>
                            <p:childTnLst>
                              <p:par>
                                <p:cTn id="59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500"/>
                            </p:stCondLst>
                            <p:childTnLst>
                              <p:par>
                                <p:cTn id="5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fill="hold">
                            <p:stCondLst>
                              <p:cond delay="2000"/>
                            </p:stCondLst>
                            <p:childTnLst>
                              <p:par>
                                <p:cTn id="5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4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500"/>
                            </p:stCondLst>
                            <p:childTnLst>
                              <p:par>
                                <p:cTn id="6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5" dur="500"/>
                                        <p:tgtEl>
                                          <p:spTgt spid="4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3000"/>
                            </p:stCondLst>
                            <p:childTnLst>
                              <p:par>
                                <p:cTn id="6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500"/>
                                        <p:tgtEl>
                                          <p:spTgt spid="4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3500"/>
                            </p:stCondLst>
                            <p:childTnLst>
                              <p:par>
                                <p:cTn id="6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500"/>
                                        <p:tgtEl>
                                          <p:spTgt spid="4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oduct Market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Custom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mand reliable products at low pr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uppli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ek loyal customers willing to pay highest sustainable prices for goods and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Host communitie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companies willing to be long-term employers and providers of tax revenues while minimizing demands on public support servic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nion official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Want secure jobs and desirable working condi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5CD09E-1D7F-4D9B-8FF5-ED51363FC39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23440" y="1142640"/>
            <a:ext cx="8001000" cy="490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Risk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n investor’s uncertainty about the economic gains or losses that will result from a particular invest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equal to those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bove-average Return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3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turns in excess of what an investor expects to earn from other investments with a similar amount of risk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DC72E1-F308-4067-92B3-D46C0E2562BF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akehol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grpSp>
        <p:nvGrpSpPr>
          <p:cNvPr id="433" name=""/>
          <p:cNvGrpSpPr/>
          <p:nvPr/>
        </p:nvGrpSpPr>
        <p:grpSpPr>
          <a:xfrm>
            <a:off x="547560" y="1306440"/>
            <a:ext cx="3639960" cy="1098360"/>
            <a:chOff x="547560" y="1306440"/>
            <a:chExt cx="3639960" cy="1098360"/>
          </a:xfrm>
        </p:grpSpPr>
        <p:sp>
          <p:nvSpPr>
            <p:cNvPr id="434" name=""/>
            <p:cNvSpPr/>
            <p:nvPr/>
          </p:nvSpPr>
          <p:spPr>
            <a:xfrm>
              <a:off x="547560" y="130644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634680" y="138744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Capital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557280" y="2465280"/>
            <a:ext cx="3639960" cy="1098360"/>
            <a:chOff x="557280" y="2465280"/>
            <a:chExt cx="3639960" cy="1098360"/>
          </a:xfrm>
        </p:grpSpPr>
        <p:sp>
          <p:nvSpPr>
            <p:cNvPr id="437" name=""/>
            <p:cNvSpPr/>
            <p:nvPr/>
          </p:nvSpPr>
          <p:spPr>
            <a:xfrm>
              <a:off x="557280" y="246528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44400" y="254628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Product Market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541440" y="3625920"/>
            <a:ext cx="3639960" cy="1098360"/>
            <a:chOff x="541440" y="3625920"/>
            <a:chExt cx="3639960" cy="1098360"/>
          </a:xfrm>
        </p:grpSpPr>
        <p:sp>
          <p:nvSpPr>
            <p:cNvPr id="440" name=""/>
            <p:cNvSpPr/>
            <p:nvPr/>
          </p:nvSpPr>
          <p:spPr>
            <a:xfrm>
              <a:off x="541440" y="3625920"/>
              <a:ext cx="3639960" cy="109836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191e1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28560" y="3706920"/>
              <a:ext cx="3465720" cy="938160"/>
            </a:xfrm>
            <a:prstGeom prst="rect">
              <a:avLst/>
            </a:prstGeom>
            <a:gradFill rotWithShape="0">
              <a:gsLst>
                <a:gs pos="0">
                  <a:srgbClr val="191e1f"/>
                </a:gs>
                <a:gs pos="100000">
                  <a:srgbClr val="bbe0e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Tahoma"/>
                </a:rPr>
                <a:t>Organizational Stakeholde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2" name=""/>
          <p:cNvSpPr/>
          <p:nvPr/>
        </p:nvSpPr>
        <p:spPr>
          <a:xfrm>
            <a:off x="4589640" y="3797280"/>
            <a:ext cx="3504960" cy="21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ganizational Stakehol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Employe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230040" indent="22716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8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  <a:ea typeface="Times New Roman"/>
              </a:rPr>
              <a:t>Nonmana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F57DF-38A3-47A4-8397-C2FD87AA4899}" type="slidenum">
              <a:t>50</a:t>
            </a:fld>
          </a:p>
        </p:txBody>
      </p:sp>
    </p:spTree>
  </p:cSld>
  <p:transition>
    <p:random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4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1500"/>
                            </p:stCondLst>
                            <p:childTnLst>
                              <p:par>
                                <p:cTn id="62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2000"/>
                            </p:stCondLst>
                            <p:childTnLst>
                              <p:par>
                                <p:cTn id="6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6" dur="500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0" dur="500"/>
                                        <p:tgtEl>
                                          <p:spTgt spid="4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fill="hold">
                            <p:stCondLst>
                              <p:cond delay="3500"/>
                            </p:stCondLst>
                            <p:childTnLst>
                              <p:par>
                                <p:cTn id="6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4000"/>
                            </p:stCondLst>
                            <p:childTnLst>
                              <p:par>
                                <p:cTn id="6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Organizational Stakehol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47840" y="1143000"/>
            <a:ext cx="8229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Employees 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xpect a dynamic, stimulating and rewarding work environment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re satisfied by a company that is growing and actively developing their skill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2708280" y="3646440"/>
            <a:ext cx="4073400" cy="2567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323A68-F480-4290-9692-116D31BCF455}" type="slidenum">
              <a:t>51</a:t>
            </a:fld>
          </a:p>
        </p:txBody>
      </p:sp>
    </p:spTree>
  </p:cSld>
  <p:transition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Leader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eople located in different parts of the firm who are using the strategic management process to help the firm reach its vision and mission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erequisites for Effective Strategic Leadership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ard work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orough analys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onest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sire for accomplishment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mon sens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5791320" y="3733920"/>
            <a:ext cx="2023920" cy="2438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2E765-6CA9-4AD6-8E8E-FF4429396FB2}" type="slidenum">
              <a:t>52</a:t>
            </a:fld>
          </a:p>
        </p:txBody>
      </p:sp>
    </p:spTree>
  </p:cSld>
  <p:transition>
    <p:random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Leader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complex set of ideologies, symbols, and core values that are shared throughout the firm and that influence how the firm conducts busines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7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The Value of a Functional Organizational Culture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upports effective delegation of strategic responsibilit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ovides support for strategic lead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courages social energ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Fosters of respect for other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94F995-892B-4A27-A85E-563564550D37}" type="slidenum">
              <a:t>53</a:t>
            </a:fld>
          </a:p>
        </p:txBody>
      </p:sp>
    </p:spTree>
  </p:cSld>
  <p:transition>
    <p:random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Predicting Outcomes of Strategic Decisions: Profit Pool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4784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ofit Pool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total profits earned in an industry at all points along the value chain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576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ing the components of a profit pool: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Define the pool’s boundarie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the pool’s overall size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stimate size of each value-chain activity in the pool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3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econcile the calculations</a:t>
            </a:r>
            <a:r>
              <a:rPr b="0" lang="en-US" sz="2400" spc="-1" strike="noStrike">
                <a:solidFill>
                  <a:srgbClr val="cc6600"/>
                </a:solidFill>
                <a:latin typeface="Arial"/>
                <a:ea typeface="Arial"/>
              </a:rPr>
              <a:t>—which activity provides the most profit potential?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C6E5D-2BCF-46C9-B0D0-8F00754B237C}" type="slidenum">
              <a:t>54</a:t>
            </a:fld>
          </a:p>
        </p:txBody>
      </p:sp>
    </p:spTree>
  </p:cSld>
  <p:transition>
    <p:random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Strategic Management Process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udy the external and internal environmen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dentify marketplace opportunities and threat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Determine how to use core competenc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Use strategic intent to leverage resources, capabilities and core competencies and win competitive battl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Integrate formulation and implementation of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marL="290520" indent="-290520">
              <a:spcBef>
                <a:spcPts val="104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eek feedback to improve strategies.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ABD051-1C21-4A3A-9327-47FA2876BEE3}" type="slidenum">
              <a:t>55</a:t>
            </a:fld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Important Definitions (cont’d)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7840" y="11426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Strategic Management Process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The full set of commitments, decisions, and actions required for a firm to achieve strategic competitiveness and earn above-average returns.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886200" y="3402000"/>
            <a:ext cx="4338720" cy="273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DEB877-2930-4DB5-8AB0-F49A767CC8D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066680" y="603360"/>
            <a:ext cx="6248520" cy="5786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462720" y="488880"/>
            <a:ext cx="1919160" cy="141624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81320" y="655560"/>
            <a:ext cx="1752840" cy="10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ahoma"/>
              </a:rPr>
              <a:t>FIGURE</a:t>
            </a:r>
            <a:r>
              <a:rPr b="0" lang="en-US" sz="1400" spc="-1" strike="noStrike">
                <a:solidFill>
                  <a:srgbClr val="cc6600"/>
                </a:solidFill>
                <a:latin typeface="Tahoma"/>
              </a:rPr>
              <a:t> </a:t>
            </a:r>
            <a:r>
              <a:rPr b="1" i="1" lang="en-US" sz="1400" spc="-1" strike="noStrike">
                <a:solidFill>
                  <a:srgbClr val="cc6600"/>
                </a:solidFill>
                <a:latin typeface="Arial"/>
              </a:rPr>
              <a:t>1.1</a:t>
            </a:r>
            <a:r>
              <a:rPr b="1" i="1" lang="en-US" sz="1200" spc="-1" strike="noStrike">
                <a:solidFill>
                  <a:srgbClr val="cc6600"/>
                </a:solidFill>
                <a:latin typeface="Arial"/>
              </a:rPr>
              <a:t> </a:t>
            </a:r>
            <a:br>
              <a:rPr sz="1200"/>
            </a:br>
            <a:br>
              <a:rPr sz="12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he Strategic Management Process</a:t>
            </a:r>
            <a:endParaRPr b="0" lang="en-US" sz="14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6781680" y="684360"/>
            <a:ext cx="0" cy="479160"/>
          </a:xfrm>
          <a:prstGeom prst="line">
            <a:avLst/>
          </a:prstGeom>
          <a:ln w="2844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53080" y="990720"/>
            <a:ext cx="1828800" cy="0"/>
          </a:xfrm>
          <a:prstGeom prst="line">
            <a:avLst/>
          </a:prstGeom>
          <a:ln w="57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725D0-C416-4E97-99C4-9AC3E60711AF}" type="slidenum">
              <a:t>7</a:t>
            </a:fld>
          </a:p>
        </p:txBody>
      </p:sp>
    </p:spTree>
  </p:cSld>
  <p:transition>
    <p:random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21st-Century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7840" y="12193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A Perilous Business World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Rapid changes in industry boundaries and market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nventional sources of competitive advantage losing effectivenes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Enormous investments required to compete globally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Severe consequences for failure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marL="290520" indent="-290520">
              <a:spcBef>
                <a:spcPts val="1225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Develop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and I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Arial"/>
              </a:rPr>
              <a:t>mplementing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 Strategy</a:t>
            </a:r>
            <a:endParaRPr b="0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Allows for planned actions rather than reaction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  <a:p>
            <a:pPr lvl="1" marL="743040" indent="-285840">
              <a:spcBef>
                <a:spcPts val="1049"/>
              </a:spcBef>
              <a:buClr>
                <a:srgbClr val="cc66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Helps coordinate business unit strategies</a:t>
            </a:r>
            <a:endParaRPr b="0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E5893-7F78-41DD-9E66-E75A95907F67}" type="slidenum">
              <a:t>8</a:t>
            </a:fld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V="1">
            <a:off x="457200" y="3048120"/>
            <a:ext cx="4038480" cy="3047760"/>
          </a:xfrm>
          <a:custGeom>
            <a:avLst/>
            <a:gdLst>
              <a:gd name="textAreaLeft" fmla="*/ 969840 w 4038480"/>
              <a:gd name="textAreaRight" fmla="*/ 3068640 w 4038480"/>
              <a:gd name="textAreaTop" fmla="*/ 731880 h 3047760"/>
              <a:gd name="textAreaBottom" fmla="*/ 2315880 h 3047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5411" y="21600"/>
                </a:lnTo>
                <a:lnTo>
                  <a:pt x="6189" y="21600"/>
                </a:lnTo>
                <a:close/>
              </a:path>
            </a:pathLst>
          </a:custGeom>
          <a:gradFill rotWithShape="0">
            <a:gsLst>
              <a:gs pos="0">
                <a:srgbClr val="008080"/>
              </a:gs>
              <a:gs pos="100000">
                <a:srgbClr val="003b3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Dynamic</a:t>
            </a:r>
            <a:br>
              <a:rPr sz="2400"/>
            </a:br>
            <a:r>
              <a:rPr b="0" lang="en-US" sz="2400" spc="-1" strike="noStrike" u="sng">
                <a:solidFill>
                  <a:srgbClr val="ffffcc"/>
                </a:solidFill>
                <a:uFillTx/>
                <a:latin typeface="Arial"/>
              </a:rPr>
              <a:t>Global Economy</a:t>
            </a:r>
            <a:br>
              <a:rPr sz="24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apid technological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hange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rategic maneuvering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mong global and innovative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bat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7840" y="312480"/>
            <a:ext cx="822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3366"/>
                </a:solidFill>
                <a:uFillTx/>
                <a:latin typeface="Tahoma"/>
              </a:rPr>
              <a:t>The Competitive Landscape</a:t>
            </a:r>
            <a:endParaRPr b="0" lang="en-US" sz="3200" spc="-1" strike="noStrike" u="sng">
              <a:solidFill>
                <a:srgbClr val="003366"/>
              </a:solidFill>
              <a:uFillTx/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4191120" y="1219320"/>
            <a:ext cx="449568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4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99"/>
                </a:solidFill>
                <a:latin typeface="Arial"/>
              </a:rPr>
              <a:t>Hypercompetition</a:t>
            </a:r>
            <a:br>
              <a:rPr sz="2800"/>
            </a:b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A condition of rapidly escalating competition based on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724280" y="2514600"/>
            <a:ext cx="381024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Price-quality posit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create new know-how and establish first-mover advan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5360" indent="-225360">
              <a:spcBef>
                <a:spcPts val="1049"/>
              </a:spcBef>
              <a:buClr>
                <a:srgbClr val="cc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Arial"/>
              </a:rPr>
              <a:t>Competition to protect or invade established product or geographic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212840" y="1219320"/>
            <a:ext cx="2444760" cy="244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CE459-6D0F-4100-91C0-434CEE141AED}" type="slidenum">
              <a:t>9</a:t>
            </a:fld>
          </a:p>
        </p:txBody>
      </p:sp>
    </p:spTree>
  </p:cSld>
  <p:transition>
    <p:random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5:06:22Z</dcterms:created>
  <dc:creator>Charlie Cook, University of West Alabama</dc:creator>
  <dc:description/>
  <dc:language>en-US</dc:language>
  <cp:lastModifiedBy>Teodoro Wigodski</cp:lastModifiedBy>
  <dcterms:modified xsi:type="dcterms:W3CDTF">2006-07-14T03:20:02Z</dcterms:modified>
  <cp:revision>53</cp:revision>
  <dc:subject>Chapter 1</dc:subject>
  <dc:title>Strategic Management 7e.</dc:title>
</cp:coreProperties>
</file>