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4CA8-1232-4A0A-938A-886044634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7EBD-A0EC-4BC9-91A2-6DA7771D5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2EB5-73A2-40D9-A6D5-C5ADF9262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C32C-9846-4364-90CF-8960F8F5E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BA98-8EB3-4554-8E24-5EF8B41C6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F0D9-8906-4248-B075-21DEA7102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59F0-3E6E-4B48-9D8B-25876EEC6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DD5D-9669-4E5B-A034-C82F56D26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D641-55CD-4948-8139-93084B5B4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6885-0EB9-43C1-A5B4-505904413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F159-AE29-48FD-A9DE-1BC015845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2FAD-20D5-41DF-8566-439BECD8D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5DB1-FA31-40DD-BFDF-81243A072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1925-D8DD-47A0-A326-9FE487D77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F1FB-3A98-43A4-B10F-3006B5BEC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BA4C-F007-47A0-A5F9-2A73F1EB6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7A2E-9304-45F3-B806-5407DCDDA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5176-23CB-424F-826B-251A5DA7A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B1EE-9AD8-4641-98E9-40EE4B626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76F7-059A-493A-9E93-79D935B0E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0B4E-755D-46AD-A831-3BFE168C9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AFDE-6FA3-44B5-87F4-6AFAB65FD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EF7A-4FD1-4626-A4BF-C00D27C2D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FEE7-5691-469B-BDEB-57483208F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94AE9-4FBC-4692-87A5-9401B75B90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142F3-46D0-4F46-A8F8-EFD6AF8038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54E0C-374E-4E00-A0FC-D5EEE9E543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1755C-47F2-402F-9118-A0821633CA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03DDE-1471-41C7-B5B9-A83874F1B7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3760F-E077-444A-B23F-BFB9282B34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DE432-A4D4-4405-8E43-885DCAEDC2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D6488-C7F7-48EB-9BCB-FD934671A9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E1DAB-33D7-480A-ACCC-439D17EBB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8CB1B-1EC0-4EFD-9488-50DC02213D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22F06-D8CB-4027-87E4-E534C5F671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86ED9-CCCD-4304-B2E7-4E8279243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–</a:t>
            </a:r>
            <a:fld id="{A97CBFEB-A3A4-4D25-AEBE-D05F320D029F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692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2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Leadership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79720" y="1523880"/>
            <a:ext cx="4702320" cy="26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z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g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ultur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vailability of resourc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atterns of interaction among employe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29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32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338640" y="1523880"/>
            <a:ext cx="914400" cy="266724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2857"/>
                </a:lnTo>
                <a:cubicBezTo>
                  <a:pt x="10800" y="12857"/>
                  <a:pt x="5400" y="12857"/>
                  <a:pt x="0" y="12857"/>
                </a:cubicBezTo>
                <a:cubicBezTo>
                  <a:pt x="5400" y="12857"/>
                  <a:pt x="10800" y="12857"/>
                  <a:pt x="10800" y="12857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DC430-5246-44B2-ACDD-1BD7A175B259}" type="slidenum">
              <a:t>10</a:t>
            </a:fld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79720" y="2057400"/>
            <a:ext cx="470232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olerance for ambiguit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mitment to the firm and its desired strategic outcom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terpersonal skil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spiration level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gree of self-confide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38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41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49360" y="3678120"/>
            <a:ext cx="2782800" cy="970200"/>
            <a:chOff x="549360" y="3678120"/>
            <a:chExt cx="2782800" cy="970200"/>
          </a:xfrm>
        </p:grpSpPr>
        <p:sp>
          <p:nvSpPr>
            <p:cNvPr id="144" name=""/>
            <p:cNvSpPr/>
            <p:nvPr/>
          </p:nvSpPr>
          <p:spPr>
            <a:xfrm>
              <a:off x="549360" y="367812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5040" y="375984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352680" y="1981080"/>
            <a:ext cx="900360" cy="2895840"/>
          </a:xfrm>
          <a:custGeom>
            <a:avLst/>
            <a:gdLst>
              <a:gd name="textAreaLeft" fmla="*/ 575280 w 900360"/>
              <a:gd name="textAreaRight" fmla="*/ 900720 w 9003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6228"/>
                </a:lnTo>
                <a:cubicBezTo>
                  <a:pt x="10800" y="16228"/>
                  <a:pt x="5400" y="16228"/>
                  <a:pt x="0" y="16228"/>
                </a:cubicBezTo>
                <a:cubicBezTo>
                  <a:pt x="5400" y="16228"/>
                  <a:pt x="10800" y="16228"/>
                  <a:pt x="10800" y="16228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9FC9F-8F11-49B1-B487-A1E4D39C8B86}" type="slidenum">
              <a:t>11</a:t>
            </a:fld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85840" y="2437920"/>
            <a:ext cx="4724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degree of latitude for action when making strategic decisions, especially those concerned with effective implementation of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managers exercise discretion when determining appropriate strategic actions is critical to the firm’s suc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50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49360" y="2611440"/>
            <a:ext cx="2782800" cy="969840"/>
            <a:chOff x="549360" y="2611440"/>
            <a:chExt cx="2782800" cy="969840"/>
          </a:xfrm>
        </p:grpSpPr>
        <p:sp>
          <p:nvSpPr>
            <p:cNvPr id="153" name=""/>
            <p:cNvSpPr/>
            <p:nvPr/>
          </p:nvSpPr>
          <p:spPr>
            <a:xfrm>
              <a:off x="549360" y="2611440"/>
              <a:ext cx="2782800" cy="969840"/>
            </a:xfrm>
            <a:prstGeom prst="rect">
              <a:avLst/>
            </a:prstGeom>
            <a:gradFill rotWithShape="0">
              <a:gsLst>
                <a:gs pos="0">
                  <a:srgbClr val="1d2324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4680" y="26928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d23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49360" y="3678120"/>
            <a:ext cx="2782800" cy="970200"/>
            <a:chOff x="549360" y="3678120"/>
            <a:chExt cx="2782800" cy="970200"/>
          </a:xfrm>
        </p:grpSpPr>
        <p:sp>
          <p:nvSpPr>
            <p:cNvPr id="156" name=""/>
            <p:cNvSpPr/>
            <p:nvPr/>
          </p:nvSpPr>
          <p:spPr>
            <a:xfrm>
              <a:off x="549360" y="367812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5040" y="375984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aracteristics 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he Manag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49360" y="5105520"/>
            <a:ext cx="2782800" cy="914400"/>
            <a:chOff x="549360" y="5105520"/>
            <a:chExt cx="2782800" cy="914400"/>
          </a:xfrm>
        </p:grpSpPr>
        <p:sp>
          <p:nvSpPr>
            <p:cNvPr id="159" name=""/>
            <p:cNvSpPr/>
            <p:nvPr/>
          </p:nvSpPr>
          <p:spPr>
            <a:xfrm>
              <a:off x="549360" y="5105520"/>
              <a:ext cx="2782800" cy="9144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5040" y="5182200"/>
              <a:ext cx="2609640" cy="75924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nage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iscre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941480" y="4809960"/>
            <a:ext cx="0" cy="26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371600"/>
            <a:ext cx="2971800" cy="3429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38640" y="2409840"/>
            <a:ext cx="914400" cy="353376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3533760"/>
              <a:gd name="textAreaBottom" fmla="*/ 3534120 h 353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9440"/>
                </a:lnTo>
                <a:cubicBezTo>
                  <a:pt x="10800" y="19440"/>
                  <a:pt x="5400" y="19440"/>
                  <a:pt x="0" y="19440"/>
                </a:cubicBezTo>
                <a:cubicBezTo>
                  <a:pt x="5400" y="19440"/>
                  <a:pt x="10800" y="19440"/>
                  <a:pt x="10800" y="1944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9B6E9-A8CA-404E-9A47-E02F87EE38EE}" type="slidenum">
              <a:t>12</a:t>
            </a:fld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op Management Team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osed of the key managers who are responsible for selecting and implementing the firm’s strateg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heterogeneous top management team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s varied expertise and knowled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draw on multiple perspectiv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ill evaluate altern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ilds consensu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B49F8-A390-4F02-A1C6-1BF2B0E6DA5F}" type="slidenum">
              <a:t>13</a:t>
            </a:fld>
          </a:p>
        </p:txBody>
      </p:sp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rm Performance and Strategic Chan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eterogeneous top management team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difficulty functioning effectively as a tea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 effective management of the team to facilitate the process of decision making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associated positively with innovation and strategic chan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y force the team or members to “think outside of the box” and be more creati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greater capacity to provide effective strategic leadership in formul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5AE39-0590-4D5B-B14A-D88B22761B98}" type="slidenum">
              <a:t>14</a:t>
            </a:fld>
          </a:p>
        </p:txBody>
      </p:sp>
    </p:spTree>
  </p:cSld>
  <p:transition>
    <p:random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EO and Top Management Team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igher performance is achieved when board of directors are more directly involved in shaping strategic dire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powerful CEO ma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oint sympathetic outside board memb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inside board members who report to the CEO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significant control over the board’s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y also hold the position of chairman of the board 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EO dualit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B29C1-6F97-4D40-9050-83B14E724B43}" type="slidenum">
              <a:t>15</a:t>
            </a:fld>
          </a:p>
        </p:txBody>
      </p:sp>
    </p:spTree>
  </p:cSld>
  <p:transition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EO and Top Managemen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uality often relates to poor performance and slow response to chan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Os of long tenure can also wield substantial p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Os can gain so much power that they are virtually independent of oversight by the board of direc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most effective forms of governance share power and influence among the CEO and board of directo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C7FE9-F1BB-4ABD-88FD-4926B39A6DC0}" type="slidenum">
              <a:t>16</a:t>
            </a:fld>
          </a:p>
        </p:txBody>
      </p:sp>
    </p:spTree>
  </p:cSld>
  <p:transition>
    <p:random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Succe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s select managers and strategic leaders from two types of managerial labor market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l managerial labor marke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ment opportunities related to managerial positions within a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rnal managerial labor marke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er opportunities for managers in organizations other than the one for which they currently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94B94-85C4-42FF-B4DF-FD6F814E58B2}" type="slidenum">
              <a:t>17</a:t>
            </a:fld>
          </a:p>
        </p:txBody>
      </p:sp>
    </p:spTree>
  </p:cSld>
  <p:transition>
    <p:random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ial Labor Marke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vantages of internal managerial labor market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rience with the firm and industry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miliarity with company products, markets, technologies, and operating proced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ower turnover among existing personn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vantages of the external managerial labor market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ong-tenured insiders may be “stale in the saddle”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o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tsiders may bring fresh perspectiv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65890-8E9D-41C8-9BBD-E6A339447A08}" type="slidenum">
              <a:t>18</a:t>
            </a:fld>
          </a:p>
        </p:txBody>
      </p:sp>
    </p:spTree>
  </p:cSld>
  <p:transition>
    <p:random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01064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2.3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ffects of CEO Succession and Top Management Team Composition on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7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76440" y="1676520"/>
            <a:ext cx="779112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A9952-C8C6-46C4-8DA9-695006220F68}" type="slidenum">
              <a:t>19</a:t>
            </a:fld>
          </a:p>
        </p:txBody>
      </p:sp>
    </p:spTree>
  </p:cSld>
  <p:transition>
    <p:random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leadership and describe the importance of top-level manage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op management teams and explain their effects on firm performanc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anagerial succession process using internal and external managerial labor marke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value of strategic leadership in determining the firm’s strategic direction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D2E4E-373C-434C-B49E-1F7CEE22D394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51444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2.4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rcise of Effective Strategic Leadership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457200"/>
            <a:ext cx="8229600" cy="4572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76360" y="1324080"/>
            <a:ext cx="7991280" cy="439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1E41E-0984-4CCF-8DED-FD3DB2574F0E}" type="slidenum">
              <a:t>20</a:t>
            </a:fld>
          </a:p>
        </p:txBody>
      </p:sp>
    </p:spTree>
  </p:cSld>
  <p:transition>
    <p:random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Determining Strategic Direc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etermining strategic direction involves developing a long-term vision of the firm’s strategic inten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ve to ten years into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hilosophy with goa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mage and character the firm seek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deal long-term vision has two part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ideolo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visioned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2B32E-93A8-4C74-9D35-65F25D25FB75}" type="slidenum">
              <a:t>21</a:t>
            </a:fld>
          </a:p>
        </p:txBody>
      </p:sp>
    </p:spTree>
  </p:cSld>
  <p:transition>
    <p:random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ploiting and Maintaining 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e competenc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 and capabilities of a firm that serve as a source of competitive advantage over its riva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dership must verify that the firm’s competencies are emphasized in strategy implementation effor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must continuously develop or even change their core competencies to stay ahead of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6DD36-6269-4B71-9555-F23B2B2E6CDA}" type="slidenum">
              <a:t>22</a:t>
            </a:fld>
          </a:p>
        </p:txBody>
      </p:sp>
    </p:spTree>
  </p:cSld>
  <p:transition>
    <p:random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Developing Human Capital and Social Capita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uman capit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knowledge and skills of the firm’s entire workforce are a capital resource that requires investment in training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ocial capit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lationships inside and outside the firm that help it accomplish tasks and create value for customers and sharehol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60D5D-D0E1-4D91-AC01-0C300B941EFF}" type="slidenum">
              <a:t>23</a:t>
            </a:fld>
          </a:p>
        </p:txBody>
      </p:sp>
    </p:spTree>
  </p:cSld>
  <p:transition>
    <p:random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ustaining an Effective Organizational Cul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 and core values shared through the firm, that influences the way business is conduct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trepreneurial Orient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characteristics that encourage or discourage entrepreneurial opportun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no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act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ve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isk 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0974A-970E-4AB0-A07A-1FFD0E3373CB}" type="slidenum">
              <a:t>24</a:t>
            </a:fld>
          </a:p>
        </p:txBody>
      </p:sp>
    </p:spTree>
  </p:cSld>
  <p:transition>
    <p:random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ustaining an Organizational Cul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anging a firm’s organizational culture is more difficult than maintaining i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strategic leaders recognize when change in culture is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ping and reinforcing culture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commun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blem solving skil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ection of the right peop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ffective performance appraisa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ropriate reward syste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6B6B8-BF70-4FE8-9DBE-2C9AABC69BB9}" type="slidenum">
              <a:t>25</a:t>
            </a:fld>
          </a:p>
        </p:txBody>
      </p:sp>
    </p:spTree>
  </p:cSld>
  <p:transition>
    <p:random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ness of processes used to implement the firm’s strategies increases when based on ethical practi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thical practices create social capital and goodwill for the fi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2AAE0-5C10-4A16-9678-4E5EFFC5488A}" type="slidenum">
              <a:t>26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tions that develop an ethical organizational culture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and communicating specific goals to describe the firm’s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inuously revising and updating the code of con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seminating the code of conduct to all stakeholders to  inform them of the firm’s ethical standards and practi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E3829-3D9E-4D51-9DA7-36F8526CA80D}" type="slidenum">
              <a:t>27</a:t>
            </a:fld>
          </a:p>
        </p:txBody>
      </p:sp>
    </p:spTree>
  </p:cSld>
  <p:transition>
    <p:random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Emphasizing Ethical Practi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tions that develop an ethical organizational culture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ing and implementing methods and procedures to use in achieving the firm’s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ing and using explicit reward systems that recognize acts of cour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ing a work environment in which all people are treated with dign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06736-734D-4486-9AC0-C15FF117633A}" type="slidenum">
              <a:t>28</a:t>
            </a:fld>
          </a:p>
        </p:txBody>
      </p:sp>
    </p:spTree>
  </p:cSld>
  <p:transition>
    <p:random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stablishing 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, information-based procedures used by managers to maintain or alter patterns in organizationa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ntrols help strategic leaders to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ild cred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nstrate the value of strategies to the firm’s stakehol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mote and support strategic chan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FB476-035F-4BD1-9CAD-3BCC5B9E6E83}" type="slidenum">
              <a:t>29</a:t>
            </a:fld>
          </a:p>
        </p:txBody>
      </p:sp>
    </p:spTree>
  </p:cSld>
  <p:transition>
    <p:random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importance of strategic leaders in managing the firm’s resources, with emphasis on exploiting and maintaining core competencies, human capital, and social capit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culture and explain what must be done to sustain an effective cul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at strategic leaders can do to establish and emphasize ethical practic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22720" indent="-5227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importance and use of organization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AB3DD-984C-4F1A-A4A2-7635CC6D26AE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Key Strategic Leadership Actions: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stablishing Balanced 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-28440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Balanced Scorecar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ramework used to verify that the firm has established both strategic and financial controls to assess its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events overemphasis of financial controls at the expense of 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4400" indent="-28440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 perspectives of the balanced scorecar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l business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rning and grow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BAAA0-7C8F-432B-B627-A7A9BFA814D6}" type="slidenum">
              <a:t>30</a:t>
            </a:fld>
          </a:p>
        </p:txBody>
      </p:sp>
    </p:spTree>
  </p:cSld>
  <p:transition>
    <p:random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0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5867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ic Controls and Financial Controls in a Balanced Scorecard Frame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785960" y="1295280"/>
            <a:ext cx="6062760" cy="510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0A1EC-2D3A-4E55-8DDB-20293188E887}" type="slidenum">
              <a:t>31</a:t>
            </a:fld>
          </a:p>
        </p:txBody>
      </p:sp>
    </p:spTree>
  </p:cSld>
  <p:transition>
    <p:random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44600" y="457200"/>
            <a:ext cx="2527200" cy="1457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22100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1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ic Leadership and the Strategic Management Proces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427560" y="380880"/>
            <a:ext cx="3735360" cy="617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FBF15-A2E9-45D1-826B-504FAA51FB49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hip and Styl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leadership requires the ability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cipate and en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intain flexibil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ower others to create strategic change as necessa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leadership i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-functional work that involves working through oth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deration of the entire enterprise rather than just a sub-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managerial frame of refer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882B2-DC35-42D5-98A5-54A9B7CC288D}" type="slidenum">
              <a:t>5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hip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ategic leader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 the firm’s operations effective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stain a high performance over tim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 better decisions than their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 candid, courageous, pragmatic decis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nderstand how their decisions affect the internal systems in use by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licit feedback from peers, superiors and employees about their decisions and vis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B8BE9-638F-47E3-B3EA-9EA83AB063C2}" type="slidenum">
              <a:t>6</a:t>
            </a:fld>
          </a:p>
        </p:txBody>
      </p: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ers as an Organizational Resour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s often use their discretion when making strategic decisions and implementing strateg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affecting the amount of decision-making discretion inclu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rnal environmental 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racteristics of the organiz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racteristics of the manag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2C54F-A1CB-4F50-A0BB-B2CAF18EE590}" type="slidenum">
              <a:t>7</a:t>
            </a:fld>
          </a:p>
        </p:txBody>
      </p:sp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4600" y="457200"/>
            <a:ext cx="2527200" cy="1219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22100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2.2</a:t>
            </a:r>
            <a:r>
              <a:rPr b="1" i="1" lang="en-US" sz="12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tors Affecting Managerial Discre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29000" y="495360"/>
            <a:ext cx="4643280" cy="5867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" y="6032520"/>
            <a:ext cx="3352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apted from S. Finkelstein &amp; D. C. Hambrick, 1996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ic Leadership: Top Executives and Their Effects on Organizations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. Paul, MN: West Publishing Compan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B1444-93BD-4501-BA9D-087EA0A60BD2}" type="slidenum">
              <a:t>8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actors Affecting Managerial Discre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79720" y="1598760"/>
            <a:ext cx="470232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dustry structur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ate of market growth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umber and type of competitor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ature and degree of political/legal constrai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egree to which products can be differentiat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49360" y="1523880"/>
            <a:ext cx="2782800" cy="970200"/>
            <a:chOff x="549360" y="1523880"/>
            <a:chExt cx="2782800" cy="970200"/>
          </a:xfrm>
        </p:grpSpPr>
        <p:sp>
          <p:nvSpPr>
            <p:cNvPr id="123" name=""/>
            <p:cNvSpPr/>
            <p:nvPr/>
          </p:nvSpPr>
          <p:spPr>
            <a:xfrm>
              <a:off x="549360" y="1523880"/>
              <a:ext cx="2782800" cy="970200"/>
            </a:xfrm>
            <a:prstGeom prst="rect">
              <a:avLst/>
            </a:prstGeom>
            <a:gradFill rotWithShape="0">
              <a:gsLst>
                <a:gs pos="0">
                  <a:srgbClr val="465e00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5040" y="1605600"/>
              <a:ext cx="2609640" cy="8053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6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352680" y="1523880"/>
            <a:ext cx="914400" cy="3429000"/>
          </a:xfrm>
          <a:custGeom>
            <a:avLst/>
            <a:gdLst>
              <a:gd name="textAreaLeft" fmla="*/ 584280 w 914400"/>
              <a:gd name="textAreaRight" fmla="*/ 914760 w 9144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276"/>
                </a:lnTo>
                <a:cubicBezTo>
                  <a:pt x="10800" y="3276"/>
                  <a:pt x="5400" y="3276"/>
                  <a:pt x="0" y="3276"/>
                </a:cubicBezTo>
                <a:cubicBezTo>
                  <a:pt x="5400" y="3276"/>
                  <a:pt x="10800" y="3276"/>
                  <a:pt x="10800" y="327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E1E0B-7181-441C-81C4-6B272E1C9422}" type="slidenum">
              <a:t>9</a:t>
            </a:fld>
          </a:p>
        </p:txBody>
      </p:sp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33Z</dcterms:modified>
  <cp:revision>47</cp:revision>
  <dc:subject>Chapter 12</dc:subject>
  <dc:title>Strategic Management 7e.</dc:title>
</cp:coreProperties>
</file>