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6CC8-5F43-458B-8B5D-18598C9CA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8526-B7E3-4071-8F3D-F2C433E8E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751D-93D2-40C7-92F9-12940768C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CC7F-E1FD-4259-A452-1F7682A3B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DADD-62DA-4D5E-8415-521222B48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B958-6CB6-42C3-92E7-A1EBE8EDB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BEA9-6FD5-434A-AE77-513F63F9B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DBCC-BF6F-4643-B1AE-2FDDFC278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F0CE-1A6E-4712-A145-9026ECA37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5D78-46B4-4340-9346-A98617E8D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DE03-C3B6-4B37-A686-D75E8981F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A479-B6EF-46C0-9428-C8CC25F3F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5541-7E11-454E-8B39-D8C3488FB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4155-02B2-40A7-A3F0-3AB079059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BAD7-6F95-43D2-A0F0-7F40FAE71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E340-51DB-4ABA-9F8F-8EA97BFCD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C56F-83ED-44FC-90AB-66AA15854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C73F-0FA3-45B5-A79A-63C320C06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2545-1FF2-4D7C-A8F5-51EB513EB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B75F-B307-4A82-92CE-EB82D962A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C18E-B607-47C8-8C9B-8ADAB784E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ADB7-6D39-46C9-9C85-A6FB175CC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3A0E-9440-4E4B-B40E-FA345AECB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BA62-D71E-4FB1-A24B-1D1F1D866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5BBF-ABF2-4C7F-AEA2-E9977B527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60CC-BCDE-4B01-ABA8-AE2000FC1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7615-F700-42CD-A5A5-0DAF3A44E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B050-F9A7-4639-B1B6-AD15B3382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2016-271C-4158-B5DA-37EA80478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ABFF-4C7E-4E27-A4D0-688D7478D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B4BE-4017-4C7F-9FDE-D01906016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3CE0-509B-4BBD-8479-14DEC40DA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248A-29FE-4332-94D8-DAF996783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1D94-BDC3-4112-81F6-61D5C67B8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9D86-C8F4-46B9-B296-CC5CC0C5F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E830-49A2-4CEE-80B4-785357887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2D17-CF2E-4BAF-A17E-BE14EBBFD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29A2-730B-47FA-A71D-1539E992D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2F8D-8E29-485D-9D2C-6463DF672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3173-4A11-47A7-BE7F-EE873A951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1D98-8F67-4641-95A5-37A116F7F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3E95-BFA0-4D15-88B9-4F6AF6407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28701-4DFB-41B3-971D-67C488CA9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FCDFA-EA48-4D91-8CAA-BEDF8EAA7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A0EE6-D36F-4FB1-AD68-D050E7D6D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69EA6-46DA-468C-A9A5-B801802D0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46620-0943-41A7-9A99-125386A1F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4904E-C940-42BA-B9ED-AF738E231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F523B-4C38-457E-9BB6-A69882BB0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6048F-AEA5-4449-BFB2-EEE05CEF7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262E4-B02A-474E-A08D-26316FC02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B7950-1C7C-4B8D-BAAF-E2E7B077C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6183D-37FE-408D-BF37-2807ACEEE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5EB1F-3F0E-46CB-8387-340B478DD0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–</a:t>
            </a:r>
            <a:fld id="{5F6FF4A0-231F-42D9-B183-5761DC35FB6D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085480"/>
            <a:ext cx="556272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1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ganizational Structure and Controls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ionships between Strategy and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y and structure have a reciprocal relationship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flows from or follows the selection of the firm’s strategy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nce in place, structure can influence current strategic actions as well as choices about futur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B4F92-E6E2-4F5F-AEAB-7C62892737C0}" type="slidenum">
              <a:t>10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534960" y="1030680"/>
            <a:ext cx="807408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grow in predictable patt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st by volum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by geograph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integration (vertical, horizontal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d finally through product/business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growth patterns determine its structural fo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82A84-B1AF-4EFD-BB25-E17CE383DA7A}" type="slidenum">
              <a:t>11</a:t>
            </a:fld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ll organizations require some form of organizational structure to implement and manage their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frequently alter their structure as they grow in size and complex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asic structure typ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mpl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unct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divisional structure (M-form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C2712-2256-4F45-ACA1-63D35293FE41}" type="slidenum">
              <a:t>12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2133720" cy="253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 Growth Patter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1841400"/>
            <a:ext cx="365760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1311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6858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imp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09888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unct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4235400"/>
            <a:ext cx="363204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54864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ultidivis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565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708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952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72096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10DD1-C781-401A-9165-19242C712BC3}" type="slidenum">
              <a:t>13</a:t>
            </a:fld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381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17528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y and Structure Growth Patter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19400" y="304920"/>
            <a:ext cx="230508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8D78B-BB31-4AED-9246-0AE9C61AF8BD}" type="slidenum">
              <a:t>14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Simple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s all major decisions direct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nitors al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rves as an extension of the manager’s supervisor author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tched with focus strategies and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complete by offering a single product line in a single geographic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33758-E5FA-4966-BF22-74950EF49AA8}" type="slidenum">
              <a:t>15</a:t>
            </a:fld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imple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rowth creat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and structural challe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lack organizational skills and experi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ome ineffective in managing the specialized and complex tasks involved with multiple organizational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ED1ED-50AC-42C4-8706-D50A5BF090F0}" type="slidenum">
              <a:t>16</a:t>
            </a:fld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ief Executive Officer (CEO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mited corporate staff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unctional line managers in dominant organizational areas of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&amp;D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orts use of business-level strategies and some 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ngle or dominant business with low levels of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127B2-B2F1-4741-954C-6C39B4ED3F3B}" type="slidenum">
              <a:t>17</a:t>
            </a:fld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unc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orientation among organizational functions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ede communication and coordin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 the need for CEO to integrate decisions and actions of business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 career paths and professional development in specialized functional ar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use functional-area managers to focus on local versus overall company strategic iss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CB4E4-3A08-4C2F-942E-F1BB5CCBDE6F}" type="slidenum">
              <a:t>18</a:t>
            </a:fld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ng divisions function as separate businesses or profit cen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p corporate officer delegates responsibilities to division 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day-to-day oper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business-unit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as firm grows through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EAA7D-1DBE-46A0-90F4-0C21C0F9A8C3}" type="slidenum">
              <a:t>19</a:t>
            </a:fld>
          </a:p>
        </p:txBody>
      </p: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structure and controls and discuss the difference between strategic and financi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elationship between strategy and struc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unctional structures used to implement business-leve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use of three versions of the multidivisional (M-form) structure to implement different diversification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3A003-CE78-43A3-87AC-2B0BFC9F0F02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Major Benefi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rs are able to more accurately monitor the performance of each business, which simplifies the problem of contr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comparisons between divisions, which improves the resource allocation pro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imulates managers of poorly performing divisions to look for ways of improving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AAF2C-213B-4EBB-ABA5-155FFA40FE1F}" type="slidenum">
              <a:t>20</a:t>
            </a:fld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ing Strategy and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forms of the functional organizational structure are matched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leadership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grated cost leadership/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these forms are seen in three important structural characteristic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alization (number and types of job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ntralization (decision-making authority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(formal rules and work procedure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FCF4F-F3AA-4131-81E2-A0B9A7D5EC8B}" type="slidenum">
              <a:t>21</a:t>
            </a:fld>
          </a:p>
        </p:txBody>
      </p:sp>
    </p:spTree>
  </p:cSld>
  <p:transition>
    <p:random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al Structure for Implementation of a Cost Leadership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539720"/>
            <a:ext cx="8172360" cy="4023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00800" y="1523880"/>
            <a:ext cx="259092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249"/>
              </a:spcBef>
              <a:tabLst>
                <a:tab algn="l" pos="0"/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 is the main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 engineering is emphasized rather than new product R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latively large centralized staff coordinates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ed procedures allow for emergence of a low-cost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mechanical; job roles are highly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51777-A8CD-47A6-9BA4-F15BA47C2D2E}" type="slidenum">
              <a:t>22</a:t>
            </a:fld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 Cost Leadership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s is the main fun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cess engineering is emphasized over research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centralized staff oversees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ed procedures guide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is mechanic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highly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E06FA-EC6E-4993-8E04-653F6FB7894E}" type="slidenum">
              <a:t>23</a:t>
            </a:fld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504360"/>
            <a:ext cx="678204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 Structure for Implementation of a Differentiation Strategy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0120" y="1566720"/>
            <a:ext cx="8010360" cy="3724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470560"/>
            <a:ext cx="8001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Marketing is the main function for keeping track of new product ide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New product R&amp;D is empha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t functions are decentralized, but R&amp;D and marketing may have centralized staffs that work closely with each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ation is limited so that new product ideas can emerge easily and change is more readily accomp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organic; job roles are less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C5FFC-1E2A-4E31-8565-F2D2D58BC2DD}" type="slidenum">
              <a:t>24</a:t>
            </a:fld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a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ing is the main function for tracking new product idea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product R&amp;D is emphas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st functions are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is limited to foster change and promote new id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verall structure is organic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less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B4C77-8B96-40E4-941F-65AA925D63AF}" type="slidenum">
              <a:t>25</a:t>
            </a:fld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the Integrated Cost Leadership/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lling products that create customer value due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ir relatively low product cost through an emphasis on production and process engineering, with infrequent product chang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asonable sources of differentiation based on new-product R&amp;D are emphasized while production and process engineering are no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frequently in global econom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B02FE-A1B9-4197-9477-5EB3A29BE4C4}" type="slidenum">
              <a:t>26</a:t>
            </a:fld>
          </a:p>
        </p:txBody>
      </p:sp>
    </p:spTree>
  </p:cSld>
  <p:transition>
    <p:random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an Integrated Cost Leadership/Differentiation Strateg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ntegrated form of the functional structure must have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cision-making patterns that are partially centralized and partially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mi-specialized job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ules and procedures that allow both formal and informal job behavi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AF6E2-A178-45A5-8A38-877CF78EB1DD}" type="slidenum">
              <a:t>27</a:t>
            </a:fld>
          </a:p>
        </p:txBody>
      </p:sp>
    </p:spTree>
  </p:cSld>
  <p:transition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continuing success that lead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oth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creasing diversification creates control problems that the functional structure can’t handl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ormation processing, coordin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675C8-5D0A-49EF-9E1D-1FC65235CB62}" type="slidenum">
              <a:t>28</a:t>
            </a:fld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y requires firm to change from functional structure to a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levels of diversification create the need for implementation of a unique form of the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3B79E-39E4-4F6F-B2BB-2D13E4133888}" type="slidenum">
              <a:t>29</a:t>
            </a:fld>
          </a:p>
        </p:txBody>
      </p:sp>
    </p:spTree>
  </p:cSld>
  <p:transition>
    <p:random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organizational structures used to implement three internationa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networks and discuss how strategic center firms implement such networks at the business, corporate and international leve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98FB2-0845-454B-A03B-D41D253EEB28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58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4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Variations of the Multidivisional Structur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57200"/>
            <a:ext cx="8229600" cy="5335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90720" y="1560600"/>
            <a:ext cx="712476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70DB3-FCE3-4BF0-B04F-5B27EF941A1F}" type="slidenum">
              <a:t>30</a:t>
            </a:fld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operative Form of the Multidivisional Structure for Implementation of a Related Constrain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81040"/>
            <a:ext cx="1828800" cy="479160"/>
            <a:chOff x="457200" y="58104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8104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74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285920"/>
            <a:ext cx="7010640" cy="4352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5720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Structural integration devices create tight links among all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office emphasizes centralized strategic planning, huma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resources, and marketing to foster cooperation between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&amp;D is likely to be centralized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3962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wards are subjective and tend to emphasize overall corporat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formance in addition to divisional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lture emphasizes cooperative 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3BC1F-2C0E-4B9C-86C1-E68C525A6E61}" type="slidenum">
              <a:t>31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opera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integration is used to bring about interdivisional coopera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ring divisional competencies facilitates development of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 foster divisional cooperation, the corporate office emphasizes centralization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9A66F-55FB-4674-9C98-EE52C547B0C3}" type="slidenum">
              <a:t>32</a:t>
            </a:fld>
          </a:p>
        </p:txBody>
      </p:sp>
    </p:spTree>
  </p:cSld>
  <p:transition>
    <p:random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&amp;D is likely to be centraliz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equent, direct contact between division managers encourages and supports cooperation and sharing of competencies and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liaison rol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wards are subjective, emphasizing overall corporate performance in addition to divisional performan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088C7-CED4-40C1-B9CF-E24403F49A8A}" type="slidenum">
              <a:t>33</a:t>
            </a:fld>
          </a:p>
        </p:txBody>
      </p:sp>
    </p:spTree>
  </p:cSld>
  <p:transition>
    <p:random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6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U Form of the Multidivisional Structure for Implementation of a Related Link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57200" y="5842080"/>
            <a:ext cx="4114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uctural integration among divisions within SBUs, but independenc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ross SB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ic planning may be the most prominent function in headquarters for  managing the strategic planning approval process of SBUs for the presi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9720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ch SBU may have its own budget for staff to foster 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porate headquarters staff serve as consultants to SBUs and divisions, rather than having direct input to product strategy, as in the cooperative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90440" y="1285920"/>
            <a:ext cx="6963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8D08D-5EC8-4865-AB82-D4F905F484EC}" type="slidenum">
              <a:t>34</a:t>
            </a:fld>
          </a:p>
        </p:txBody>
      </p:sp>
    </p:spTree>
  </p:cSld>
  <p:transition>
    <p:random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business unit (SBU) form is a structure consisting of three leve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headquar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business units (SBU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BU div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sha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s, or markets, or bo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073AA-69BF-4F10-9F87-63BB213CE9C9}" type="slidenum">
              <a:t>35</a:t>
            </a:fld>
          </a:p>
        </p:txBody>
      </p:sp>
    </p:spTree>
  </p:cSld>
  <p:transition>
    <p:random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develop economies of scope and/or scale by sharing product or market competenc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SBU is a profit center controlled and evaluated by the headquarters off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by large firm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be complex due to an organization’s size and diversity in products and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91CE9-93AC-4F43-B1DD-A7C6F41BA79A}" type="slidenum">
              <a:t>36</a:t>
            </a:fld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7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etitive Form of the Multidivisional Structure for Implementation of an Unrelat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4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04840" y="1295280"/>
            <a:ext cx="6934320" cy="3486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3520" y="5356080"/>
            <a:ext cx="365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headquarters has a small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e and auditing are the most prominent functions in the headquarters office to manage cash flow and assure the accuracy of performance data coming from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48640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legal affairs function becomes important when the firm acquires or divests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are independent and separate for financial evaluation purp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retain strategic control, but cash is managed by the corporate off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compete for corporate re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E13F9-A57B-4457-85BE-9D958675156E}" type="slidenum">
              <a:t>37</a:t>
            </a:fld>
          </a:p>
        </p:txBody>
      </p:sp>
    </p:spTree>
  </p:cSld>
  <p:transition>
    <p:random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mpeti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structure in which there is complete independence among the firm’s divi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isions do not share common corporate strength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ause strengths aren’t shared, integrating devices aren’t develop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arrangements emphasize divisional competition rather than cooper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EAFDA-510F-4CA3-B034-1DCAD4506792}" type="slidenum">
              <a:t>38</a:t>
            </a:fld>
          </a:p>
        </p:txBody>
      </p:sp>
    </p:spTree>
  </p:cSld>
  <p:transition>
    <p:random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enefits from the internal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—corporate headquarters can have divisions working on different technologies to identify those with greatest future potenti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llenges the status quo and inertia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tivates effor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specific profit performance expectations for each division to promote internal competition for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B1F4F-66C3-4D6C-8C0E-A5BAAAFF56EC}" type="slidenum">
              <a:t>39</a:t>
            </a:fld>
          </a:p>
        </p:txBody>
      </p:sp>
    </p:spTree>
  </p:cSld>
  <p:transition>
    <p:random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 and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structure specif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’s formal reporting relationships, procedures, controls, and authority and decision-making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work to be done and how to do it, given the firm’s strategy o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t is critical to match organizational structure to the firm’s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397AA-0E48-40EA-9789-0315EE524B64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1.1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s of the Structures Necessary to Implement the Related Constrained, Related Linked, and Unrelated Diversification Strategi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03200" y="1628640"/>
            <a:ext cx="83059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operative M-Form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BU M-Form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mpetitive M-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Constrain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Link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nrelated Diversif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ized a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ly centraliz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ntralized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SBU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of integr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xist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subjec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a mixture 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objecti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rategic) criter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ive (strategi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bjec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 incen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over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linkage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divisio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, SBU, 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al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0440" y="116676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ll Structural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760" y="62895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y implemented with structural for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564C9-6C8A-4F33-86AF-6CC3AEAD8664}" type="slidenum">
              <a:t>40</a:t>
            </a:fld>
          </a:p>
        </p:txBody>
      </p:sp>
    </p:spTree>
  </p:cSld>
  <p:transition>
    <p:random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Strategies and Worldwide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rnational strategies allow the firm to search for new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FFB5C-0763-49A3-98E9-CBA018BED03F}" type="slidenum">
              <a:t>41</a:t>
            </a:fld>
          </a:p>
        </p:txBody>
      </p:sp>
    </p:spTree>
  </p:cSld>
  <p:transition>
    <p:random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5095800" cy="4497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495000"/>
            <a:ext cx="670572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1.8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wide Geographic Area Structure for Implementation of a Multidomestic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12920" y="5678640"/>
            <a:ext cx="598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perimeter circles indicate decentralization of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phasis is on differentiation by local demand to fit an area or country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coordinates financial resources among independent subsidi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de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314CC-7A95-4113-AD85-76473AFC374A}" type="slidenum">
              <a:t>42</a:t>
            </a:fld>
          </a:p>
        </p:txBody>
      </p:sp>
    </p:spTree>
  </p:cSld>
  <p:transition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: Implementing a Multidomestic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 decentralizes strategic and operating decision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units in each cou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characteristics tailored to local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counter global competitive forces b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protected market positions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ng in industry segments most affected by differences among loc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BA515-ECAB-4D02-B400-88AF24A68F62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orldwide Geographic Area Struc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hasizes national interes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the firm’s efforts to satisfy local or cultural dif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little coordination between different county markets: integrating mechanisms aren’t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y disadvantage is inability to create global efficienc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95E5E-1FC5-4AA8-8425-CDB535A25045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9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wide Product Divisional Structure for Implementation of a Glob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76520" y="1295280"/>
            <a:ext cx="5076720" cy="4524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360" y="5681520"/>
            <a:ext cx="7791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eadquarters’ circle indicates centralization to coordinate information flow among worldwide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uses many intercoordination devices to facilitate global economies of scale and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also allocates financial resources in a cooperative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B5BD1-E593-42DE-A335-F87C5FA396F7}" type="slidenum">
              <a:t>45</a:t>
            </a:fld>
          </a:p>
        </p:txBody>
      </p:sp>
    </p:spTree>
  </p:cSld>
  <p:transition>
    <p:random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: Implementing a Glob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irm to offer standardized products across country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s on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 depends on firm’s ability to develop and take advantage of economies of scope and scale on global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tends to outsource some primary or support activities to the world’s best provi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860E5-454B-47A9-B57C-8A6E320CB866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entralizes decision-making authority in the worldwide division headquart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adquarters coordinates and integrates decisions and actions among divisional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grating mechanisms are importa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rect contact between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aison roles between depart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mporary task forces as well as permanent tea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DE189-64E8-4279-AD0A-3FAF62D34D37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bination Structure: A Transnation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ransnation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bines multidomestic strategy’s local responsiveness with global strategy’s efficienc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bination structure draws characteristics and mechanisms from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geographic area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product divis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integrating mechanisms for the combination structure are less obviou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F09E4-5D96-41D4-AA0C-E6DD5A47D8C1}" type="slidenum">
              <a:t>48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010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0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the Hybrid Form of the Combination Structure for Implementation of a Transnation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9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61960" y="1600200"/>
            <a:ext cx="80200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5CBBB-C3D5-437C-A81E-4BDD827B3F48}" type="slidenum">
              <a:t>49</a:t>
            </a:fld>
          </a:p>
        </p:txBody>
      </p:sp>
    </p:spTree>
  </p:cSld>
  <p:transition>
    <p:random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uctures provi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stability provides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apacity required to consistently and predictably manage daily work routi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flexibility provides for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opportunity to explore competitiv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llocation of resources to activities that shape needed competitive advanta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43F37-4369-4511-9B7E-17CFC284A8F7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etwork strategy exist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form several alliances in order to improve performance of the alliance network itself through cooperative endeav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formed to create value by participating in multiple cooperative arrangements such as alliances and joint vent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EC664-EC4A-4064-992F-EB8B9865CA59}" type="slidenum">
              <a:t>50</a:t>
            </a:fld>
          </a:p>
        </p:txBody>
      </p:sp>
    </p:spTree>
  </p:cSld>
  <p:transition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 are used to impleme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cooperative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enter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around which the network’s cooperative relationships revol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F8A64-CE32-48F4-AAE4-0D2C07597733}" type="slidenum">
              <a:t>51</a:t>
            </a:fld>
          </a:p>
        </p:txBody>
      </p:sp>
    </p:spTree>
  </p:cSld>
  <p:transition>
    <p:random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44600" y="447840"/>
            <a:ext cx="215568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978280" y="671400"/>
            <a:ext cx="4870440" cy="53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E390C-5215-4D41-89CD-AF73D5C4CFD0}" type="slidenum">
              <a:t>52</a:t>
            </a:fld>
          </a:p>
        </p:txBody>
      </p:sp>
    </p:spTree>
  </p:cSld>
  <p:transition>
    <p:random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Center Fi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s the foundation for the strategic network’s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aspects of organizational structure such as formal reporting relationship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s the complex, cooperative interactions among network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gages in four primary task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outsourc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ce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EFC8D-D394-4268-B268-6986804DFC39}" type="slidenum">
              <a:t>53</a:t>
            </a:fld>
          </a:p>
        </p:txBody>
      </p:sp>
    </p:spTree>
  </p:cSld>
  <p:transition>
    <p:random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have complementary competencies in different value chain stages that let them cooperatively integrate their different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that agree to combine competencies to create value in the same stage of the value chai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trategic center firm is obvious in vertical alliances, but not always in horizontal allian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EE134-2F00-4955-8524-F4874CD198E9}" type="slidenum">
              <a:t>54</a:t>
            </a:fld>
          </a:p>
        </p:txBody>
      </p:sp>
    </p:spTree>
  </p:cSld>
  <p:transition>
    <p:random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: International 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anchi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mon form of cooperative strategy used to facilitate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the firm to use its competencies to extend or diversify its product or market reach without completing a merger or acquisi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102EB-CC15-4327-B92F-00E457BBB2CB}" type="slidenum">
              <a:t>55</a:t>
            </a:fld>
          </a:p>
        </p:txBody>
      </p:sp>
    </p:spTree>
  </p:cSld>
  <p:transition>
    <p:random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used to implement international cooperative strategies for competing in sever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countries’ regulatory environments increase the challenge of managing international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stributed 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the organizational structure used to manage international cooper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trategic center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70D77-EB42-4957-B82A-0DD92120BB60}" type="slidenum">
              <a:t>56</a:t>
            </a:fld>
          </a:p>
        </p:txBody>
      </p:sp>
    </p:spTree>
  </p:cSld>
  <p:transition>
    <p:random/>
  </p:transition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152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2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Distributed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819520" y="728640"/>
            <a:ext cx="52578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B0F75-8DF2-4453-B73B-190CAC80FFFB}" type="slidenum">
              <a:t>57</a:t>
            </a:fld>
          </a:p>
        </p:txBody>
      </p:sp>
    </p:spTree>
  </p:cSld>
  <p:transition>
    <p:random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rposes of Organizational Contro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uide the use of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cate how to compare actual results with expected resul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ggest corrective actions to take when the difference between actual and expected results is unaccept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wo Types of Organizational 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771D2-A27D-4496-B20F-679FB8BE2A9B}" type="slidenum">
              <a:t>6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5640" y="1295280"/>
            <a:ext cx="250848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s: Su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ncerned with examining the fit between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ght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pportunities in its external enviro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etitive advantag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valuate the degree to which the firm focuses on the requirements to implement its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35480" y="1492200"/>
            <a:ext cx="2330280" cy="914400"/>
            <a:chOff x="3435480" y="1492200"/>
            <a:chExt cx="2330280" cy="914400"/>
          </a:xfrm>
        </p:grpSpPr>
        <p:sp>
          <p:nvSpPr>
            <p:cNvPr id="113" name=""/>
            <p:cNvSpPr/>
            <p:nvPr/>
          </p:nvSpPr>
          <p:spPr>
            <a:xfrm>
              <a:off x="3435480" y="1492200"/>
              <a:ext cx="233028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0800" y="1566360"/>
              <a:ext cx="215712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90560" y="1492200"/>
            <a:ext cx="1879560" cy="914400"/>
            <a:chOff x="790560" y="1492200"/>
            <a:chExt cx="1879560" cy="914400"/>
          </a:xfrm>
        </p:grpSpPr>
        <p:sp>
          <p:nvSpPr>
            <p:cNvPr id="116" name=""/>
            <p:cNvSpPr/>
            <p:nvPr/>
          </p:nvSpPr>
          <p:spPr>
            <a:xfrm>
              <a:off x="79056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502320" y="1492200"/>
            <a:ext cx="1879560" cy="914400"/>
            <a:chOff x="6502320" y="1492200"/>
            <a:chExt cx="1879560" cy="914400"/>
          </a:xfrm>
        </p:grpSpPr>
        <p:sp>
          <p:nvSpPr>
            <p:cNvPr id="119" name=""/>
            <p:cNvSpPr/>
            <p:nvPr/>
          </p:nvSpPr>
          <p:spPr>
            <a:xfrm>
              <a:off x="65023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7108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" name=""/>
          <p:cNvCxnSpPr>
            <a:stCxn id="113" idx="1"/>
            <a:endCxn id="116" idx="3"/>
          </p:cNvCxnSpPr>
          <p:nvPr/>
        </p:nvCxnSpPr>
        <p:spPr>
          <a:xfrm flipH="1">
            <a:off x="2669760" y="1949040"/>
            <a:ext cx="766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2" name=""/>
          <p:cNvCxnSpPr>
            <a:stCxn id="113" idx="3"/>
            <a:endCxn id="119" idx="1"/>
          </p:cNvCxnSpPr>
          <p:nvPr/>
        </p:nvCxnSpPr>
        <p:spPr>
          <a:xfrm>
            <a:off x="576576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97E61-58EA-4D48-A2B7-EF96FB2BFACF}" type="slidenum">
              <a:t>7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915160" y="1295280"/>
            <a:ext cx="250812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74788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Controls: O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Value Added (E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78080" y="1492200"/>
            <a:ext cx="2330640" cy="914400"/>
            <a:chOff x="3178080" y="1492200"/>
            <a:chExt cx="2330640" cy="914400"/>
          </a:xfrm>
        </p:grpSpPr>
        <p:sp>
          <p:nvSpPr>
            <p:cNvPr id="127" name=""/>
            <p:cNvSpPr/>
            <p:nvPr/>
          </p:nvSpPr>
          <p:spPr>
            <a:xfrm>
              <a:off x="3178080" y="1492200"/>
              <a:ext cx="233064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3760" y="1566360"/>
              <a:ext cx="215748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1492200"/>
            <a:ext cx="1879560" cy="914400"/>
            <a:chOff x="533520" y="1492200"/>
            <a:chExt cx="1879560" cy="914400"/>
          </a:xfrm>
        </p:grpSpPr>
        <p:sp>
          <p:nvSpPr>
            <p:cNvPr id="130" name=""/>
            <p:cNvSpPr/>
            <p:nvPr/>
          </p:nvSpPr>
          <p:spPr>
            <a:xfrm>
              <a:off x="5335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228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45280" y="1492200"/>
            <a:ext cx="1879560" cy="914400"/>
            <a:chOff x="6245280" y="1492200"/>
            <a:chExt cx="1879560" cy="914400"/>
          </a:xfrm>
        </p:grpSpPr>
        <p:sp>
          <p:nvSpPr>
            <p:cNvPr id="133" name=""/>
            <p:cNvSpPr/>
            <p:nvPr/>
          </p:nvSpPr>
          <p:spPr>
            <a:xfrm>
              <a:off x="624528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1404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1"/>
            <a:endCxn id="130" idx="3"/>
          </p:cNvCxnSpPr>
          <p:nvPr/>
        </p:nvCxnSpPr>
        <p:spPr>
          <a:xfrm flipH="1">
            <a:off x="2412360" y="1949040"/>
            <a:ext cx="765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7" idx="3"/>
            <a:endCxn id="133" idx="1"/>
          </p:cNvCxnSpPr>
          <p:nvPr/>
        </p:nvCxnSpPr>
        <p:spPr>
          <a:xfrm>
            <a:off x="550872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79599-875F-4B58-BF40-2B7C7B4C7543}" type="slidenum">
              <a:t>8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tching Control to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lative use of controls varies by type of strateg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diversified firms using a cost leadership strategy emphasize financial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anies and business units using a differentiation strategy emphasize strategic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2B204-0A9B-46A0-A17F-E8FF6084A26D}" type="slidenum">
              <a:t>9</a:t>
            </a:fld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07Z</dcterms:modified>
  <cp:revision>43</cp:revision>
  <dc:subject>Chapter 11</dc:subject>
  <dc:title>Strategic Management 7e.</dc:title>
</cp:coreProperties>
</file>