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1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F5584-1258-481E-A039-F3A5968E2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BF83-14D4-4847-8C61-C035D6B7E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243B-23C5-4CE2-A703-EEFECDE8A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9A90-7506-4E21-B99E-92117379B7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0CA8-0ECC-4667-8F02-228503BCA6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D7B97-3961-4948-A90D-CB0055D1CB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ACA94-3BF0-4868-9C79-E39B94C81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40DF-5C11-4954-897B-E234D8DEEF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B078C-99A9-4AB7-B992-F0F5D26550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9C865-FFDF-4907-805A-8EAF1299A3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9598-5B52-4510-92C9-BC4703F079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C122-C1C7-4A14-8422-FCAF0A8C29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746C-39F6-4F4A-8A8C-58EF94118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EED08-9D23-47DE-8E12-B1763D641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835E-D37A-4329-AA57-03C30D4BF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939B2-582F-42D7-8C2B-FDEC672FB8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ECECD-0437-42BE-B15D-E0C4E442A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3707A-3F71-4702-A08B-A629ACA4E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9D06-B5F0-4C58-A00D-CAB5D95593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5A760-02D7-4E26-94EB-371AEB2A99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88B2-9BBD-4F5C-A7B5-39CE2D0D0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50225-84AE-4C85-BEE8-56EF879FFC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1346-4694-4697-ADB6-B5E7E0CAA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4E029-3D5F-4911-97A5-D5717177B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E116-B6C9-4046-82AA-5812AD5A3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7BB6-F2D8-41C3-9047-E81590AF6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60081-B6DC-4F4C-B8F4-A0B75C84EE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656E5-A8FA-48E4-8BAE-B7AD4719A9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22FBE-6730-42A0-B947-521892135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DA81-64C5-4367-9045-05E652ED92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42C76-C72C-4C0F-AFF0-14C235D59D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ED32-59E0-4ED7-8FFA-410CC74C9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B117A-1112-4C74-8CCC-ADCE0B493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EC9C-C99F-49B8-85B2-47D2112FA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F0E50-3F1E-4B95-B85C-C534B4BA4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3F82-CB77-4551-963C-CCA71DDA3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2084E-802E-4DF0-B1E6-9F41ABF1A4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FF4E3-9490-44B9-B56E-4040DF8DD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7A20E-BE30-4C3F-932B-2FD7B41588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D8207-5187-4C79-AD3E-0AB50CF95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8E26-C809-4B3F-BD58-E6C0168368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F45E5-C1A2-46C5-B77B-84A868207D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DC3B0-6CCA-4614-AA35-7F46201D55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3BDB0F-48B5-4AE9-8FBE-D242BFD50F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C1FB87-1F50-40B0-B42A-829B516111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476F12-EECF-4367-B7F7-BA51879C41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3A282-8569-40F2-81D7-A4FC8C4BFE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F9143-2088-4F7A-99E5-786D9559D9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C30B1-B43F-4F8B-9067-125E2AB114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EFD141-86F4-4B8A-B746-A21B23D312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13A42-F3E0-4083-9979-3EBBD7A6F4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C2FDF-CE9D-40CB-8F10-8EAFB253CD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C153D-6FF9-43EB-9D14-50D18BEC36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AD3F6-D001-4043-9A65-851E8B7206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–</a:t>
            </a:r>
            <a:fld id="{272C11CD-51B9-4BF2-95FA-0A7A545C46F4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1952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048120"/>
            <a:ext cx="243828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085480"/>
            <a:ext cx="5562720" cy="14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ahoma"/>
              </a:rPr>
              <a:t>CHAPTER 11</a:t>
            </a:r>
            <a:br>
              <a:rPr sz="24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Organizational Structure and Controls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lationships between Strategy and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y and structure have a reciprocal relationship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flows from or follows the selection of the firm’s strategy but …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nce in place, structure can influence current strategic actions as well as choices about futur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111399-F18C-4FEE-AA3D-80632323D4B9}" type="slidenum">
              <a:t>10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3" dur="5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 flipV="1">
            <a:off x="534960" y="1030680"/>
            <a:ext cx="8074080" cy="18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grow in predictable pattern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st by volum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by geograph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n integration (vertical, horizontal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d finally through product/business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growth patterns determine its structural form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0AE4B-997E-48CA-A515-5A6BA0BD174D}" type="slidenum">
              <a:t>11</a:t>
            </a:fld>
          </a:p>
        </p:txBody>
      </p:sp>
    </p:spTree>
  </p:cSld>
  <p:transition>
    <p:random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Evolutionary Patterns of Structure and Organiza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ll organizations require some form of organizational structure to implement and manage their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frequently alter their structure as they grow in size and complexit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asic structure typ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mple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unct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ltidivisional structure (M-form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00D0A-2935-4EA2-93E3-C16A2E849BEF}" type="slidenum">
              <a:t>12</a:t>
            </a:fld>
          </a:p>
        </p:txBody>
      </p:sp>
    </p:spTree>
  </p:cSld>
  <p:transition>
    <p:random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2133720" cy="253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 Growth Patter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3505320" y="1841400"/>
            <a:ext cx="365760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86400" y="1311120"/>
            <a:ext cx="236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6858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imple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505320" y="309888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172f00"/>
              </a:gs>
              <a:gs pos="100000">
                <a:srgbClr val="3366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Funct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17920" y="4235400"/>
            <a:ext cx="3632040" cy="7225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4600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Sales Growth</a:t>
            </a:r>
            <a:br>
              <a:rPr sz="1600"/>
            </a:br>
            <a:r>
              <a:rPr b="1" lang="en-US" sz="1200" spc="-1" strike="noStrike">
                <a:solidFill>
                  <a:srgbClr val="ffffcc"/>
                </a:solidFill>
                <a:latin typeface="Arial"/>
              </a:rPr>
              <a:t>Coordination and Control Probl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05320" y="5486400"/>
            <a:ext cx="3657600" cy="609480"/>
          </a:xfrm>
          <a:prstGeom prst="bevel">
            <a:avLst>
              <a:gd name="adj" fmla="val 9847"/>
            </a:avLst>
          </a:prstGeom>
          <a:gradFill rotWithShape="0">
            <a:gsLst>
              <a:gs pos="0">
                <a:srgbClr val="5e1700"/>
              </a:gs>
              <a:gs pos="100000">
                <a:srgbClr val="cc33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Arial"/>
              </a:rPr>
              <a:t>Multidivisional 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12952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334120" y="2565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4120" y="370836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495288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62720" y="3720960"/>
            <a:ext cx="236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icient implementation of formulated strate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BB705-4963-4FD3-93B6-DBE44070C8F7}" type="slidenum">
              <a:t>13</a:t>
            </a:fld>
          </a:p>
        </p:txBody>
      </p:sp>
    </p:spTree>
  </p:cSld>
  <p:transition>
    <p:random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50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250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3500"/>
                            </p:stCondLst>
                            <p:childTnLst>
                              <p:par>
                                <p:cTn id="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500"/>
                            </p:stCondLst>
                            <p:childTnLst>
                              <p:par>
                                <p:cTn id="3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500"/>
                            </p:stCondLst>
                            <p:childTnLst>
                              <p:par>
                                <p:cTn id="3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8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6500"/>
                            </p:stCondLst>
                            <p:childTnLst>
                              <p:par>
                                <p:cTn id="3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75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850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9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3813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1752840" cy="12207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rategy and Structure Growth Pattern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019400" y="304920"/>
            <a:ext cx="2305080" cy="6191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71A0F-84D9-447C-8616-EE473D6BFA37}" type="slidenum">
              <a:t>14</a:t>
            </a:fld>
          </a:p>
        </p:txBody>
      </p:sp>
    </p:spTree>
  </p:cSld>
  <p:transition>
    <p:random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Simple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kes all major decisions direct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nitors all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aff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rves as an extension of the manager’s supervisor authorit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tched with focus strategies and business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complete by offering a single product line in a single geographic marke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03B1B-869F-4A0B-8A72-E38A92EF9D7C}" type="slidenum">
              <a:t>15</a:t>
            </a:fld>
          </a:p>
        </p:txBody>
      </p:sp>
    </p:spTree>
  </p:cSld>
  <p:transition>
    <p:random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imple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rowth creat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lex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ial and structural challe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wner-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ly lack organizational skills and experie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ome ineffective in managing the specialized and complex tasks involved with multiple organizational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801E6-B98C-4723-90E3-B3F25E0D486A}" type="slidenum">
              <a:t>16</a:t>
            </a:fld>
          </a:p>
        </p:txBody>
      </p:sp>
    </p:spTree>
  </p:cSld>
  <p:transition>
    <p:random/>
  </p:transition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hief Executive Officer (CEO)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mited corporate staff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unctional line managers in dominant organizational areas of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ion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gineer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&amp;D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upports use of business-level strategies and some corporate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ingle or dominant business with low levels of 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3BEA1-08DD-4AE1-ADFA-6906698E88AE}" type="slidenum">
              <a:t>17</a:t>
            </a:fld>
          </a:p>
        </p:txBody>
      </p:sp>
    </p:spTree>
  </p:cSld>
  <p:transition>
    <p:random/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unct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orientation among organizational functions ca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mpede communication and coordin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 the need for CEO to integrate decisions and actions of business fun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 career paths and professional development in specialized functional ar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use functional-area managers to focus on local versus overall company strategic issu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932F0-4743-4958-A14E-A436FC5B1490}" type="slidenum">
              <a:t>18</a:t>
            </a:fld>
          </a:p>
        </p:txBody>
      </p:sp>
    </p:spTree>
  </p:cSld>
  <p:transition>
    <p:random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3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y and Structure: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perating divisions function as separate businesses or profit cen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p corporate officer delegates responsibilities to division manager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day-to-day opera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 business-unit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as firm grows through diversifica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9809B-0253-4519-A732-AE475F29C613}" type="slidenum">
              <a:t>19</a:t>
            </a:fld>
          </a:p>
        </p:txBody>
      </p:sp>
    </p:spTree>
  </p:cSld>
  <p:transition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organizational structure and controls and discuss the difference between strategic and financial contro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relationship between strategy and structur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functional structures used to implement business-leve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049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use of three versions of the multidivisional (M-form) structure to implement different diversification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D08AD-2613-4A3C-A5FC-17C5FBB58EDF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Major Benefit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officers are able to more accurately monitor the performance of each business, which simplifies the problem of contr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comparisons between divisions, which improves the resource allocation proc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imulates managers of poorly performing divisions to look for ways of improving performan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D13D0-0003-45BA-BCF4-C90B4B1C1B86}" type="slidenum">
              <a:t>20</a:t>
            </a:fld>
          </a:p>
        </p:txBody>
      </p:sp>
    </p:spTree>
  </p:cSld>
  <p:transition>
    <p:random/>
  </p:transition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0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ing Strategy and Func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forms of the functional organizational structure are matched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st leadership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grated cost leadership/differentiation strate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ces in these forms are seen in three important structural characteristic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alization (number and types of job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entralization (decision-making authority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(formal rules and work procedure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B1878-9C1F-4673-98BC-CD0CA8295DE0}" type="slidenum">
              <a:t>21</a:t>
            </a:fld>
          </a:p>
        </p:txBody>
      </p:sp>
    </p:spTree>
  </p:cSld>
  <p:transition>
    <p:random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2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unctional Structure for Implementation of a Cost Leadership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8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33520" y="1539720"/>
            <a:ext cx="8172360" cy="4023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6400800" y="1523880"/>
            <a:ext cx="2590920" cy="17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spcBef>
                <a:spcPts val="249"/>
              </a:spcBef>
              <a:tabLst>
                <a:tab algn="l" pos="0"/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perations is the main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cess engineering is emphasized rather than new product R&amp;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latively large centralized staff coordinates func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ed procedures allow for emergence of a low-cost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19160" indent="-11916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119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mechanical; job roles are highly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328CF1-9FF4-450B-8AAF-8BA865C24688}" type="slidenum">
              <a:t>22</a:t>
            </a:fld>
          </a:p>
        </p:txBody>
      </p:sp>
    </p:spTree>
  </p:cSld>
  <p:transition>
    <p:random/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1" fill="hold">
                            <p:stCondLst>
                              <p:cond delay="2500"/>
                            </p:stCondLst>
                            <p:childTnLst>
                              <p:par>
                                <p:cTn id="6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 </a:t>
            </a:r>
            <a:br>
              <a:rPr sz="3200"/>
            </a:b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 Cost Leadership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erations is the main func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cess engineering is emphasized over research and develop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centralized staff oversees activ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ed procedures guide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ucture is mechanic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highly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F041C-F94B-4A96-970C-73EE2B7159EB}" type="slidenum">
              <a:t>23</a:t>
            </a:fld>
          </a:p>
        </p:txBody>
      </p:sp>
    </p:spTree>
  </p:cSld>
  <p:transition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0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5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2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3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4500"/>
                            </p:stCondLst>
                            <p:childTnLst>
                              <p:par>
                                <p:cTn id="6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1" dur="10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5500"/>
                            </p:stCondLst>
                            <p:childTnLst>
                              <p:par>
                                <p:cTn id="7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504360"/>
            <a:ext cx="6782040" cy="1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11.3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 Structure for Implementation of a Differentiation Strategy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1" name=""/>
          <p:cNvSpPr/>
          <p:nvPr/>
        </p:nvSpPr>
        <p:spPr>
          <a:xfrm>
            <a:off x="457200" y="457200"/>
            <a:ext cx="8229600" cy="7621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93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600120" y="1566720"/>
            <a:ext cx="8010360" cy="37245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57200" y="5470560"/>
            <a:ext cx="8001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Marketing is the main function for keeping track of new product ideas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New product R&amp;D is emphasiz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st functions are decentralized, but R&amp;D and marketing may have centralized staffs that work closely with each o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rmalization is limited so that new product ideas can emerge easily and change is more readily accomplis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01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verall structure is organic; job roles are less struct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E63FF-614F-48AC-963C-6C0803AC3F42}" type="slidenum">
              <a:t>24</a:t>
            </a:fld>
          </a:p>
        </p:txBody>
      </p:sp>
    </p:spTree>
  </p:cSld>
  <p:transition>
    <p:random/>
  </p:transition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500"/>
                            </p:stCondLst>
                            <p:childTnLst>
                              <p:par>
                                <p:cTn id="7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"/>
                            </p:stCondLst>
                            <p:childTnLst>
                              <p:par>
                                <p:cTn id="7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0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a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arketing is the main function for tracking new product idea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New product R&amp;D is emphas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st functions are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rmalization is limited to foster change and promote new idea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verall structure is organic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Job roles are less structu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805FFB-EB43-46AE-ADF8-7827E7463EE7}" type="slidenum">
              <a:t>25</a:t>
            </a:fld>
          </a:p>
        </p:txBody>
      </p:sp>
    </p:spTree>
  </p:cSld>
  <p:transition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0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2" dur="500"/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1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Using the Functional Structure to Implement the Integrated Cost Leadership/ Differentiation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lling products that create customer value due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ir relatively low product cost through an emphasis on production and process engineering, with infrequent product chang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asonable sources of differentiation based on new-product R&amp;D are emphasized while production and process engineering are no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8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frequently in global econom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A2DF5-3EF3-4276-9D15-54D5717AF481}" type="slidenum">
              <a:t>26</a:t>
            </a:fld>
          </a:p>
        </p:txBody>
      </p:sp>
    </p:spTree>
  </p:cSld>
  <p:transition>
    <p:random/>
  </p:transition>
  <p:timing>
    <p:tnLst>
      <p:par>
        <p:cTn id="758" dur="indefinite" restart="never" nodeType="tmRoot">
          <p:childTnLst>
            <p:seq>
              <p:cTn id="759" dur="indefinite" nodeType="mainSeq">
                <p:childTnLst>
                  <p:par>
                    <p:cTn id="760" fill="hold">
                      <p:stCondLst>
                        <p:cond delay="0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556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an Integrated Cost Leadership/Differentiation Strateg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integrated form of the functional structure must have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cision-making patterns that are partially centralized and partially decentr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mi-specialized job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ules and procedures that allow both formal and informal job behavi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BB68B-0429-4524-8842-49EB8827D67A}" type="slidenum">
              <a:t>27</a:t>
            </a:fld>
          </a:p>
        </p:txBody>
      </p:sp>
    </p:spTree>
  </p:cSld>
  <p:transition>
    <p:random/>
  </p:transition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firm’s continuing success that lead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 diversification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oth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creasing diversification creates control problems that the functional structure can’t handl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formation processing, coordin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46BD7-AC8B-4E91-BADD-83D7DF058383}" type="slidenum">
              <a:t>28</a:t>
            </a:fld>
          </a:p>
        </p:txBody>
      </p:sp>
    </p:spTree>
  </p:cSld>
  <p:transition>
    <p:random/>
  </p:transition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0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Strategies and the Multidivisional Structure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ersification strategy requires firm to change from functional structure to a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fferent levels of diversification create the need for implementation of a unique form of the multidivisional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56F98-1E9A-4D1F-ADDB-0C4DC30A4E09}" type="slidenum">
              <a:t>29</a:t>
            </a:fld>
          </a:p>
        </p:txBody>
      </p:sp>
    </p:spTree>
  </p:cSld>
  <p:transition>
    <p:random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organizational structures used to implement three international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buClr>
                <a:srgbClr val="336699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networks and discuss how strategic center firms implement such networks at the business, corporate and international level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D1D7F-75EA-44C9-8E25-0CC568F3439D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533160"/>
            <a:ext cx="6324840" cy="580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4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ree Variations of the Multidivisional Structure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3" name=""/>
          <p:cNvSpPr/>
          <p:nvPr/>
        </p:nvSpPr>
        <p:spPr>
          <a:xfrm>
            <a:off x="457200" y="457200"/>
            <a:ext cx="8229600" cy="5335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1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990720" y="1560600"/>
            <a:ext cx="7124760" cy="3316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06132-D6A1-410E-89F2-3B9ED2B6F3EE}" type="slidenum">
              <a:t>30</a:t>
            </a:fld>
          </a:p>
        </p:txBody>
      </p:sp>
    </p:spTree>
  </p:cSld>
  <p:transition>
    <p:random/>
  </p:transition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0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500"/>
                            </p:stCondLst>
                            <p:childTnLst>
                              <p:par>
                                <p:cTn id="8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000"/>
                            </p:stCondLst>
                            <p:childTnLst>
                              <p:par>
                                <p:cTn id="8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77240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5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operative Form of the Multidivisional Structure for Implementation of a Related Constrain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57200" y="581040"/>
            <a:ext cx="1828800" cy="479160"/>
            <a:chOff x="457200" y="581040"/>
            <a:chExt cx="1828800" cy="479160"/>
          </a:xfrm>
        </p:grpSpPr>
        <p:sp>
          <p:nvSpPr>
            <p:cNvPr id="221" name=""/>
            <p:cNvSpPr/>
            <p:nvPr/>
          </p:nvSpPr>
          <p:spPr>
            <a:xfrm>
              <a:off x="685800" y="58104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7200" y="8874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066680" y="1285920"/>
            <a:ext cx="7010640" cy="43527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57200" y="571500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Structural integration devices create tight links among all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office emphasizes centralized strategic planning, human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resources, and marketing to foster cooperation between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347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&amp;D is likely to be centralized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24280" y="5715000"/>
            <a:ext cx="3962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ewards are subjective and tend to emphasize overall corporate</a:t>
            </a:r>
            <a:br>
              <a:rPr sz="900"/>
            </a:b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formance in addition to divisional perform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ulture emphasizes cooperative sha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DE560-A12B-47AA-B0C5-3006383036EB}" type="slidenum">
              <a:t>31</a:t>
            </a:fld>
          </a:p>
        </p:txBody>
      </p:sp>
    </p:spTree>
  </p:cSld>
  <p:transition>
    <p:random/>
  </p:transition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0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fill="hold">
                            <p:stCondLst>
                              <p:cond delay="500"/>
                            </p:stCondLst>
                            <p:childTnLst>
                              <p:par>
                                <p:cTn id="8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opera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integration is used to bring about interdivisional cooperation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haring divisional competencies facilitates development of economies of scop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o foster divisional cooperation, the corporate office emphasizes centralization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plann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uman 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ing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029B1-50BA-4956-980A-024A1262661B}" type="slidenum">
              <a:t>32</a:t>
            </a:fld>
          </a:p>
        </p:txBody>
      </p:sp>
    </p:spTree>
  </p:cSld>
  <p:transition>
    <p:random/>
  </p:transition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0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6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9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opera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&amp;D is likely to be centralized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equent, direct contact between division managers encourages and supports cooperation and sharing of competencies and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 of liaison rol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wards are subjective, emphasizing overall corporate performance in addition to divisional performanc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142880" y="5791320"/>
            <a:ext cx="444780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Constrain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B71CF-B1A4-452B-A6C1-10B4A7A18290}" type="slidenum">
              <a:t>33</a:t>
            </a:fld>
          </a:p>
        </p:txBody>
      </p:sp>
    </p:spTree>
  </p:cSld>
  <p:transition>
    <p:random/>
  </p:transition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0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4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46784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6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BU Form of the Multidivisional Structure for Implementation of a Related Link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3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457200" y="5842080"/>
            <a:ext cx="41148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uctural integration among divisions within SBUs, but independence </a:t>
            </a:r>
            <a:br>
              <a:rPr sz="800"/>
            </a:b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cross SB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trategic planning may be the most prominent function in headquarters for  managing the strategic planning approval process of SBUs for the presid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572000" y="597204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ach SBU may have its own budget for staff to foster integ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rporate headquarters staff serve as consultants to SBUs and divisions, rather than having direct input to product strategy, as in the cooperative for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1090440" y="1285920"/>
            <a:ext cx="6963120" cy="442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06699-1D6A-4D0B-BD47-B10EC1755F3B}" type="slidenum">
              <a:t>34</a:t>
            </a:fld>
          </a:p>
        </p:txBody>
      </p:sp>
    </p:spTree>
  </p:cSld>
  <p:transition>
    <p:random/>
  </p:transition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000"/>
                            </p:stCondLst>
                            <p:childTnLst>
                              <p:par>
                                <p:cTn id="9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business unit (SBU) form is a structure consisting of three leve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 headquart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business units (SBUs)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BU divis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sha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s, or markets, or both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D68B6-10FB-4C67-AA09-94C3A4CB9BBE}" type="slidenum">
              <a:t>35</a:t>
            </a:fld>
          </a:p>
        </p:txBody>
      </p:sp>
    </p:spTree>
  </p:cSld>
  <p:transition>
    <p:random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1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6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SBU Form 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visions within SBUs develop economies of scope and/or scale by sharing product or market competenci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SBU is a profit center controlled and evaluated by the headquarters offic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Used by large firm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n be complex due to an organization’s size and diversity in products and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8840" y="5791320"/>
            <a:ext cx="3652560" cy="45972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ted Link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944A6-F64E-46E0-8A1F-69F3EDBFD617}" type="slidenum">
              <a:t>36</a:t>
            </a:fld>
          </a:p>
        </p:txBody>
      </p:sp>
    </p:spTree>
  </p:cSld>
  <p:transition>
    <p:random/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3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5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7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petitive Form of the Multidivisional Structure for Implementation of an Unrelated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49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1104840" y="1295280"/>
            <a:ext cx="6934320" cy="34862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33520" y="5356080"/>
            <a:ext cx="36576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rporate headquarters has a small sta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tabLst>
                <a:tab algn="l" pos="0"/>
                <a:tab algn="l" pos="11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ance and auditing are the most prominent functions in the headquarters office to manage cash flow and assure the accuracy of performance data coming from divis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5486400"/>
            <a:ext cx="45720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he legal affairs function becomes important when the firm acquires or divests asse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are independent and separate for financial evaluation purpos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retain strategic control, but cash is managed by the corporate off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15920" indent="-1159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ivisions compete for corporate resourc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EF6ED8-6044-4B3D-8B75-9A75D27C94F4}" type="slidenum">
              <a:t>37</a:t>
            </a:fld>
          </a:p>
        </p:txBody>
      </p:sp>
    </p:spTree>
  </p:cSld>
  <p:transition>
    <p:random/>
  </p:transition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0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fill="hold">
                            <p:stCondLst>
                              <p:cond delay="500"/>
                            </p:stCondLst>
                            <p:childTnLst>
                              <p:par>
                                <p:cTn id="10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ultidivisional Structure: Competitive Fo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structure in which there is complete independence among the firm’s division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isions do not share common corporate strength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cause strengths aren’t shared, integrating devices aren’t develop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arrangements emphasize divisional competition rather than cooper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4896A-6CF5-4892-A00A-7CF465F5DA8E}" type="slidenum">
              <a:t>38</a:t>
            </a:fld>
          </a:p>
        </p:txBody>
      </p:sp>
    </p:spTree>
  </p:cSld>
  <p:transition>
    <p:random/>
  </p:transition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ve Form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ree benefits from the internal competitio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—corporate headquarters can have divisions working on different technologies to identify those with greatest future potenti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hallenges the status quo and inertia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tivates effor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eates specific profit performance expectations for each division to promote internal competition for resour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724000" y="5791320"/>
            <a:ext cx="2890440" cy="459720"/>
          </a:xfrm>
          <a:prstGeom prst="rect">
            <a:avLst/>
          </a:prstGeom>
          <a:solidFill>
            <a:srgbClr val="99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related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32F53-C6A9-49FA-8B76-CD1F06DDDE63}" type="slidenum">
              <a:t>39</a:t>
            </a:fld>
          </a:p>
        </p:txBody>
      </p:sp>
    </p:spTree>
  </p:cSld>
  <p:transition>
    <p:random/>
  </p:transition>
  <p:timing>
    <p:tnLst>
      <p:par>
        <p:cTn id="1071" dur="indefinite" restart="never" nodeType="tmRoot">
          <p:childTnLst>
            <p:seq>
              <p:cTn id="1072" dur="indefinite" nodeType="mainSeq">
                <p:childTnLst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fill="hold">
                            <p:stCondLst>
                              <p:cond delay="500"/>
                            </p:stCondLst>
                            <p:childTnLst>
                              <p:par>
                                <p:cTn id="10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1" dur="5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5" dur="5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9" dur="5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4" dur="5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 and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rganizational structure specifie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’s formal reporting relationships, procedures, controls, and authority and decision-making proces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work to be done and how to do it, given the firm’s strategy or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t is critical to match organizational structure to the firm’s strateg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2D1D4-A2F5-45C2-AFD7-F5D84D094C23}" type="slidenum">
              <a:t>4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855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1941480" indent="0">
              <a:buNone/>
              <a:tabLst>
                <a:tab algn="l" pos="0"/>
                <a:tab algn="l" pos="1941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11.1</a:t>
            </a: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aracteristics of the Structures Necessary to Implement the Related Constrained, Related Linked, and Unrelated Diversification Strategie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1" name=""/>
          <p:cNvSpPr/>
          <p:nvPr/>
        </p:nvSpPr>
        <p:spPr>
          <a:xfrm>
            <a:off x="403200" y="1628640"/>
            <a:ext cx="830592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operative M-Form 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BU M-Form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Competitive M-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uctural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Constrain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Related Linke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Unrelated Diversification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ategy)</a:t>
            </a:r>
            <a:r>
              <a:rPr b="1" lang="en-US" sz="1400" spc="-1" strike="noStrike" baseline="30000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entralization of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entralized a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tially centraliz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centralized to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offi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 SBUs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 of integr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ens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rat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existent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subjectiv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 a mixture of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phasize objectiv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trategic) criteri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bjective (strategic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raisal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d objectiv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financial) crite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1828800"/>
                <a:tab algn="l" pos="3889440"/>
                <a:tab algn="l" pos="5886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isional incentiv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overal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xed linkage t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ked to divisional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ens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rporate, SBU, an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visional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340440" y="1166760"/>
            <a:ext cx="244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all Structural For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4760" y="6289560"/>
            <a:ext cx="263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rategy implemented with structural for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1C21A-6623-4119-8E68-D61EB6EE6DDF}" type="slidenum">
              <a:t>40</a:t>
            </a:fld>
          </a:p>
        </p:txBody>
      </p:sp>
    </p:spTree>
  </p:cSld>
  <p:transition>
    <p:random/>
  </p:transition>
  <p:timing>
    <p:tnLst>
      <p:par>
        <p:cTn id="1095" dur="indefinite" restart="never" nodeType="tmRoot">
          <p:childTnLst>
            <p:seq>
              <p:cTn id="1096" dur="indefinite" nodeType="mainSeq">
                <p:childTnLst>
                  <p:par>
                    <p:cTn id="1097" fill="hold">
                      <p:stCondLst>
                        <p:cond delay="0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Strategies and Worldwide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rnational strategies allow the firm to search for new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sour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e 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B857C-92E0-41AE-A230-C254D702BAD2}" type="slidenum">
              <a:t>41</a:t>
            </a:fld>
          </a:p>
        </p:txBody>
      </p:sp>
    </p:spTree>
  </p:cSld>
  <p:transition>
    <p:random/>
  </p:transition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fill="hold">
                      <p:stCondLst>
                        <p:cond delay="0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3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590920" y="1295280"/>
            <a:ext cx="5095800" cy="449748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495000"/>
            <a:ext cx="6705720" cy="916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11.8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orldwide Geographic Area Structure for Implementation of a Multidomestic Strategy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9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71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12920" y="5678640"/>
            <a:ext cx="59878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perimeter circles indicate decentralization of ope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mphasis is on differentiation by local demand to fit an area or country cul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coordinates financial resources among independent subsidiar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de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8BEA0-5F39-4742-B608-D75AAFB2D3D9}" type="slidenum">
              <a:t>42</a:t>
            </a:fld>
          </a:p>
        </p:txBody>
      </p:sp>
    </p:spTree>
  </p:cSld>
  <p:transition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0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1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: Implementing a Multidomestic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 decentralizes strategic and operating decisions to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 units in each cou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characteristics tailored to local pre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rms counter global competitive forces b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ing protected market positions, o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ng in industry segments most affected by differences among loc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909C4-BA12-4FFF-AE46-910999D373E9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Geographic Area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Worldwide Geographic Area Struc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mphasizes national interes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acilitates the firm’s efforts to satisfy local or cultural differen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Multidomestic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s little coordination between different county markets: integrating mechanisms aren’t need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ey disadvantage is inability to create global efficienc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0992A-48DB-4669-8D67-3A42FDA80BB5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670572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9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orldwide Product Divisional Structure for Implementation of a Glob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82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2576520" y="1295280"/>
            <a:ext cx="5076720" cy="45244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414360" y="5681520"/>
            <a:ext cx="77914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t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headquarters’ circle indicates centralization to coordinate information flow among worldwide produc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uses many intercoordination devices to facilitate global economies of scale and scop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rporate headquarters also allocates financial resources in a cooperative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rganization is like a centralized fed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D8AB8-53AC-45D1-89B1-A8C980A355E9}" type="slidenum">
              <a:t>45</a:t>
            </a:fld>
          </a:p>
        </p:txBody>
      </p:sp>
    </p:spTree>
  </p:cSld>
  <p:transition>
    <p:random/>
  </p:transition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0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1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4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: Implementing a Glob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Glob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irm to offer standardized products across country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s on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ccess depends on firm’s ability to develop and take advantage of economies of scope and scale on global leve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 tends to outsource some primary or support activities to the world’s best provi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E9D655-C495-4E0B-AA2B-FC8782ABD97D}" type="slidenum">
              <a:t>46</a:t>
            </a:fld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orldwide Product Divis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entralizes decision-making authority in the worldwide division headquart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adquarters coordinates and integrates decisions and actions among divisional business uni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ntegrating mechanisms are importa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rect contact between manag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iaison roles between depart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mporary task forces as well as permanent team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891E6-7071-422D-907D-7E65E59D400D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bination Structure: A Transnational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ransnational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bines multidomestic strategy’s local responsiveness with global strategy’s efficienc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bination structure draws characteristics and mechanisms from both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geographic area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orldwide product divisional struct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ppropriate integrating mechanisms for the combination structure are less obviou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61B742-183F-4ECF-8839-A276E2859CDF}" type="slidenum">
              <a:t>48</a:t>
            </a:fld>
          </a:p>
        </p:txBody>
      </p:sp>
    </p:spTree>
  </p:cSld>
  <p:transition>
    <p:random/>
  </p:transition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0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1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2" fill="hold">
                      <p:stCondLst>
                        <p:cond delay="indefinite"/>
                      </p:stCondLst>
                      <p:childTnLst>
                        <p:par>
                          <p:cTn id="1183" fill="hold">
                            <p:stCondLst>
                              <p:cond delay="0"/>
                            </p:stCondLst>
                            <p:childTnLst>
                              <p:par>
                                <p:cTn id="1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6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6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1" dur="5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010640" cy="824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0</a:t>
            </a:r>
            <a:r>
              <a:rPr b="1" i="1" lang="en-US" sz="14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ing the Hybrid Form of the Combination Structure for Implementation of a Transnational Strategy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457200"/>
            <a:ext cx="8229600" cy="68580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9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61960" y="1600200"/>
            <a:ext cx="8020080" cy="3124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11E7C-F355-4B50-9E6C-1B97268C6D80}" type="slidenum">
              <a:t>49</a:t>
            </a:fld>
          </a:p>
        </p:txBody>
      </p:sp>
    </p:spTree>
  </p:cSld>
  <p:transition>
    <p:random/>
  </p:transition>
  <p:timing>
    <p:tnLst>
      <p:par>
        <p:cTn id="1212" dur="indefinite" restart="never" nodeType="tmRoot">
          <p:childTnLst>
            <p:seq>
              <p:cTn id="1213" dur="indefinite" nodeType="mainSeq">
                <p:childTnLst>
                  <p:par>
                    <p:cTn id="1214" fill="hold">
                      <p:stCondLst>
                        <p:cond delay="0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ructur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tructures provide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a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lexibili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stability provides: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apacity required to consistently and predictably manage daily work routi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87280" indent="-28728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uctural flexibility provides for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opportunity to explore competitive pos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35480" indent="-28296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llocation of resources to activities that shape needed competitive advanta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E49C5-59FA-48BA-8871-8146B49395C9}" type="slidenum">
              <a:t>5</a:t>
            </a:fld>
          </a:p>
        </p:txBody>
      </p:sp>
    </p:spTree>
  </p:cSld>
  <p:transition>
    <p:random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etwork strategy exists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artners form several alliances in order to improve performance of the alliance network itself through cooperative endeav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group of firms formed to create value by participating in multiple cooperative arrangements such as alliances and joint ventur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3F69E-EEE0-48D2-A7B6-C64E11A8BE93}" type="slidenum">
              <a:t>50</a:t>
            </a:fld>
          </a:p>
        </p:txBody>
      </p:sp>
    </p:spTree>
  </p:cSld>
  <p:transition>
    <p:random/>
  </p:transition>
  <p:timing>
    <p:tnLst>
      <p:par>
        <p:cTn id="1228" dur="indefinite" restart="never" nodeType="tmRoot">
          <p:childTnLst>
            <p:seq>
              <p:cTn id="1229" dur="indefinite" nodeType="mainSeq">
                <p:childTnLst>
                  <p:par>
                    <p:cTn id="1230" fill="hold">
                      <p:stCondLst>
                        <p:cond delay="0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9" dur="50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4" dur="500"/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9" dur="500"/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0" fill="hold">
                      <p:stCondLst>
                        <p:cond delay="indefinite"/>
                      </p:stCondLst>
                      <p:childTnLst>
                        <p:par>
                          <p:cTn id="1251" fill="hold">
                            <p:stCondLst>
                              <p:cond delay="0"/>
                            </p:stCondLst>
                            <p:childTnLst>
                              <p:par>
                                <p:cTn id="1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4" dur="500"/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tches between Cooperative Strategies and Network Structur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 are used to implemen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siness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rporate-level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tional cooperative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enter firm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 around which the network’s cooperative relationships revol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1FD87-D077-4886-977E-0CE939876E68}" type="slidenum">
              <a:t>51</a:t>
            </a:fld>
          </a:p>
        </p:txBody>
      </p:sp>
    </p:spTree>
  </p:cSld>
  <p:transition>
    <p:random/>
  </p:transition>
  <p:timing>
    <p:tnLst>
      <p:par>
        <p:cTn id="1255" dur="indefinite" restart="never" nodeType="tmRoot">
          <p:childTnLst>
            <p:seq>
              <p:cTn id="1256" dur="indefinite" nodeType="mainSeq">
                <p:childTnLst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1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6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1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6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44600" y="447840"/>
            <a:ext cx="2155680" cy="1152360"/>
          </a:xfrm>
          <a:prstGeom prst="rect">
            <a:avLst/>
          </a:prstGeom>
          <a:ln w="0">
            <a:noFill/>
          </a:ln>
        </p:spPr>
      </p:pic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2978280" y="671400"/>
            <a:ext cx="4870440" cy="534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5611D0-A7DA-4E02-B582-A89E1D0456C6}" type="slidenum">
              <a:t>52</a:t>
            </a:fld>
          </a:p>
        </p:txBody>
      </p:sp>
    </p:spTree>
  </p:cSld>
  <p:transition>
    <p:random/>
  </p:transition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0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93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Center Firm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Is the foundation for the strategic network’s structur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cerned with aspects of organizational structure such as formal reporting relationship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s the complex, cooperative interactions among network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ngages in four primary task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outsourcing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ce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F48C3-465E-4D3F-8089-31A22421F37F}" type="slidenum">
              <a:t>53</a:t>
            </a:fld>
          </a:p>
        </p:txBody>
      </p:sp>
    </p:spTree>
  </p:cSld>
  <p:transition>
    <p:random/>
  </p:transition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0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0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5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5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fill="hold">
                      <p:stCondLst>
                        <p:cond delay="indefinite"/>
                      </p:stCondLst>
                      <p:childTnLst>
                        <p:par>
                          <p:cTn id="1327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0" dur="500"/>
                                        <p:tgtEl>
                                          <p:spTgt spid="3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Vertic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have complementary competencies in different value chain stages that let them cooperatively integrate their different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Horizontal Complementary Allianc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that agree to combine competencies to create value in the same stage of the value chai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e strategic center firm is obvious in vertical alliances, but not always in horizontal allianc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E50AB-79BE-4A55-9C65-5CA18DC6772A}" type="slidenum">
              <a:t>54</a:t>
            </a:fld>
          </a:p>
        </p:txBody>
      </p:sp>
    </p:spTree>
  </p:cSld>
  <p:transition>
    <p:random/>
  </p:transition>
  <p:timing>
    <p:tnLst>
      <p:par>
        <p:cTn id="1331" dur="indefinite" restart="never" nodeType="tmRoot">
          <p:childTnLst>
            <p:seq>
              <p:cTn id="1332" dur="indefinite" nodeType="mainSeq">
                <p:childTnLst>
                  <p:par>
                    <p:cTn id="1333" fill="hold">
                      <p:stCondLst>
                        <p:cond delay="0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2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7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2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Business-Level Cooperative Strategies: International Franchis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ranchising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mmon form of cooperative strategy used to facilitate product and market diversific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the firm to use its competencies to extend or diversify its product or market reach without completing a merger or acquisi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CC6DD-E29F-4943-AF9B-AB699A1ECDA8}" type="slidenum">
              <a:t>55</a:t>
            </a:fld>
          </a:p>
        </p:txBody>
      </p:sp>
    </p:spTree>
  </p:cSld>
  <p:transition>
    <p:random/>
  </p:transition>
  <p:timing>
    <p:tnLst>
      <p:par>
        <p:cTn id="1363" dur="indefinite" restart="never" nodeType="tmRoot">
          <p:childTnLst>
            <p:seq>
              <p:cTn id="1364" dur="indefinite" nodeType="mainSeq">
                <p:childTnLst>
                  <p:par>
                    <p:cTn id="1365" fill="hold">
                      <p:stCondLst>
                        <p:cond delay="0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fill="hold">
                      <p:stCondLst>
                        <p:cond delay="indefinite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lementing Internationa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used to implement international cooperative strategies for competing in several count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ces in countries’ regulatory environments increase the challenge of managing international net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Distributed Strategic Network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the organizational structure used to manage international cooperative strateg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ional strategic center fi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3C2F1-877F-4438-932B-C659F405C2A9}" type="slidenum">
              <a:t>56</a:t>
            </a:fld>
          </a:p>
        </p:txBody>
      </p:sp>
    </p:spTree>
  </p:cSld>
  <p:transition>
    <p:random/>
  </p:transition>
  <p:timing>
    <p:tnLst>
      <p:par>
        <p:cTn id="1381" dur="indefinite" restart="never" nodeType="tmRoot">
          <p:childTnLst>
            <p:seq>
              <p:cTn id="1382" dur="indefinite" nodeType="mainSeq">
                <p:childTnLst>
                  <p:par>
                    <p:cTn id="1383" fill="hold">
                      <p:stCondLst>
                        <p:cond delay="0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2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3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8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6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9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444600" y="458640"/>
            <a:ext cx="2155680" cy="1152720"/>
          </a:xfrm>
          <a:prstGeom prst="rect">
            <a:avLst/>
          </a:prstGeom>
          <a:ln w="0">
            <a:noFill/>
          </a:ln>
        </p:spPr>
      </p:pic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561960"/>
            <a:ext cx="1752840" cy="97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1.12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Distributed Strategic Network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593640"/>
            <a:ext cx="0" cy="47952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" y="89064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2819520" y="728640"/>
            <a:ext cx="5257800" cy="540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5347F-3474-4CD9-BB4D-088EA08E4666}" type="slidenum">
              <a:t>57</a:t>
            </a:fld>
          </a:p>
        </p:txBody>
      </p:sp>
    </p:spTree>
  </p:cSld>
  <p:transition>
    <p:random/>
  </p:transition>
  <p:timing>
    <p:tnLst>
      <p:par>
        <p:cTn id="1410" dur="indefinite" restart="never" nodeType="tmRoot">
          <p:childTnLst>
            <p:seq>
              <p:cTn id="1411" dur="indefinite" nodeType="mainSeq">
                <p:childTnLst>
                  <p:par>
                    <p:cTn id="1412" fill="hold">
                      <p:stCondLst>
                        <p:cond delay="0"/>
                      </p:stCondLst>
                      <p:childTnLst>
                        <p:par>
                          <p:cTn id="1413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1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urposes of Organizational Control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uide the use of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dicate how to compare actual results with expected resul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ggest corrective actions to take when the difference between actual and expected results is unacceptabl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wo Types of Organizational Control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rategic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nancial control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97CBB-8DC1-4E69-BB1E-BC8E3026F235}" type="slidenum">
              <a:t>6</a:t>
            </a:fld>
          </a:p>
        </p:txBody>
      </p:sp>
    </p:spTree>
  </p:cSld>
  <p:transition>
    <p:random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5640" y="1295280"/>
            <a:ext cx="250848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742840"/>
            <a:ext cx="8229600" cy="32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trategic Controls: Su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concerned with examining the fit between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ght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pportunities in its external environme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the fir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n d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mpetitive advantag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valuate the degree to which the firm focuses on the requirements to implement its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435480" y="1492200"/>
            <a:ext cx="2330280" cy="914400"/>
            <a:chOff x="3435480" y="1492200"/>
            <a:chExt cx="2330280" cy="914400"/>
          </a:xfrm>
        </p:grpSpPr>
        <p:sp>
          <p:nvSpPr>
            <p:cNvPr id="113" name=""/>
            <p:cNvSpPr/>
            <p:nvPr/>
          </p:nvSpPr>
          <p:spPr>
            <a:xfrm>
              <a:off x="3435480" y="1492200"/>
              <a:ext cx="233028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520800" y="1566360"/>
              <a:ext cx="215712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790560" y="1492200"/>
            <a:ext cx="1879560" cy="914400"/>
            <a:chOff x="790560" y="1492200"/>
            <a:chExt cx="1879560" cy="914400"/>
          </a:xfrm>
        </p:grpSpPr>
        <p:sp>
          <p:nvSpPr>
            <p:cNvPr id="116" name=""/>
            <p:cNvSpPr/>
            <p:nvPr/>
          </p:nvSpPr>
          <p:spPr>
            <a:xfrm>
              <a:off x="79056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5932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6502320" y="1492200"/>
            <a:ext cx="1879560" cy="914400"/>
            <a:chOff x="6502320" y="1492200"/>
            <a:chExt cx="1879560" cy="914400"/>
          </a:xfrm>
        </p:grpSpPr>
        <p:sp>
          <p:nvSpPr>
            <p:cNvPr id="119" name=""/>
            <p:cNvSpPr/>
            <p:nvPr/>
          </p:nvSpPr>
          <p:spPr>
            <a:xfrm>
              <a:off x="65023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57108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1" name=""/>
          <p:cNvCxnSpPr>
            <a:stCxn id="113" idx="1"/>
            <a:endCxn id="116" idx="3"/>
          </p:cNvCxnSpPr>
          <p:nvPr/>
        </p:nvCxnSpPr>
        <p:spPr>
          <a:xfrm flipH="1">
            <a:off x="2669760" y="1949040"/>
            <a:ext cx="7660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2" name=""/>
          <p:cNvCxnSpPr>
            <a:stCxn id="113" idx="3"/>
            <a:endCxn id="119" idx="1"/>
          </p:cNvCxnSpPr>
          <p:nvPr/>
        </p:nvCxnSpPr>
        <p:spPr>
          <a:xfrm>
            <a:off x="576576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A80A3-113A-496B-BE45-CA3655206921}" type="slidenum">
              <a:t>7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915160" y="1295280"/>
            <a:ext cx="2508120" cy="1287720"/>
          </a:xfrm>
          <a:prstGeom prst="roundRect">
            <a:avLst>
              <a:gd name="adj" fmla="val 16667"/>
            </a:avLst>
          </a:prstGeom>
          <a:solidFill>
            <a:srgbClr val="b2b2b2">
              <a:alpha val="50000"/>
            </a:srgbClr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Contr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747880"/>
            <a:ext cx="8229600" cy="337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nancial Controls: Objective criteri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counting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inve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 on ass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rket-based measures includ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Value Added (EV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178080" y="1492200"/>
            <a:ext cx="2330640" cy="914400"/>
            <a:chOff x="3178080" y="1492200"/>
            <a:chExt cx="2330640" cy="914400"/>
          </a:xfrm>
        </p:grpSpPr>
        <p:sp>
          <p:nvSpPr>
            <p:cNvPr id="127" name=""/>
            <p:cNvSpPr/>
            <p:nvPr/>
          </p:nvSpPr>
          <p:spPr>
            <a:xfrm>
              <a:off x="3178080" y="1492200"/>
              <a:ext cx="2330640" cy="9144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263760" y="1566360"/>
              <a:ext cx="2157480" cy="7639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ganization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33520" y="1492200"/>
            <a:ext cx="1879560" cy="914400"/>
            <a:chOff x="533520" y="1492200"/>
            <a:chExt cx="1879560" cy="914400"/>
          </a:xfrm>
        </p:grpSpPr>
        <p:sp>
          <p:nvSpPr>
            <p:cNvPr id="130" name=""/>
            <p:cNvSpPr/>
            <p:nvPr/>
          </p:nvSpPr>
          <p:spPr>
            <a:xfrm>
              <a:off x="53352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02280" y="1566360"/>
              <a:ext cx="1739880" cy="76428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trateg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245280" y="1492200"/>
            <a:ext cx="1879560" cy="914400"/>
            <a:chOff x="6245280" y="1492200"/>
            <a:chExt cx="1879560" cy="914400"/>
          </a:xfrm>
        </p:grpSpPr>
        <p:sp>
          <p:nvSpPr>
            <p:cNvPr id="133" name=""/>
            <p:cNvSpPr/>
            <p:nvPr/>
          </p:nvSpPr>
          <p:spPr>
            <a:xfrm>
              <a:off x="6245280" y="1492200"/>
              <a:ext cx="1879560" cy="91440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14040" y="1566360"/>
              <a:ext cx="1740240" cy="76428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Financ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ontro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1"/>
            <a:endCxn id="130" idx="3"/>
          </p:cNvCxnSpPr>
          <p:nvPr/>
        </p:nvCxnSpPr>
        <p:spPr>
          <a:xfrm flipH="1">
            <a:off x="2412360" y="1949040"/>
            <a:ext cx="76572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7" idx="3"/>
            <a:endCxn id="133" idx="1"/>
          </p:cNvCxnSpPr>
          <p:nvPr/>
        </p:nvCxnSpPr>
        <p:spPr>
          <a:xfrm>
            <a:off x="5508720" y="1949040"/>
            <a:ext cx="737280" cy="108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11D89-6871-41CD-A4D3-C6F5D14C7A1C}" type="slidenum">
              <a:t>8</a:t>
            </a:fld>
          </a:p>
        </p:txBody>
      </p:sp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500"/>
                            </p:stCondLst>
                            <p:childTnLst>
                              <p:par>
                                <p:cTn id="2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Matching Control to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Relative use of controls varies by type of strategy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arge diversified firms using a cost leadership strategy emphasize financial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anies and business units using a differentiation strategy emphasize strategic contro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CEA468-5DC1-4741-AED6-F86727421449}" type="slidenum">
              <a:t>9</a:t>
            </a:fld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Teodoro Wigodski</cp:lastModifiedBy>
  <dcterms:modified xsi:type="dcterms:W3CDTF">2006-07-29T17:29:07Z</dcterms:modified>
  <cp:revision>43</cp:revision>
  <dc:subject>Chapter 11</dc:subject>
  <dc:title>Strategic Management 7e.</dc:title>
</cp:coreProperties>
</file>