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23E07-9E99-4BBD-96B9-99B8BD43F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ECC2A-EE06-4DC6-8725-F4AF7915B9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FABED-7BF7-487A-A927-D4056AEC9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903F4-D8C2-4BA6-8437-8DEDA66A7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57393-079B-47D2-AD39-1A9B673425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29B49-CD87-455F-B54A-CF9756E84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6CA6A-1DCB-4A38-A987-D442A9205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7ECD8-F79E-4A75-B860-F97A0DAEC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D2E1C-E7B3-4DA3-81BC-9578F2386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E41CB-C7ED-47EC-B134-FD380A555F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AFB70-DD61-4C12-9313-B47B002773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37A2E-1792-4B86-89AF-B455CA2D8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06913-D662-4836-A2BE-9CE9DB5A0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659C1-2F73-413E-A363-B2A9F87DE1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04DB-76B6-46D9-8DEB-4A4550C34E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84880-D6EC-4857-A4A3-2016C9DA85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DE829-AC9B-4A1E-905C-CF4ABA9203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A8EB3-61C7-4F16-B5A1-D3D0B22B8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127D9-9962-42D5-90F5-1DB1619C09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D6DC0-CC2F-40D3-9F21-E52C2F5E4D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E5299-0A04-42AE-AFAE-143B977944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DACD6-B0FB-44F7-85C3-F489577EEB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6ADA1-59F2-49B1-A3D4-79093857F4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9AC3B-7B62-41C2-A6E6-9004AAAC2B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CAA4-801B-4554-AC6F-22A47D03C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035E3-C140-4E92-8E62-7B3C8C0EA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E3D38-8510-4764-B352-552DDF6202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142D2-6230-4B55-A99E-F488ADBB5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05C05-F110-4AFD-BB1F-FDEBDB3AE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E9C19-6B94-477C-8F1B-D7970F878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BC79D-807A-4B19-A0B7-911C66C824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412DD-242B-4294-A7D4-492BCFEB0C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4A4D0-1F4F-4D87-A347-5392729E6E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FF68C-1F13-4B77-8FC2-56FDC1530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24797-1A0A-4487-AE97-CA57F1ECB9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FBAF8-5B71-495D-818A-B5775A5121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92D38-C271-4290-91D2-A628C9A3F0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57ADA-7BCD-43BF-91CA-7D9FCE53FC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43A28-A6D2-435E-B625-5F68B6E06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8A7F8-307E-4140-8B38-86B6570510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EF581-2903-4A45-BA17-32A72617B2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8D3DE-A804-4A76-AC2D-E1D80BD98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827C3-82A4-4034-90EE-80BDC7A9BD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43FBE-EB5A-4F54-A092-3E78293ECF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C7566-7E4F-4435-83F4-A2E06E1B35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1FE6E-A478-4E88-9C50-AF17137118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A9CA4-F819-4C4E-9456-CAED5D1861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528EF-ED29-48FA-82B3-1062DAAAC8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4F579-3D7A-45E1-A99C-28DE234B0E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335FD-7F46-4162-A0E5-4385D7F7CA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3364F-446C-45E7-A68A-6B0AB80E81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BC69F-61BF-44BC-8523-F8BE25DFEE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C17CC-0D77-4A87-A091-3D11FDD59F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649FA-CAB6-4138-9F3D-5395608938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–</a:t>
            </a:r>
            <a:fld id="{811E91E6-6833-4C89-B007-6AE0F1F2EF85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048120"/>
            <a:ext cx="243828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2085480"/>
            <a:ext cx="556272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CHAPTER 11</a:t>
            </a:r>
            <a:br>
              <a:rPr sz="24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Organizational Structure and Controls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ionships between Strategy and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y and structure have a reciprocal relationship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ucture flows from or follows the selection of the firm’s strategy but …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nce in place, structure can influence current strategic actions as well as choices about future strateg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93434-C5E5-43E3-8940-26C90F92D467}" type="slidenum">
              <a:t>10</a:t>
            </a:fld>
          </a:p>
        </p:txBody>
      </p:sp>
    </p:spTree>
  </p:cSld>
  <p:transition>
    <p:random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 flipV="1">
            <a:off x="534960" y="1030680"/>
            <a:ext cx="8074080" cy="18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volutionary Patterns of Structure and Organizat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rms grow in predictable pattern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st by volum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n by geograph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n integration (vertical, horizontal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d finally through product/business diversific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firm’s growth patterns determine its structural form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91CC3-635B-43A4-9243-AD8979654E99}" type="slidenum">
              <a:t>11</a:t>
            </a:fld>
          </a:p>
        </p:txBody>
      </p:sp>
    </p:spTree>
  </p:cSld>
  <p:transition>
    <p:random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volutionary Patterns of Structure and Organizational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ll organizations require some form of organizational structure to implement and manage their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rms frequently alter their structure as they grow in size and complexit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ree basic structure typ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imple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unctional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ultidivisional structure (M-form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66938-20C0-4220-BC14-49AC8BC94C1B}" type="slidenum">
              <a:t>12</a:t>
            </a:fld>
          </a:p>
        </p:txBody>
      </p:sp>
    </p:spTree>
  </p:cSld>
  <p:transition>
    <p:random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2133720" cy="253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y and Structure Growth Patter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3505320" y="1841400"/>
            <a:ext cx="3657600" cy="7225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Sales Growth</a:t>
            </a:r>
            <a:br>
              <a:rPr sz="1600"/>
            </a:b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Coordination and Control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86400" y="131112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fficient implementation of formulated strate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05320" y="685800"/>
            <a:ext cx="3657600" cy="609480"/>
          </a:xfrm>
          <a:prstGeom prst="bevel">
            <a:avLst>
              <a:gd name="adj" fmla="val 9847"/>
            </a:avLst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Simpl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05320" y="3098880"/>
            <a:ext cx="3657600" cy="609480"/>
          </a:xfrm>
          <a:prstGeom prst="bevel">
            <a:avLst>
              <a:gd name="adj" fmla="val 9847"/>
            </a:avLst>
          </a:prstGeom>
          <a:gradFill rotWithShape="0">
            <a:gsLst>
              <a:gs pos="0">
                <a:srgbClr val="172f00"/>
              </a:gs>
              <a:gs pos="100000">
                <a:srgbClr val="33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Functional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17920" y="4235400"/>
            <a:ext cx="3632040" cy="7225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Sales Growth</a:t>
            </a:r>
            <a:br>
              <a:rPr sz="1600"/>
            </a:b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Coordination and Control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05320" y="5486400"/>
            <a:ext cx="3657600" cy="609480"/>
          </a:xfrm>
          <a:prstGeom prst="bevel">
            <a:avLst>
              <a:gd name="adj" fmla="val 9847"/>
            </a:avLst>
          </a:prstGeom>
          <a:gradFill rotWithShape="0">
            <a:gsLst>
              <a:gs pos="0">
                <a:srgbClr val="5e1700"/>
              </a:gs>
              <a:gs pos="100000">
                <a:srgbClr val="cc3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Multidivisional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34120" y="12952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34120" y="256536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34120" y="370836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34120" y="49528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562720" y="3720960"/>
            <a:ext cx="2361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fficient implementation of formulated strate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1A56C-FDCB-4A7C-9D3F-1E9CF8BF3C33}" type="slidenum">
              <a:t>13</a:t>
            </a:fld>
          </a:p>
        </p:txBody>
      </p:sp>
    </p:spTree>
  </p:cSld>
  <p:transition>
    <p:random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5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500"/>
                            </p:stCondLst>
                            <p:childTnLst>
                              <p:par>
                                <p:cTn id="3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4500"/>
                            </p:stCondLst>
                            <p:childTnLst>
                              <p:par>
                                <p:cTn id="3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500"/>
                            </p:stCondLst>
                            <p:childTnLst>
                              <p:par>
                                <p:cTn id="3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6500"/>
                            </p:stCondLst>
                            <p:childTnLst>
                              <p:par>
                                <p:cTn id="3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75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8500"/>
                            </p:stCondLst>
                            <p:childTnLst>
                              <p:par>
                                <p:cTn id="3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95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500"/>
                            </p:stCondLst>
                            <p:childTnLst>
                              <p:par>
                                <p:cTn id="3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44600" y="458640"/>
            <a:ext cx="2155680" cy="13813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561600"/>
            <a:ext cx="1752840" cy="1220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1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rategy and Structure Growth Pattern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019400" y="304920"/>
            <a:ext cx="2305080" cy="619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23FFB-AFDD-4743-A73B-6A8E062D4B91}" type="slidenum">
              <a:t>14</a:t>
            </a:fld>
          </a:p>
        </p:txBody>
      </p:sp>
    </p:spTree>
  </p:cSld>
  <p:transition>
    <p:random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y and Structure: Simple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wner-manager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kes all major decisions directl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nitors all activ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aff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rves as an extension of the manager’s supervisor authorit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tched with focus strategies and business-level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monly complete by offering a single product line in a single geographic marke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BD9B6-06C1-42A6-987B-5B27785A5641}" type="slidenum">
              <a:t>15</a:t>
            </a:fld>
          </a:p>
        </p:txBody>
      </p:sp>
    </p:spTree>
  </p:cSld>
  <p:transition>
    <p:random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imple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rowth creat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lex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ial and structural challeng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wner-manager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monly lack organizational skills and experien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ecome ineffective in managing the specialized and complex tasks involved with multiple organizational fun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41F59-5E2E-4612-90AE-46AC43D7BA75}" type="slidenum">
              <a:t>16</a:t>
            </a:fld>
          </a:p>
        </p:txBody>
      </p:sp>
    </p:spTree>
  </p:cSld>
  <p:transition>
    <p:random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y and Structure: Funct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hief Executive Officer (CEO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imited corporate staff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unctional line managers in dominant organizational areas of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ion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ing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gineer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counting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&amp;D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upports use of business-level strategies and some corporate-level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ingle or dominant business with low levels of diversific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49720-0A0F-4DC2-B351-6CCFAA5394CA}" type="slidenum">
              <a:t>17</a:t>
            </a:fld>
          </a:p>
        </p:txBody>
      </p:sp>
    </p:spTree>
  </p:cSld>
  <p:transition>
    <p:random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unctional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ces in orientation among organizational functions ca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mpede communication and coordin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 the need for CEO to integrate decisions and actions of business fun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acilitate career paths and professional development in specialized functional area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use functional-area managers to focus on local versus overall company strategic issu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F7AEE-55A7-4D71-83B8-2CFFDE344FE8}" type="slidenum">
              <a:t>18</a:t>
            </a:fld>
          </a:p>
        </p:txBody>
      </p:sp>
    </p:spTree>
  </p:cSld>
  <p:transition>
    <p:random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y and Structure: Multidivis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Contro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perating divisions function as separate businesses or profit cent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op corporate officer delegates responsibilities to division manager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 day-to-day opera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 business-unit strate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ppropriate as firm grows through diversifi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8BBDD-6F21-40B4-9E7B-BCC061667565}" type="slidenum">
              <a:t>19</a:t>
            </a:fld>
          </a:p>
        </p:txBody>
      </p:sp>
    </p:spTree>
  </p:cSld>
  <p:transition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0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organizational structure and controls and discuss the difference between strategic and financial control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spcBef>
                <a:spcPts val="10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relationship between strategy and structur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spcBef>
                <a:spcPts val="10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functional structures used to implement business-level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spcBef>
                <a:spcPts val="10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use of three versions of the multidivisional (M-form) structure to implement different diversification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21614-6A01-44B6-A722-00CAB48CE8B9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ree Major Benefit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officers are able to more accurately monitor the performance of each business, which simplifies the problem of contro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acilitates comparisons between divisions, which improves the resource allocation proc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imulates managers of poorly performing divisions to look for ways of improving performan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252B3-146A-4004-A96A-DA59F2A46BC8}" type="slidenum">
              <a:t>20</a:t>
            </a:fld>
          </a:p>
        </p:txBody>
      </p:sp>
    </p:spTree>
  </p:cSld>
  <p:transition>
    <p:random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0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tching Strategy and Funct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t forms of the functional organizational structure are matched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st leadership strate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fferentiation strate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grated cost leadership/differentiation strate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ces in these forms are seen in three important structural characteristic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alization (number and types of jobs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entralization (decision-making authority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malization (formal rules and work procedures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48EF5-ADFA-4B6B-B86D-A970C2202527}" type="slidenum">
              <a:t>21</a:t>
            </a:fld>
          </a:p>
        </p:txBody>
      </p:sp>
    </p:spTree>
  </p:cSld>
  <p:transition>
    <p:random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6324840" cy="91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11.2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nctional Structure for Implementation of a Cost Leadership Strategy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457200"/>
            <a:ext cx="8229600" cy="7621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83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33520" y="1539720"/>
            <a:ext cx="8172360" cy="4023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6400800" y="1523880"/>
            <a:ext cx="2590920" cy="17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9160" indent="-119160">
              <a:spcBef>
                <a:spcPts val="249"/>
              </a:spcBef>
              <a:tabLst>
                <a:tab algn="l" pos="0"/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perations is the main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s engineering is emphasized rather than new product R&amp;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latively large centralized staff coordinates fun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malized procedures allow for emergence of a low-cost cul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verall structure is mechanical; job roles are highly struct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22DBE-8B59-4DDA-8A1C-B24CE44487F1}" type="slidenum">
              <a:t>22</a:t>
            </a:fld>
          </a:p>
        </p:txBody>
      </p:sp>
    </p:spTree>
  </p:cSld>
  <p:transition>
    <p:random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2500"/>
                            </p:stCondLst>
                            <p:childTnLst>
                              <p:par>
                                <p:cTn id="6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sing the Functional Structure to Implement 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 Cost Leadership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perations is the main function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cess engineering is emphasized over research and develop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arge centralized staff oversees activ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malized procedures guide a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ucture is mechanica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Job roles are highly structur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CF892-055E-4DF4-A4F0-1FBF7938E0BE}" type="slidenum">
              <a:t>23</a:t>
            </a:fld>
          </a:p>
        </p:txBody>
      </p:sp>
    </p:spTree>
  </p:cSld>
  <p:transition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0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1500"/>
                            </p:stCondLst>
                            <p:childTnLst>
                              <p:par>
                                <p:cTn id="6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25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3500"/>
                            </p:stCondLst>
                            <p:childTnLst>
                              <p:par>
                                <p:cTn id="6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1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4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1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5500"/>
                            </p:stCondLst>
                            <p:childTnLst>
                              <p:par>
                                <p:cTn id="7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10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504360"/>
            <a:ext cx="6782040" cy="1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11.3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 Structure for Implementation of a Differentiation Strategy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457200"/>
            <a:ext cx="8229600" cy="7621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93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00120" y="1566720"/>
            <a:ext cx="8010360" cy="37245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57200" y="5470560"/>
            <a:ext cx="8001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Marketing is the main function for keeping track of new product ideas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New product R&amp;D is emphasiz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st functions are decentralized, but R&amp;D and marketing may have centralized staffs that work closely with each ot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malization is limited so that new product ideas can emerge easily and change is more readily accompli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verall structure is organic; job roles are less struct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3B834-8775-4AF1-AE5E-29365E6C0E61}" type="slidenum">
              <a:t>24</a:t>
            </a:fld>
          </a:p>
        </p:txBody>
      </p:sp>
    </p:spTree>
  </p:cSld>
  <p:transition>
    <p:random/>
  </p:transition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0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500"/>
                            </p:stCondLst>
                            <p:childTnLst>
                              <p:par>
                                <p:cTn id="7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1000"/>
                            </p:stCondLst>
                            <p:childTnLst>
                              <p:par>
                                <p:cTn id="7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sing the Functional Structure to Implement a Differentiation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rketing is the main function for tracking new product idea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New product R&amp;D is emphas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st functions are decentral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malization is limited to foster change and promote new idea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verall structure is organic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Job roles are less structur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AE2F8-D9E5-48A9-A380-490A1B788FCB}" type="slidenum">
              <a:t>25</a:t>
            </a:fld>
          </a:p>
        </p:txBody>
      </p:sp>
    </p:spTree>
  </p:cSld>
  <p:transition>
    <p:random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sing the Functional Structure to Implement the Integrated Cost Leadership/ Differentiation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8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lling products that create customer value due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ir relatively low product cost through an emphasis on production and process engineering, with infrequent product chang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asonable sources of differentiation based on new-product R&amp;D are emphasized while production and process engineering are no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8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sed frequently in global econom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6FCE6-B392-4273-A03A-574A16A477DB}" type="slidenum">
              <a:t>26</a:t>
            </a:fld>
          </a:p>
        </p:txBody>
      </p:sp>
    </p:spTree>
  </p:cSld>
  <p:transition>
    <p:random/>
  </p:transition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0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lementing an Integrated Cost Leadership/Differentiation Strateg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integrated form of the functional structure must have: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cision-making patterns that are partially centralized and partially decentral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mi-specialized job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ules and procedures that allow both formal and informal job behavi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4EC5C-817B-4E37-A6DB-0DDFAB104B07}" type="slidenum">
              <a:t>27</a:t>
            </a:fld>
          </a:p>
        </p:txBody>
      </p:sp>
    </p:spTree>
  </p:cSld>
  <p:transition>
    <p:random/>
  </p:transition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-Level Strategies and the Multidivis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firm’s continuing success that leads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diversification, o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 diversification, o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oth product and market diversific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creasing diversification creates control problems that the functional structure can’t handl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formation processing, coordin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01158-8175-4AA6-9A44-99C32AB643E6}" type="slidenum">
              <a:t>28</a:t>
            </a:fld>
          </a:p>
        </p:txBody>
      </p:sp>
    </p:spTree>
  </p:cSld>
  <p:transition>
    <p:random/>
  </p:transition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0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5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5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-Level Strategies and the Multidivisional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ersification strategy requires firm to change from functional structure to a multidivisional structur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t levels of diversification create the need for implementation of a unique form of the multidivisional structur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008C5-0060-442E-AE6A-FFF1E2F797EE}" type="slidenum">
              <a:t>29</a:t>
            </a:fld>
          </a:p>
        </p:txBody>
      </p:sp>
    </p:spTree>
  </p:cSld>
  <p:transition>
    <p:random/>
  </p:transition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814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9047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500"/>
              </a:spcBef>
              <a:buClr>
                <a:srgbClr val="336699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organizational structures used to implement three international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336699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ategic networks and discuss how strategic center firms implement such networks at the business, corporate and international level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104472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41941-5035-481E-BE02-3C0FEC09CEBE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6324840" cy="580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4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ree Variations of the Multidivisional Structure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457200"/>
            <a:ext cx="8229600" cy="5335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15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990720" y="1560600"/>
            <a:ext cx="7124760" cy="331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CCA79-7F9A-4F75-87D8-47DE39CD82B1}" type="slidenum">
              <a:t>30</a:t>
            </a:fld>
          </a:p>
        </p:txBody>
      </p:sp>
    </p:spTree>
  </p:cSld>
  <p:transition>
    <p:random/>
  </p:transition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0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500"/>
                            </p:stCondLst>
                            <p:childTnLst>
                              <p:par>
                                <p:cTn id="8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1000"/>
                            </p:stCondLst>
                            <p:childTnLst>
                              <p:par>
                                <p:cTn id="8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5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operative Form of the Multidivisional Structure for Implementation of a Related Constrained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457200" y="581040"/>
            <a:ext cx="1828800" cy="479160"/>
            <a:chOff x="457200" y="581040"/>
            <a:chExt cx="1828800" cy="479160"/>
          </a:xfrm>
        </p:grpSpPr>
        <p:sp>
          <p:nvSpPr>
            <p:cNvPr id="221" name=""/>
            <p:cNvSpPr/>
            <p:nvPr/>
          </p:nvSpPr>
          <p:spPr>
            <a:xfrm>
              <a:off x="685800" y="58104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7200" y="88740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066680" y="1285920"/>
            <a:ext cx="7010640" cy="43527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457200" y="571500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otes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 Structural integration devices create tight links among all divis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rporate office emphasizes centralized strategic planning, human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resources, and marketing to foster cooperation between divis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&amp;D is likely to be centralized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24280" y="5715000"/>
            <a:ext cx="3962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wards are subjective and tend to emphasize overall corporate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formance in addition to divisional performan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ulture emphasizes cooperative shar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44FD9-CAB6-4860-8DF2-44A78C1EFC0E}" type="slidenum">
              <a:t>31</a:t>
            </a:fld>
          </a:p>
        </p:txBody>
      </p:sp>
    </p:spTree>
  </p:cSld>
  <p:transition>
    <p:random/>
  </p:transition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0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500"/>
                            </p:stCondLst>
                            <p:childTnLst>
                              <p:par>
                                <p:cTn id="8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: Cooperative For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orizontal integration is used to bring about interdivisional cooperation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haring divisional competencies facilitates development of economies of scop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o foster divisional cooperation, the corporate office emphasizes centralization: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ategic plann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142880" y="5791320"/>
            <a:ext cx="444780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ed Constrain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213B9-450B-4D00-9A68-F6041471FAFC}" type="slidenum">
              <a:t>32</a:t>
            </a:fld>
          </a:p>
        </p:txBody>
      </p:sp>
    </p:spTree>
  </p:cSld>
  <p:transition>
    <p:random/>
  </p:transition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fill="hold">
                      <p:stCondLst>
                        <p:cond delay="0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3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8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3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2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operative Form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&amp;D is likely to be centralize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requent, direct contact between division managers encourages and supports cooperation and sharing of competencies and resourc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se of liaison rol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wards are subjective, emphasizing overall corporate performance in addition to divisional performanc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142880" y="5791320"/>
            <a:ext cx="444780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ed Constrain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DBBB8-0890-49FA-B347-55DD55251FC6}" type="slidenum">
              <a:t>33</a:t>
            </a:fld>
          </a:p>
        </p:txBody>
      </p:sp>
    </p:spTree>
  </p:cSld>
  <p:transition>
    <p:random/>
  </p:transition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0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9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4678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6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BU Form of the Multidivisional Structure for Implementation of a Related Linked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35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457200" y="5842080"/>
            <a:ext cx="4114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ructural integration among divisions within SBUs, but independence 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cross SB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rategic planning may be the most prominent function in headquarters for  managing the strategic planning approval process of SBUs for the presid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597204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ach SBU may have its own budget for staff to foster integ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rporate headquarters staff serve as consultants to SBUs and divisions, rather than having direct input to product strategy, as in the cooperative for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090440" y="1285920"/>
            <a:ext cx="6963120" cy="442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6943C-F46D-44BA-ACB3-DE789B87601D}" type="slidenum">
              <a:t>34</a:t>
            </a:fld>
          </a:p>
        </p:txBody>
      </p:sp>
    </p:spTree>
  </p:cSld>
  <p:transition>
    <p:random/>
  </p:transition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0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500"/>
                            </p:stCondLst>
                            <p:childTnLst>
                              <p:par>
                                <p:cTn id="9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1000"/>
                            </p:stCondLst>
                            <p:childTnLst>
                              <p:par>
                                <p:cTn id="9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: SBU Form 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business unit (SBU) form is a structure consisting of three level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headquart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ategic business units (SBUs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BU divis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isions within SBUs shar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s, or markets, or both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938840" y="5791320"/>
            <a:ext cx="365256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ed Link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88734-C446-45A2-978D-0ABF262B239A}" type="slidenum">
              <a:t>35</a:t>
            </a:fld>
          </a:p>
        </p:txBody>
      </p:sp>
    </p:spTree>
  </p:cSld>
  <p:transition>
    <p:random/>
  </p:transition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0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6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6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1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6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5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: SBU Form 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isions within SBUs develop economies of scope and/or scale by sharing product or market competenci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ch SBU is a profit center controlled and evaluated by the headquarters offi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sed by large firm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n be complex due to an organization’s size and diversity in products and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938840" y="5791320"/>
            <a:ext cx="365256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ed Link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2EABC-8BDF-4DF7-A222-7742723B8FD9}" type="slidenum">
              <a:t>36</a:t>
            </a:fld>
          </a:p>
        </p:txBody>
      </p:sp>
    </p:spTree>
  </p:cSld>
  <p:transition>
    <p:random/>
  </p:transition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3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8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8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670572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7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etitive Form of the Multidivisional Structure for Implementation of an Unrelated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49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104840" y="1295280"/>
            <a:ext cx="6934320" cy="348624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533520" y="5356080"/>
            <a:ext cx="36576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rporate headquarters has a small sta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inance and auditing are the most prominent functions in the headquarters office to manage cash flow and assure the accuracy of performance data coming from divis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191120" y="5486400"/>
            <a:ext cx="4572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he legal affairs function becomes important when the firm acquires or divests asse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visions are independent and separate for financial evaluation purpo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visions retain strategic control, but cash is managed by the corporate off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visions compete for corporate resour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E44FF-6EEF-4ADD-8F11-648940DB5220}" type="slidenum">
              <a:t>37</a:t>
            </a:fld>
          </a:p>
        </p:txBody>
      </p:sp>
    </p:spTree>
  </p:cSld>
  <p:transition>
    <p:random/>
  </p:transition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fill="hold">
                      <p:stCondLst>
                        <p:cond delay="0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500"/>
                            </p:stCondLst>
                            <p:childTnLst>
                              <p:par>
                                <p:cTn id="10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: Competitive For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structure in which there is complete independence among the firm’s division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visions do not share common corporate strength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ecause strengths aren’t shared, integrating devices aren’t develop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rganizational arrangements emphasize divisional competition rather than cooper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724000" y="5791320"/>
            <a:ext cx="2890440" cy="459720"/>
          </a:xfrm>
          <a:prstGeom prst="rect">
            <a:avLst/>
          </a:prstGeom>
          <a:solidFill>
            <a:srgbClr val="99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relat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7F772-EB35-4EB8-95D7-9B41761CC5D9}" type="slidenum">
              <a:t>38</a:t>
            </a:fld>
          </a:p>
        </p:txBody>
      </p:sp>
    </p:spTree>
  </p:cSld>
  <p:transition>
    <p:random/>
  </p:transition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fill="hold">
                      <p:stCondLst>
                        <p:cond delay="0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5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0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5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0" dur="5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ive Form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ree benefits from the internal competi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lexibility—corporate headquarters can have divisions working on different technologies to identify those with greatest future potentia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hallenges the status quo and inertia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tivates effor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reates specific profit performance expectations for each division to promote internal competition for resourc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724000" y="5791320"/>
            <a:ext cx="2890440" cy="459720"/>
          </a:xfrm>
          <a:prstGeom prst="rect">
            <a:avLst/>
          </a:prstGeom>
          <a:solidFill>
            <a:srgbClr val="99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relat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B64F7-06BF-4F70-BBBC-E5DD81486BE1}" type="slidenum">
              <a:t>39</a:t>
            </a:fld>
          </a:p>
        </p:txBody>
      </p:sp>
    </p:spTree>
  </p:cSld>
  <p:transition>
    <p:random/>
  </p:transition>
  <p:timing>
    <p:tnLst>
      <p:par>
        <p:cTn id="1071" dur="indefinite" restart="never" nodeType="tmRoot">
          <p:childTnLst>
            <p:seq>
              <p:cTn id="1072" dur="indefinite" nodeType="mainSeq">
                <p:childTnLst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7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500"/>
                            </p:stCondLst>
                            <p:childTnLst>
                              <p:par>
                                <p:cTn id="10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1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5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9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4" dur="5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Structure and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rganizational structure specifi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irm’s formal reporting relationships, procedures, controls, and authority and decision-making proces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work to be done and how to do it, given the firm’s strategy or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t is critical to match organizational structure to the firm’s strateg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12067-3599-4045-ABBA-324E9D63A21C}" type="slidenum">
              <a:t>4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85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11.1</a:t>
            </a:r>
            <a:r>
              <a:rPr b="1" i="1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aracteristics of the Structures Necessary to Implement the Related Constrained, Related Linked, and Unrelated Diversification Strategies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1" name=""/>
          <p:cNvSpPr/>
          <p:nvPr/>
        </p:nvSpPr>
        <p:spPr>
          <a:xfrm>
            <a:off x="403200" y="1628640"/>
            <a:ext cx="8305920" cy="37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Cooperative M-Form 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BU M-Form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Competitive M-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uctural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Related Constrained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Related Linked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Unrelated Diversificatio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racteristic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ategy)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ategy)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ategy)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ntralization of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ralized a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tially centraliz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entralized to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ion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porate offi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 SBU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vi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 of integr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nsiv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ra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existen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isiona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phasize subjectiv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a mixture o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phasize objectiv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formanc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trategic) criteri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jective (strategic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inancial) criteria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raisal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objectiv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inancial) crite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isional incentiv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ed to overal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xed linkage 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ed to divisional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ens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porat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porate, SBU, a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forman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forman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visional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340440" y="1166760"/>
            <a:ext cx="24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verall Structural 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64760" y="6289560"/>
            <a:ext cx="263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ategy implemented with structural for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EFF5C-C29E-4E8B-A4F0-2D0854E770F1}" type="slidenum">
              <a:t>40</a:t>
            </a:fld>
          </a:p>
        </p:txBody>
      </p:sp>
    </p:spTree>
  </p:cSld>
  <p:transition>
    <p:random/>
  </p:transition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fill="hold">
                      <p:stCondLst>
                        <p:cond delay="0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Strategies and Worldwide Structur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ternational strategies allow the firm to search for new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e competen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4373A-79A7-49DA-ACC7-0736951A57CF}" type="slidenum">
              <a:t>41</a:t>
            </a:fld>
          </a:p>
        </p:txBody>
      </p:sp>
    </p:spTree>
  </p:cSld>
  <p:transition>
    <p:random/>
  </p:transition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fill="hold">
                      <p:stCondLst>
                        <p:cond delay="0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3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8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3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8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5095800" cy="449748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495000"/>
            <a:ext cx="6705720" cy="91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11.8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orldwide Geographic Area Structure for Implementation of a Multidomestic Strategy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71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412920" y="5678640"/>
            <a:ext cx="598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perimeter circles indicate decentralization of oper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mphasis is on differentiation by local demand to fit an area or country cul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porate headquarters coordinates financial resources among independent subsidia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organization is like a decentralized fed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46F0E-C6C7-4FFD-9DF8-7266D9B78D32}" type="slidenum">
              <a:t>42</a:t>
            </a:fld>
          </a:p>
        </p:txBody>
      </p:sp>
    </p:spTree>
  </p:cSld>
  <p:transition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0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6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orldwide Geographic Area Structure: Implementing a Multidomestic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ultidomestic strategy decentralizes strategic and operating decisions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siness units in each coun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characteristics tailored to local preferen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rms counter global competitive forces by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ablishing protected market positions, o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ng in industry segments most affected by differences among local countr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22257-D744-4845-8524-1439091F7B1A}" type="slidenum">
              <a:t>43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orldwide Geographic Area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Worldwide Geographic Area Structur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mphasizes national interes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acilitates the firm’s efforts to satisfy local or cultural differen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ultidomestic Strateg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quires little coordination between different county markets: integrating mechanisms aren’t need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Key disadvantage is inability to create global efficienc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38594-19D2-413C-ADC3-7FDBE786C730}" type="slidenum">
              <a:t>44</a:t>
            </a:fld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67057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9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orldwide Product Divisional Structure for Implementation of a Global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82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2576520" y="1295280"/>
            <a:ext cx="5076720" cy="452448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360" y="5681520"/>
            <a:ext cx="77914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headquarters’ circle indicates centralization to coordinate information flow among worldwide produ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porate headquarters uses many intercoordination devices to facilitate global economies of scale and sc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porate headquarters also allocates financial resources in a cooperative 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organization is like a centralized fed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BF111-A443-4CF0-B868-D27F82AB145C}" type="slidenum">
              <a:t>45</a:t>
            </a:fld>
          </a:p>
        </p:txBody>
      </p:sp>
    </p:spTree>
  </p:cSld>
  <p:transition>
    <p:random/>
  </p:transition>
  <p:timing>
    <p:tnLst>
      <p:par>
        <p:cTn id="1157" dur="indefinite" restart="never" nodeType="tmRoot">
          <p:childTnLst>
            <p:seq>
              <p:cTn id="1158" dur="indefinite" nodeType="mainSeq">
                <p:childTnLst>
                  <p:par>
                    <p:cTn id="1159" fill="hold">
                      <p:stCondLst>
                        <p:cond delay="0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4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orldwide Product Divisional Structure: Implementing a Global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lobal Strateg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llows firm to offer standardized products across country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s on Firm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ccess depends on firm’s ability to develop and take advantage of economies of scope and scale on global leve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 tends to outsource some primary or support activities to the world’s best provid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65E6E-CA09-49D2-9026-D96FCDCEFA9C}" type="slidenum">
              <a:t>46</a:t>
            </a:fld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orldwide Product Divis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5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entralizes decision-making authority in the worldwide division headquarter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eadquarters coordinates and integrates decisions and actions among divisional business uni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5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tegrating mechanisms are important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rect contact between manag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iaison roles between departm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mporary task forces as well as permanent team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44E59-52C3-424A-A04E-B3690134F6B7}" type="slidenum">
              <a:t>47</a:t>
            </a:fld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bination Structure: A Transnational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ransnational Strateg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bines multidomestic strategy’s local responsiveness with global strategy’s efficienc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bination structure draws characteristics and mechanisms from both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orldwide geographic area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orldwide product divisional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ppropriate integrating mechanisms for the combination structure are less obviou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A944A-F5B0-4C97-A89E-F8244FF83FFE}" type="slidenum">
              <a:t>48</a:t>
            </a:fld>
          </a:p>
        </p:txBody>
      </p:sp>
    </p:spTree>
  </p:cSld>
  <p:transition>
    <p:random/>
  </p:transition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fill="hold">
                      <p:stCondLst>
                        <p:cond delay="0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6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1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6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1" dur="5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6" dur="5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1" dur="500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0106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10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ing the Hybrid Form of the Combination Structure for Implementation of a Transnational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97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561960" y="1600200"/>
            <a:ext cx="8020080" cy="3124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717F8-2C41-442D-B83B-CBF9475E0D0B}" type="slidenum">
              <a:t>49</a:t>
            </a:fld>
          </a:p>
        </p:txBody>
      </p:sp>
    </p:spTree>
  </p:cSld>
  <p:transition>
    <p:random/>
  </p:transition>
  <p:timing>
    <p:tnLst>
      <p:par>
        <p:cTn id="1212" dur="indefinite" restart="never" nodeType="tmRoot">
          <p:childTnLst>
            <p:seq>
              <p:cTn id="1213" dur="indefinite" nodeType="mainSeq">
                <p:childTnLst>
                  <p:par>
                    <p:cTn id="1214" fill="hold">
                      <p:stCondLst>
                        <p:cond delay="0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ive structures provi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abil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lexibil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7280" indent="-28728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uctural stability provides: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capacity required to consistently and predictably manage daily work routin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7280" indent="-28728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uctural flexibility provides for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opportunity to explore competitive possi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allocation of resources to activities that shape needed competitive advantag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D0821-D365-4631-BB07-FA03A32FEBA9}" type="slidenum">
              <a:t>5</a:t>
            </a:fld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tches between Cooperative Strategies and Network Structur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Network strategy exist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artners form several alliances in order to improve performance of the alliance network itself through cooperative endeav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Network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group of firms formed to create value by participating in multiple cooperative arrangements such as alliances and joint ventur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EFA2D-27C6-4192-8EFA-DCA24F6936E4}" type="slidenum">
              <a:t>50</a:t>
            </a:fld>
          </a:p>
        </p:txBody>
      </p:sp>
    </p:spTree>
  </p:cSld>
  <p:transition>
    <p:random/>
  </p:transition>
  <p:timing>
    <p:tnLst>
      <p:par>
        <p:cTn id="1228" dur="indefinite" restart="never" nodeType="tmRoot">
          <p:childTnLst>
            <p:seq>
              <p:cTn id="1229" dur="indefinite" nodeType="mainSeq">
                <p:childTnLst>
                  <p:par>
                    <p:cTn id="1230" fill="hold">
                      <p:stCondLst>
                        <p:cond delay="0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9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4" dur="5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9" dur="5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4" dur="5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tches between Cooperative Strategies and Network Structur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networks are used to implement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siness-level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-level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national cooperative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center firm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irm around which the network’s cooperative relationships revol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BBD6D-44AF-4A64-A5C1-10E3BC27BB51}" type="slidenum">
              <a:t>51</a:t>
            </a:fld>
          </a:p>
        </p:txBody>
      </p:sp>
    </p:spTree>
  </p:cSld>
  <p:transition>
    <p:random/>
  </p:transition>
  <p:timing>
    <p:tnLst>
      <p:par>
        <p:cTn id="1255" dur="indefinite" restart="never" nodeType="tmRoot">
          <p:childTnLst>
            <p:seq>
              <p:cTn id="1256" dur="indefinite" nodeType="mainSeq">
                <p:childTnLst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1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6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1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6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1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6" dur="5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44600" y="447840"/>
            <a:ext cx="2155680" cy="115236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561960"/>
            <a:ext cx="175284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11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Strategic Network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2978280" y="671400"/>
            <a:ext cx="4870440" cy="534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A4CF7-FAC1-4600-A9B6-82EE95787AB9}" type="slidenum">
              <a:t>52</a:t>
            </a:fld>
          </a:p>
        </p:txBody>
      </p:sp>
    </p:spTree>
  </p:cSld>
  <p:transition>
    <p:random/>
  </p:transition>
  <p:timing>
    <p:tnLst>
      <p:par>
        <p:cTn id="1287" dur="indefinite" restart="never" nodeType="tmRoot">
          <p:childTnLst>
            <p:seq>
              <p:cTn id="1288" dur="indefinite" nodeType="mainSeq">
                <p:childTnLst>
                  <p:par>
                    <p:cTn id="1289" fill="hold">
                      <p:stCondLst>
                        <p:cond delay="0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93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Center Fir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s the foundation for the strategic network’s structur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cerned with aspects of organizational structure such as formal reporting relationship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s the complex, cooperative interactions among network partn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ngages in four primary task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ategic outsourcing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en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y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ace to lear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8E98B-380E-456E-B035-5A56A99BD636}" type="slidenum">
              <a:t>53</a:t>
            </a:fld>
          </a:p>
        </p:txBody>
      </p:sp>
    </p:spTree>
  </p:cSld>
  <p:transition>
    <p:random/>
  </p:transition>
  <p:timing>
    <p:tnLst>
      <p:par>
        <p:cTn id="1294" dur="indefinite" restart="never" nodeType="tmRoot">
          <p:childTnLst>
            <p:seq>
              <p:cTn id="1295" dur="indefinite" nodeType="mainSeq">
                <p:childTnLst>
                  <p:par>
                    <p:cTn id="1296" fill="hold">
                      <p:stCondLst>
                        <p:cond delay="0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5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0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5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0" dur="5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5" dur="5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0" dur="500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lementing Business-Level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ertical Complementary Allianc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s have complementary competencies in different value chain stages that let them cooperatively integrate their different skil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orizontal Complementary Allianc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s that agree to combine competencies to create value in the same stage of the value chai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strategic center firm is obvious in vertical alliances, but not always in horizontal allianc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48689-D878-4900-AA76-0747BB6A347D}" type="slidenum">
              <a:t>54</a:t>
            </a:fld>
          </a:p>
        </p:txBody>
      </p:sp>
    </p:spTree>
  </p:cSld>
  <p:transition>
    <p:random/>
  </p:transition>
  <p:timing>
    <p:tnLst>
      <p:par>
        <p:cTn id="1331" dur="indefinite" restart="never" nodeType="tmRoot">
          <p:childTnLst>
            <p:seq>
              <p:cTn id="1332" dur="indefinite" nodeType="mainSeq">
                <p:childTnLst>
                  <p:par>
                    <p:cTn id="1333" fill="hold">
                      <p:stCondLst>
                        <p:cond delay="0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2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7" dur="5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2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7" dur="5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2" dur="50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lementing Business-Level Cooperative Strategies: International Franchising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ranchising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common form of cooperative strategy used to facilitate product and market diversific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llows the firm to use its competencies to extend or diversify its product or market reach without completing a merger or acquisi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E42DB-31B0-4900-8311-2B229D582915}" type="slidenum">
              <a:t>55</a:t>
            </a:fld>
          </a:p>
        </p:txBody>
      </p:sp>
    </p:spTree>
  </p:cSld>
  <p:transition>
    <p:random/>
  </p:transition>
  <p:timing>
    <p:tnLst>
      <p:par>
        <p:cTn id="1363" dur="indefinite" restart="never" nodeType="tmRoot">
          <p:childTnLst>
            <p:seq>
              <p:cTn id="1364" dur="indefinite" nodeType="mainSeq">
                <p:childTnLst>
                  <p:par>
                    <p:cTn id="1365" fill="hold">
                      <p:stCondLst>
                        <p:cond delay="0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4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0" dur="5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lementing International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Network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used to implement international cooperative strategies for competing in several countr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s in countries’ regulatory environments increase the challenge of managing international networ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stributed Strategic Network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the organizational structure used to manage international cooperative strateg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l strategic center fi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D7EE9-AB20-44E5-B923-DFD86DC84430}" type="slidenum">
              <a:t>56</a:t>
            </a:fld>
          </a:p>
        </p:txBody>
      </p:sp>
    </p:spTree>
  </p:cSld>
  <p:transition>
    <p:random/>
  </p:transition>
  <p:timing>
    <p:tnLst>
      <p:par>
        <p:cTn id="1381" dur="indefinite" restart="never" nodeType="tmRoot">
          <p:childTnLst>
            <p:seq>
              <p:cTn id="1382" dur="indefinite" nodeType="mainSeq">
                <p:childTnLst>
                  <p:par>
                    <p:cTn id="1383" fill="hold">
                      <p:stCondLst>
                        <p:cond delay="0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2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5" dur="5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8" dur="5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3" dur="5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6" dur="5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9" dur="500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444600" y="458640"/>
            <a:ext cx="2155680" cy="11527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561960"/>
            <a:ext cx="175284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12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Distributed Strategic Network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2819520" y="728640"/>
            <a:ext cx="5257800" cy="540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79DBF-BAB2-4C4A-9C83-019B9604CD07}" type="slidenum">
              <a:t>57</a:t>
            </a:fld>
          </a:p>
        </p:txBody>
      </p:sp>
    </p:spTree>
  </p:cSld>
  <p:transition>
    <p:random/>
  </p:transition>
  <p:timing>
    <p:tnLst>
      <p:par>
        <p:cTn id="1410" dur="indefinite" restart="never" nodeType="tmRoot">
          <p:childTnLst>
            <p:seq>
              <p:cTn id="1411" dur="indefinite" nodeType="mainSeq">
                <p:childTnLst>
                  <p:par>
                    <p:cTn id="1412" fill="hold">
                      <p:stCondLst>
                        <p:cond delay="0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16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urposes of Organizational Control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uide the use of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dicate how to compare actual results with expected resul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ggest corrective actions to take when the difference between actual and expected results is unacceptabl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wo Types of Organizational Control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ategic contro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nancial contro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D8A31-6722-4517-9F24-AA6FAD37FBBF}" type="slidenum">
              <a:t>6</a:t>
            </a:fld>
          </a:p>
        </p:txBody>
      </p:sp>
    </p:spTree>
  </p:cSld>
  <p:transition>
    <p:random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85640" y="1295280"/>
            <a:ext cx="2508480" cy="1287720"/>
          </a:xfrm>
          <a:prstGeom prst="roundRect">
            <a:avLst>
              <a:gd name="adj" fmla="val 16667"/>
            </a:avLst>
          </a:prstGeom>
          <a:solidFill>
            <a:srgbClr val="b2b2b2">
              <a:alpha val="5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8229600" cy="32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Controls: Subjective criteria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concerned with examining the fit between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31480" indent="-226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he fir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ght 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pportunities in its external environmen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he fir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n 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ompetitive advantag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valuate the degree to which the firm focuses on the requirements to implement its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435480" y="1492200"/>
            <a:ext cx="2330280" cy="914400"/>
            <a:chOff x="3435480" y="1492200"/>
            <a:chExt cx="2330280" cy="914400"/>
          </a:xfrm>
        </p:grpSpPr>
        <p:sp>
          <p:nvSpPr>
            <p:cNvPr id="113" name=""/>
            <p:cNvSpPr/>
            <p:nvPr/>
          </p:nvSpPr>
          <p:spPr>
            <a:xfrm>
              <a:off x="3435480" y="1492200"/>
              <a:ext cx="2330280" cy="9144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520800" y="1566360"/>
              <a:ext cx="2157120" cy="763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rganiz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790560" y="1492200"/>
            <a:ext cx="1879560" cy="914400"/>
            <a:chOff x="790560" y="1492200"/>
            <a:chExt cx="1879560" cy="914400"/>
          </a:xfrm>
        </p:grpSpPr>
        <p:sp>
          <p:nvSpPr>
            <p:cNvPr id="116" name=""/>
            <p:cNvSpPr/>
            <p:nvPr/>
          </p:nvSpPr>
          <p:spPr>
            <a:xfrm>
              <a:off x="790560" y="1492200"/>
              <a:ext cx="1879560" cy="91440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59320" y="1566360"/>
              <a:ext cx="1739880" cy="76428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rateg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6502320" y="1492200"/>
            <a:ext cx="1879560" cy="914400"/>
            <a:chOff x="6502320" y="1492200"/>
            <a:chExt cx="1879560" cy="914400"/>
          </a:xfrm>
        </p:grpSpPr>
        <p:sp>
          <p:nvSpPr>
            <p:cNvPr id="119" name=""/>
            <p:cNvSpPr/>
            <p:nvPr/>
          </p:nvSpPr>
          <p:spPr>
            <a:xfrm>
              <a:off x="6502320" y="1492200"/>
              <a:ext cx="1879560" cy="91440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571080" y="1566360"/>
              <a:ext cx="1740240" cy="76428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inanc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1" name=""/>
          <p:cNvCxnSpPr>
            <a:stCxn id="113" idx="1"/>
            <a:endCxn id="116" idx="3"/>
          </p:cNvCxnSpPr>
          <p:nvPr/>
        </p:nvCxnSpPr>
        <p:spPr>
          <a:xfrm flipH="1">
            <a:off x="2669760" y="1949040"/>
            <a:ext cx="7660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2" name=""/>
          <p:cNvCxnSpPr>
            <a:stCxn id="113" idx="3"/>
            <a:endCxn id="119" idx="1"/>
          </p:cNvCxnSpPr>
          <p:nvPr/>
        </p:nvCxnSpPr>
        <p:spPr>
          <a:xfrm>
            <a:off x="5765760" y="1949040"/>
            <a:ext cx="7372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C5D80-6329-4633-8C34-462530092AA7}" type="slidenum">
              <a:t>7</a:t>
            </a:fld>
          </a:p>
        </p:txBody>
      </p: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915160" y="1295280"/>
            <a:ext cx="2508120" cy="1287720"/>
          </a:xfrm>
          <a:prstGeom prst="roundRect">
            <a:avLst>
              <a:gd name="adj" fmla="val 16667"/>
            </a:avLst>
          </a:prstGeom>
          <a:solidFill>
            <a:srgbClr val="b2b2b2">
              <a:alpha val="5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747880"/>
            <a:ext cx="8229600" cy="33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nancial Controls: Objective criteria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counting-based measures include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on 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on as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-based measures include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 Value Added (E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178080" y="1492200"/>
            <a:ext cx="2330640" cy="914400"/>
            <a:chOff x="3178080" y="1492200"/>
            <a:chExt cx="2330640" cy="914400"/>
          </a:xfrm>
        </p:grpSpPr>
        <p:sp>
          <p:nvSpPr>
            <p:cNvPr id="127" name=""/>
            <p:cNvSpPr/>
            <p:nvPr/>
          </p:nvSpPr>
          <p:spPr>
            <a:xfrm>
              <a:off x="3178080" y="1492200"/>
              <a:ext cx="2330640" cy="9144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263760" y="1566360"/>
              <a:ext cx="2157480" cy="763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rganiz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33520" y="1492200"/>
            <a:ext cx="1879560" cy="914400"/>
            <a:chOff x="533520" y="1492200"/>
            <a:chExt cx="1879560" cy="914400"/>
          </a:xfrm>
        </p:grpSpPr>
        <p:sp>
          <p:nvSpPr>
            <p:cNvPr id="130" name=""/>
            <p:cNvSpPr/>
            <p:nvPr/>
          </p:nvSpPr>
          <p:spPr>
            <a:xfrm>
              <a:off x="533520" y="1492200"/>
              <a:ext cx="1879560" cy="9144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2280" y="1566360"/>
              <a:ext cx="1739880" cy="76428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rateg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6245280" y="1492200"/>
            <a:ext cx="1879560" cy="914400"/>
            <a:chOff x="6245280" y="1492200"/>
            <a:chExt cx="1879560" cy="914400"/>
          </a:xfrm>
        </p:grpSpPr>
        <p:sp>
          <p:nvSpPr>
            <p:cNvPr id="133" name=""/>
            <p:cNvSpPr/>
            <p:nvPr/>
          </p:nvSpPr>
          <p:spPr>
            <a:xfrm>
              <a:off x="6245280" y="1492200"/>
              <a:ext cx="1879560" cy="91440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314040" y="1566360"/>
              <a:ext cx="1740240" cy="76428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Financ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1"/>
            <a:endCxn id="130" idx="3"/>
          </p:cNvCxnSpPr>
          <p:nvPr/>
        </p:nvCxnSpPr>
        <p:spPr>
          <a:xfrm flipH="1">
            <a:off x="2412360" y="1949040"/>
            <a:ext cx="765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7" idx="3"/>
            <a:endCxn id="133" idx="1"/>
          </p:cNvCxnSpPr>
          <p:nvPr/>
        </p:nvCxnSpPr>
        <p:spPr>
          <a:xfrm>
            <a:off x="5508720" y="1949040"/>
            <a:ext cx="7372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178FB-1C54-4B10-AF8E-FCAE3A0C45AF}" type="slidenum">
              <a:t>8</a:t>
            </a:fld>
          </a:p>
        </p:txBody>
      </p:sp>
    </p:spTree>
  </p:cSld>
  <p:transition>
    <p:random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Matching Control to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lative use of controls varies by type of strategy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arge diversified firms using a cost leadership strategy emphasize financial contro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anies and business units using a differentiation strategy emphasize strategic contro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3CD38-D33D-4476-AF81-D92E76A50D67}" type="slidenum">
              <a:t>9</a:t>
            </a:fld>
          </a:p>
        </p:txBody>
      </p:sp>
    </p:spTree>
  </p:cSld>
  <p:transition>
    <p:random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The University of West Alabama</dc:creator>
  <dc:description/>
  <dc:language>en-US</dc:language>
  <cp:lastModifiedBy>Teodoro Wigodski</cp:lastModifiedBy>
  <dcterms:modified xsi:type="dcterms:W3CDTF">2006-07-29T17:29:07Z</dcterms:modified>
  <cp:revision>43</cp:revision>
  <dc:subject>Chapter 11</dc:subject>
  <dc:title>Strategic Management 7e.</dc:title>
</cp:coreProperties>
</file>