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3D5C-152F-490B-95B9-53B0055F1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699F-89C3-4828-9DC6-0DB147D42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45E6-C498-4CE0-85EF-A712DCC90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355C-5B4C-488B-8B13-1A41F12F8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4CE3-8B4D-407F-85B8-7D4152C9E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3939-1905-4DA0-B6BE-FB5823A20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7D6D-9347-4374-90BF-9ADB0BB66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6D94-B90A-49F8-9E40-9BAD6D50E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E873-9363-4332-88E5-1731F6AB3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EB79-9051-41BA-9768-93C902F40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ED1D-637A-427C-BA85-CC85771CA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75A6-759E-4637-A722-1C625D72B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3966-37B9-47FE-93A4-B4FC0A27F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0EE0-3F58-43BF-816A-B020D73F9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DEE1-2394-448B-B08A-21C1F82F5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5BDC-FCAE-491A-9B5A-FEA59D6C3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FF24-FC37-4A80-9686-9C8A65730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EF25-9FE8-47CC-A35C-8BC73F5B0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34B9-A82E-486C-8289-316104162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2D37-E45D-41DE-957D-5970ED11E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7820-C8DA-4D2D-AC5B-FDDBC4E5C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51A7-91A8-43C2-9690-2A6F9DA6D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6144-E404-445D-825D-03C2FA2F7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6189-8F84-4318-B859-8BDE07E78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23BD-08EC-49F9-BAA8-E2CB40901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9837-CF9A-42CC-9BC0-8117BA9FE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3005-7983-483C-A634-6EBED9558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54D6-46E4-4267-875E-AE26291E9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CB4C-3BA5-4FAA-97BC-E35D703AB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B554-2FB2-41A1-99E3-FE7117330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56305-CA53-4A2A-83FB-6394B3BC7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23133-D7EE-4B38-B863-0F1071521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E28C1-5401-4174-BCE6-0775CA77C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EBFF4-035E-49CF-95A8-1C2749287F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57E17-1A67-4C54-A93D-98E3017AF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27623-5E9A-4F9F-9F85-E14EFBF2D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BE969-76AE-483A-93B8-53D1893F6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15724-B816-4DC0-BB14-A2260B68D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C507B-A717-4BB4-BDC0-91A748F9D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86B53-CE46-41A3-88CC-C5D9C8017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31269-F753-440D-8227-3561490CA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A5B4B-E2B3-44A5-8315-B9B4B6D82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–</a:t>
            </a:r>
            <a:fld id="{839D59DB-7559-44C5-B045-ABCD9626A32D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4636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0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 Governance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eking of self-interest with guile (cunning or deceit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attitude (inclination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behaviors (specific acts of self-interes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prevents the maximization of shareholder wealth (the primary goal of owner/principals)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6D280-6478-4519-A5FA-F10D6DFFDB9C}" type="slidenum">
              <a:t>10</a:t>
            </a:fld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ponse to 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do not know beforehand which agents will or will not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us, principals establish governance and control mechanisms to prevent managerial opportunis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056EA-4685-473B-A7A8-8F932B82D043}" type="slidenum">
              <a:t>11</a:t>
            </a:fld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amples of the Agency Proble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roblem of Product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size, and the relationship of size to managerial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tion of managerial employment ris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Free Cash Flow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prefer to invest these funds in additional product diversification (see above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areholders prefer the funds as dividends so they control how the funds are inves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C36F2-1C2E-4AA2-B0BF-F4580F3307C9}" type="slidenum">
              <a:t>12</a:t>
            </a:fld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495360"/>
            <a:ext cx="7934400" cy="70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r and Shareholder Risk and Diversification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3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6715440" cy="491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B991E-FFB9-4407-8A92-2802B65EA8E1}" type="slidenum">
              <a:t>13</a:t>
            </a:fld>
          </a:p>
        </p:txBody>
      </p:sp>
    </p:spTree>
  </p:cSld>
  <p:transition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gency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m of incentive costs, monitoring costs, enforcement costs, and individual financial losses incurred by principals, because governance mechanisms cannot guarantee total compliance by the ag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may engage in monitoring behavior to assess the activities and decisions of manag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dispersed shareholding makes it difficult and inefficient to monitor management’s behavi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5312F-0D4B-4F0E-ADEB-0F35E4E43344}" type="slidenum">
              <a:t>14</a:t>
            </a:fld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s of Directors have a fiduciary duty to shareholders to monitor managem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Boards of Directors are often accused of being lax in performing this func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49071-D07B-4412-8DEB-6BAC3DA1D821}" type="slidenum">
              <a:t>15</a:t>
            </a:fld>
          </a:p>
        </p:txBody>
      </p:sp>
    </p:spTree>
  </p:cSld>
  <p:transition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6064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 Governance Mechanism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1327320"/>
            <a:ext cx="830556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Governance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wnership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s responsible for representing the firm’s owners by monitoring top-level managers’ strategic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ecutive Comp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salary, bonuses, and long-term incentives to align managers’ interests with shareholders’ interest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Governance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 for Corporat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urchase of a company that is underperforming relative to industry rivals in order to improve the firm’s strategic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D16B7-63FB-4CD8-BF00-D56297784BF2}" type="slidenum">
              <a:t>16</a:t>
            </a:fld>
          </a:p>
        </p:txBody>
      </p:sp>
    </p:spTree>
  </p:cSld>
  <p:transition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00400" y="1314360"/>
            <a:ext cx="990720" cy="44053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405320"/>
              <a:gd name="textAreaBottom" fmla="*/ 4404240 h 44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727"/>
                </a:lnTo>
                <a:cubicBezTo>
                  <a:pt x="10800" y="2738"/>
                  <a:pt x="5400" y="2749"/>
                  <a:pt x="0" y="2749"/>
                </a:cubicBezTo>
                <a:cubicBezTo>
                  <a:pt x="5400" y="2749"/>
                  <a:pt x="10800" y="2760"/>
                  <a:pt x="10800" y="277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777840" y="1330200"/>
            <a:ext cx="490860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arge block shareholders have a strong incentive to monitor management closely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ir large stakes make it worth their while to spend time, effort and expense to monitor clos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y may also obtain Board seats which enhances their ability to monitor effectiv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nancial institutions are legally forbidden from directly holding board sea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44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A92C5-45AF-4E19-AB18-1ECD96F98D2B}" type="slidenum">
              <a:t>17</a:t>
            </a:fld>
          </a:p>
        </p:txBody>
      </p: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00400" y="1386000"/>
            <a:ext cx="990720" cy="3186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720 h 3186000"/>
              <a:gd name="textAreaBottom" fmla="*/ 3185280 h 31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3530"/>
                </a:lnTo>
                <a:cubicBezTo>
                  <a:pt x="10800" y="3541"/>
                  <a:pt x="5400" y="3552"/>
                  <a:pt x="0" y="3552"/>
                </a:cubicBezTo>
                <a:cubicBezTo>
                  <a:pt x="5400" y="3552"/>
                  <a:pt x="10800" y="3563"/>
                  <a:pt x="10800" y="357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777840" y="1455840"/>
            <a:ext cx="490860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increasing influence of institutional owners (stock mutual funds and pension funds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Have the size (proxy voting power) and incentive (demand for returns to funds) to discipline ineffective top-level manag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an affect the firm’s choice of strategi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50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281DF-0B53-4668-B648-BC2A64BD86BA}" type="slidenum">
              <a:t>18</a:t>
            </a:fld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00400" y="1386000"/>
            <a:ext cx="990720" cy="38718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871800"/>
              <a:gd name="textAreaBottom" fmla="*/ 3870720 h 38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01"/>
                </a:lnTo>
                <a:cubicBezTo>
                  <a:pt x="10800" y="2912"/>
                  <a:pt x="5400" y="2923"/>
                  <a:pt x="0" y="2923"/>
                </a:cubicBezTo>
                <a:cubicBezTo>
                  <a:pt x="5400" y="2923"/>
                  <a:pt x="10800" y="2934"/>
                  <a:pt x="10800" y="29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777840" y="1452240"/>
            <a:ext cx="4908600" cy="37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 activism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can convene to discuss corporation’s directio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f a consensus exists, shareholders can vote as a block to elect their candidates to the boar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xy figh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re are limits on shareholder activism available to institutional owners in responding to activists’ tactic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56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3264B-D6BB-4745-94FA-5685BD50D604}" type="slidenum">
              <a:t>19</a:t>
            </a:fld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rporate governance and explain why it is used to monitor and contro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 ownership has been largely separated from managerial control in the modern corpora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 agency relationship and managerial opportunism and describe their strategic implic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hree internal governance mechanisms—ownership concentration, the board of directors, and executive compensation—are used to monitor and control managerial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E7CAA-839D-4028-886C-710F22D39E61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00400" y="1386000"/>
            <a:ext cx="990720" cy="402408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024080"/>
              <a:gd name="textAreaBottom" fmla="*/ 4023000 h 40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226"/>
                </a:lnTo>
                <a:cubicBezTo>
                  <a:pt x="10800" y="8237"/>
                  <a:pt x="5400" y="8248"/>
                  <a:pt x="0" y="8248"/>
                </a:cubicBezTo>
                <a:cubicBezTo>
                  <a:pt x="5400" y="8248"/>
                  <a:pt x="10800" y="8259"/>
                  <a:pt x="10800" y="8270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952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Group of elected individuals that acts in the owners’ interests to formally monitor and control the firm’s top-level execu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has the power to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rect the affairs of the organiz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unish and reward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tect owners from managerial opportunis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62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165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1ADEC-CDBB-49B0-874C-EA45302BA6EB}" type="slidenum">
              <a:t>20</a:t>
            </a:fld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200400" y="1386000"/>
            <a:ext cx="990720" cy="34909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490920"/>
              <a:gd name="textAreaBottom" fmla="*/ 3489840 h 34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9575"/>
                </a:lnTo>
                <a:cubicBezTo>
                  <a:pt x="10800" y="9586"/>
                  <a:pt x="5400" y="9597"/>
                  <a:pt x="0" y="9597"/>
                </a:cubicBezTo>
                <a:cubicBezTo>
                  <a:pt x="5400" y="9597"/>
                  <a:pt x="10800" y="9608"/>
                  <a:pt x="10800" y="9619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osition of Board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the firm’s CEO and other top-level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Related 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uninvolved with day-to-day operations, but who have a relationship with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who are independent of the firm’s day-to-day operations and other relationship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71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174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BCDFD-02F3-4EE5-BDF5-61A3BFCD26E4}" type="slidenum">
              <a:t>21</a:t>
            </a:fld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741"/>
                </a:lnTo>
                <a:cubicBezTo>
                  <a:pt x="10800" y="8752"/>
                  <a:pt x="5400" y="8763"/>
                  <a:pt x="0" y="8763"/>
                </a:cubicBezTo>
                <a:cubicBezTo>
                  <a:pt x="5400" y="8763"/>
                  <a:pt x="10800" y="8774"/>
                  <a:pt x="10800" y="878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iticisms of Boards of Directors includ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oo readily approve managers’ self-serving initia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exploited by managers with personal ties to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not vigilant enough in hiring and monitoring CEO behavio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ack of agreement about the number of and most appropriate role of outside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80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183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15986-4A75-4867-91EB-1434F466E3A9}" type="slidenum">
              <a:t>22</a:t>
            </a:fld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368"/>
                </a:lnTo>
                <a:cubicBezTo>
                  <a:pt x="10800" y="8379"/>
                  <a:pt x="5400" y="8390"/>
                  <a:pt x="0" y="8390"/>
                </a:cubicBezTo>
                <a:cubicBezTo>
                  <a:pt x="5400" y="8390"/>
                  <a:pt x="10800" y="8401"/>
                  <a:pt x="10800" y="841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nhancing the effectiveness of boards and director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diversity in the backgrounds of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onger internal management and accounting control system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formal processes to evaluate the board’s performan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dopting a “lead director” rol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compensation of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89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192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1681D-5C59-4367-AD88-97C36C979CB0}" type="slidenum">
              <a:t>23</a:t>
            </a:fld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00400" y="1386000"/>
            <a:ext cx="990720" cy="45576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440 h 4557600"/>
              <a:gd name="textAreaBottom" fmla="*/ 4556160 h 45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2399"/>
                </a:lnTo>
                <a:cubicBezTo>
                  <a:pt x="10800" y="12410"/>
                  <a:pt x="5400" y="12421"/>
                  <a:pt x="0" y="12421"/>
                </a:cubicBezTo>
                <a:cubicBezTo>
                  <a:pt x="5400" y="12421"/>
                  <a:pt x="10800" y="12432"/>
                  <a:pt x="10800" y="1244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orms of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alaries, bonuses, long-term performance incentives, stock awards,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actors complicating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ic decisions by top-level managers are complex, non-routine and affect the firm over an extended perio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ther variables affecting the firm’s performance over tim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98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01" name="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04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5FB97-7A31-463F-B701-61DFB2BFAB40}" type="slidenum">
              <a:t>24</a:t>
            </a:fld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200400" y="1386000"/>
            <a:ext cx="990720" cy="37195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19520"/>
              <a:gd name="textAreaBottom" fmla="*/ 3718440 h 37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5060"/>
                </a:lnTo>
                <a:cubicBezTo>
                  <a:pt x="10800" y="15071"/>
                  <a:pt x="5400" y="15082"/>
                  <a:pt x="0" y="15082"/>
                </a:cubicBezTo>
                <a:cubicBezTo>
                  <a:pt x="5400" y="15082"/>
                  <a:pt x="10800" y="15093"/>
                  <a:pt x="10800" y="1510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imits on the effectiveness of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ntended consequences of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irm performance not as important than firm siz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lance sheet not showing executive wealth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ptions not expensed at the time they are awarded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10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13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16" name="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53DF5-8362-4D80-91F1-D67A145AEE81}" type="slidenum">
              <a:t>25</a:t>
            </a:fld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00400" y="1690560"/>
            <a:ext cx="990720" cy="37958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95840"/>
              <a:gd name="textAreaBottom" fmla="*/ 3794760 h 37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877"/>
                </a:lnTo>
                <a:cubicBezTo>
                  <a:pt x="10800" y="18888"/>
                  <a:pt x="5400" y="18899"/>
                  <a:pt x="0" y="18899"/>
                </a:cubicBezTo>
                <a:cubicBezTo>
                  <a:pt x="5400" y="18899"/>
                  <a:pt x="10800" y="18910"/>
                  <a:pt x="10800" y="1892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762000" y="1752480"/>
            <a:ext cx="4876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ividuals and firms buy or take over undervalu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effective managers are usually replaced in such takeov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reat of takeover may lead firm to operate more efficient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hanges in regulations have made hostile takeovers difficul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22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25" name="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c5b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28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31" name="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6F1B1-2309-4DEA-B71B-1713E9932983}" type="slidenum">
              <a:t>26</a:t>
            </a:fld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"/>
                            </p:stCondLst>
                            <p:childTnLst>
                              <p:par>
                                <p:cTn id="6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200400" y="1512720"/>
            <a:ext cx="990720" cy="42530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253040"/>
              <a:gd name="textAreaBottom" fmla="*/ 4251960 h 42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079"/>
                </a:lnTo>
                <a:cubicBezTo>
                  <a:pt x="10800" y="18090"/>
                  <a:pt x="5400" y="18101"/>
                  <a:pt x="0" y="18101"/>
                </a:cubicBezTo>
                <a:cubicBezTo>
                  <a:pt x="5400" y="18101"/>
                  <a:pt x="10800" y="18112"/>
                  <a:pt x="10800" y="1812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733920" y="1523520"/>
            <a:ext cx="4876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nagerial defense tactics increase the costs of mounting a takeov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fense tactics may requir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sset restructuring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the financial structure of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 approv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rket for corporate control lacks the precision of internal governance mechanis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37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40" name="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43" name="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46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C0D52-D54F-408A-BA85-3D04A250D132}" type="slidenum">
              <a:t>27</a:t>
            </a:fld>
          </a:p>
        </p:txBody>
      </p: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500"/>
                            </p:stCondLst>
                            <p:childTnLst>
                              <p:par>
                                <p:cTn id="7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560" y="44136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2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209520" y="1251000"/>
            <a:ext cx="87822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Defense strateg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Categor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Popularit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Effectivenes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Stockholder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mong firm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s a defense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wealth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son p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char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end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lden parachu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lig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ig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ma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st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structu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nclus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360" y="6313320"/>
            <a:ext cx="7688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. A. Pearce II &amp; R. B. Robinson, Jr., 2004, Hostile takeover defenses that maximize shareholder wealth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Business Horiz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7(5): 15–24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C81C1-F706-4AA6-9F9B-F71C3AA2BC55}" type="slidenum">
              <a:t>28</a:t>
            </a:fld>
          </a:p>
        </p:txBody>
      </p:sp>
    </p:spTree>
  </p:cSld>
  <p:transition>
    <p:random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181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 and manager are often the same in private fir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ublic firms often have a dominant shareholder, frequently a ban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requently there is less emphasis on shareholder value than in U.S. firms, although this may be chang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888160" y="4038480"/>
            <a:ext cx="1655640" cy="19051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324480" y="2819520"/>
            <a:ext cx="2286000" cy="13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999E7-D63B-4E9D-B5C1-36AA07B4C067}" type="slidenum">
              <a:t>29</a:t>
            </a:fld>
          </a:p>
        </p:txBody>
      </p:sp>
    </p:spTree>
  </p:cSld>
  <p:transition>
    <p:random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types of compensation executives receive and their effects on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the external corporate governance mechanism—the market for corporate control—acts as a restraint on top-leve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 governance in international settings, in particular in Germany and Japa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rporate governance fosters ethical strategic decisions and the importance of such behaviors on the part of top-level executiv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62FE5-2B40-4ECB-B6E2-1229D27A701E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006800" y="225252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the functions of direction and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06800" y="34718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Vo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06800" y="49370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Aufsichtsr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01760" y="2057400"/>
            <a:ext cx="2482560" cy="1033200"/>
            <a:chOff x="1301760" y="2057400"/>
            <a:chExt cx="2482560" cy="1033200"/>
          </a:xfrm>
        </p:grpSpPr>
        <p:sp>
          <p:nvSpPr>
            <p:cNvPr id="260" name=""/>
            <p:cNvSpPr/>
            <p:nvPr/>
          </p:nvSpPr>
          <p:spPr>
            <a:xfrm>
              <a:off x="1301760" y="2057400"/>
              <a:ext cx="2482560" cy="10332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61880" y="2125440"/>
              <a:ext cx="2327400" cy="89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orst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301760" y="3352680"/>
            <a:ext cx="2482920" cy="1033200"/>
            <a:chOff x="1301760" y="3352680"/>
            <a:chExt cx="2482920" cy="1033200"/>
          </a:xfrm>
        </p:grpSpPr>
        <p:sp>
          <p:nvSpPr>
            <p:cNvPr id="263" name=""/>
            <p:cNvSpPr/>
            <p:nvPr/>
          </p:nvSpPr>
          <p:spPr>
            <a:xfrm>
              <a:off x="1301760" y="3352680"/>
              <a:ext cx="2482920" cy="1033200"/>
            </a:xfrm>
            <a:prstGeom prst="rect">
              <a:avLst/>
            </a:pr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62240" y="3420720"/>
              <a:ext cx="2327040" cy="8971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ufsichtsr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300320" y="4627440"/>
            <a:ext cx="2495520" cy="1359000"/>
            <a:chOff x="1300320" y="4627440"/>
            <a:chExt cx="2495520" cy="1359000"/>
          </a:xfrm>
        </p:grpSpPr>
        <p:sp>
          <p:nvSpPr>
            <p:cNvPr id="266" name=""/>
            <p:cNvSpPr/>
            <p:nvPr/>
          </p:nvSpPr>
          <p:spPr>
            <a:xfrm>
              <a:off x="1300320" y="4627440"/>
              <a:ext cx="2495520" cy="13590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77720" y="4802400"/>
              <a:ext cx="2340000" cy="10087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Un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embers Shar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"/>
          <p:cNvCxnSpPr>
            <a:stCxn id="266" idx="0"/>
            <a:endCxn id="263" idx="2"/>
          </p:cNvCxnSpPr>
          <p:nvPr/>
        </p:nvCxnSpPr>
        <p:spPr>
          <a:xfrm flipH="1" flipV="1">
            <a:off x="2542680" y="4385880"/>
            <a:ext cx="5760" cy="241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69" name=""/>
          <p:cNvCxnSpPr>
            <a:stCxn id="263" idx="0"/>
            <a:endCxn id="260" idx="2"/>
          </p:cNvCxnSpPr>
          <p:nvPr/>
        </p:nvCxnSpPr>
        <p:spPr>
          <a:xfrm flipV="1">
            <a:off x="2542680" y="3090600"/>
            <a:ext cx="1080" cy="26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70" name=""/>
          <p:cNvSpPr/>
          <p:nvPr/>
        </p:nvSpPr>
        <p:spPr>
          <a:xfrm>
            <a:off x="195264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Germany: Two-tiered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AFE71-8C85-41E0-B063-A55D622473A9}" type="slidenum">
              <a:t>30</a:t>
            </a:fld>
          </a:p>
        </p:txBody>
      </p:sp>
    </p:spTree>
  </p:cSld>
  <p:transition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864480" y="3352680"/>
            <a:ext cx="1670040" cy="17049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956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governance factor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n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iretsus: strongly interrelated groups of firms tied together by cross-shareholding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nks (especially “main bank”) are highly influential with firm’s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2127240" cy="149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E0BBD-636D-4C9C-9B14-AAAA03D71256}" type="slidenum">
              <a:t>31</a:t>
            </a:fld>
          </a:p>
        </p:txBody>
      </p:sp>
    </p:spTree>
  </p:cSld>
  <p:transition>
    <p:random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 (cont’d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ther governance characteristics: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government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relationships between firms and governmen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and stable shareholders who exert littl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bsence of external market for corporat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B7832-4241-4C81-B6BB-201F98C5B8B5}" type="slidenum">
              <a:t>32</a:t>
            </a:fld>
          </a:p>
        </p:txBody>
      </p:sp>
    </p:spTree>
  </p:cSld>
  <p:transition>
    <p:random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Corporate Govern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2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rganizations worldwide are adopting a relatively uniform governance structure.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s of directors are becoming smaller, with more independent and outside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s are becoming more a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apidly developing market economies, minority shareholder rights are not protected by adequate governance contr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2C194-BBD1-46C9-942C-74A68EED0EA8}" type="slidenum">
              <a:t>33</a:t>
            </a:fld>
          </a:p>
        </p:txBody>
      </p:sp>
    </p:spTree>
  </p:cSld>
  <p:transition>
    <p:random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566640" y="4716360"/>
            <a:ext cx="2584440" cy="846360"/>
            <a:chOff x="566640" y="4716360"/>
            <a:chExt cx="2584440" cy="846360"/>
          </a:xfrm>
        </p:grpSpPr>
        <p:sp>
          <p:nvSpPr>
            <p:cNvPr id="280" name=""/>
            <p:cNvSpPr/>
            <p:nvPr/>
          </p:nvSpPr>
          <p:spPr>
            <a:xfrm>
              <a:off x="566640" y="471636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200" y="47743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66640" y="3835440"/>
            <a:ext cx="2584440" cy="846000"/>
            <a:chOff x="566640" y="3835440"/>
            <a:chExt cx="2584440" cy="846000"/>
          </a:xfrm>
        </p:grpSpPr>
        <p:sp>
          <p:nvSpPr>
            <p:cNvPr id="283" name=""/>
            <p:cNvSpPr/>
            <p:nvPr/>
          </p:nvSpPr>
          <p:spPr>
            <a:xfrm>
              <a:off x="566640" y="38354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5320" y="38890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518760"/>
            <a:ext cx="541008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Ethical Behavio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530520" y="3033720"/>
            <a:ext cx="51055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71360" indent="-1713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hareholders (in the capital market stakeholder group) are viewed as the most important stakeholder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e focus of governance mechanisms is on the control of managerial decisions to assure shareholder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terests of shareholders is served by the Board of Dire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302256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18"/>
                </a:lnTo>
                <a:cubicBezTo>
                  <a:pt x="10800" y="2929"/>
                  <a:pt x="5400" y="2940"/>
                  <a:pt x="0" y="2940"/>
                </a:cubicBezTo>
                <a:cubicBezTo>
                  <a:pt x="5400" y="2940"/>
                  <a:pt x="10800" y="2951"/>
                  <a:pt x="10800" y="296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65200" y="2963880"/>
            <a:ext cx="2584440" cy="846000"/>
            <a:chOff x="565200" y="2963880"/>
            <a:chExt cx="2584440" cy="846000"/>
          </a:xfrm>
        </p:grpSpPr>
        <p:sp>
          <p:nvSpPr>
            <p:cNvPr id="290" name=""/>
            <p:cNvSpPr/>
            <p:nvPr/>
          </p:nvSpPr>
          <p:spPr>
            <a:xfrm>
              <a:off x="565200" y="29638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3880" y="30178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A1247-115D-4888-9871-67BDB3A5CBA8}" type="slidenum">
              <a:t>34</a:t>
            </a:fld>
          </a:p>
        </p:txBody>
      </p:sp>
    </p:spTree>
  </p:cSld>
  <p:transition>
    <p:random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500"/>
                            </p:stCondLst>
                            <p:childTnLst>
                              <p:par>
                                <p:cTn id="9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9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500"/>
                            </p:stCondLst>
                            <p:childTnLst>
                              <p:par>
                                <p:cTn id="9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3000"/>
                            </p:stCondLst>
                            <p:childTnLst>
                              <p:par>
                                <p:cTn id="9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3500"/>
                            </p:stCondLst>
                            <p:childTnLst>
                              <p:par>
                                <p:cTn id="9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566640" y="4718160"/>
            <a:ext cx="2584440" cy="846000"/>
            <a:chOff x="566640" y="4718160"/>
            <a:chExt cx="2584440" cy="846000"/>
          </a:xfrm>
        </p:grpSpPr>
        <p:sp>
          <p:nvSpPr>
            <p:cNvPr id="293" name=""/>
            <p:cNvSpPr/>
            <p:nvPr/>
          </p:nvSpPr>
          <p:spPr>
            <a:xfrm>
              <a:off x="566640" y="471816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9200" y="47761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6640" y="3833640"/>
            <a:ext cx="2584440" cy="846360"/>
            <a:chOff x="566640" y="3833640"/>
            <a:chExt cx="2584440" cy="846360"/>
          </a:xfrm>
        </p:grpSpPr>
        <p:sp>
          <p:nvSpPr>
            <p:cNvPr id="296" name=""/>
            <p:cNvSpPr/>
            <p:nvPr/>
          </p:nvSpPr>
          <p:spPr>
            <a:xfrm>
              <a:off x="566640" y="383364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5320" y="38872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65200" y="2959200"/>
            <a:ext cx="2584440" cy="846000"/>
            <a:chOff x="565200" y="2959200"/>
            <a:chExt cx="2584440" cy="846000"/>
          </a:xfrm>
        </p:grpSpPr>
        <p:sp>
          <p:nvSpPr>
            <p:cNvPr id="299" name=""/>
            <p:cNvSpPr/>
            <p:nvPr/>
          </p:nvSpPr>
          <p:spPr>
            <a:xfrm>
              <a:off x="565200" y="295920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3880" y="301320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040200"/>
            <a:ext cx="49528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duct market stakeholders (customers, suppliers and host communities) and organizational stakeholders may withdraw their support of the firm if their needs are not met, at least minim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2997360"/>
            <a:ext cx="609840" cy="2082600"/>
          </a:xfrm>
          <a:custGeom>
            <a:avLst/>
            <a:gdLst>
              <a:gd name="textAreaLeft" fmla="*/ 389520 w 609840"/>
              <a:gd name="textAreaRight" fmla="*/ 610200 w 609840"/>
              <a:gd name="textAreaTop" fmla="*/ 360 h 2082600"/>
              <a:gd name="textAreaBottom" fmla="*/ 2082240 h 208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3001"/>
                </a:lnTo>
                <a:cubicBezTo>
                  <a:pt x="10800" y="13012"/>
                  <a:pt x="5400" y="13023"/>
                  <a:pt x="0" y="13023"/>
                </a:cubicBezTo>
                <a:cubicBezTo>
                  <a:pt x="5400" y="13023"/>
                  <a:pt x="10800" y="13034"/>
                  <a:pt x="10800" y="130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B25CC-C815-4002-8F86-86928257339E}" type="slidenum">
              <a:t>35</a:t>
            </a:fld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124080" y="297180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6703"/>
                </a:lnTo>
                <a:cubicBezTo>
                  <a:pt x="10800" y="16714"/>
                  <a:pt x="5400" y="16725"/>
                  <a:pt x="0" y="16725"/>
                </a:cubicBezTo>
                <a:cubicBezTo>
                  <a:pt x="5400" y="16725"/>
                  <a:pt x="10800" y="16736"/>
                  <a:pt x="10800" y="16747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66640" y="3822840"/>
            <a:ext cx="2584440" cy="846000"/>
            <a:chOff x="566640" y="3822840"/>
            <a:chExt cx="2584440" cy="846000"/>
          </a:xfrm>
        </p:grpSpPr>
        <p:sp>
          <p:nvSpPr>
            <p:cNvPr id="307" name=""/>
            <p:cNvSpPr/>
            <p:nvPr/>
          </p:nvSpPr>
          <p:spPr>
            <a:xfrm>
              <a:off x="566640" y="38228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5320" y="38764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566640" y="4710240"/>
            <a:ext cx="2584440" cy="846000"/>
            <a:chOff x="566640" y="4710240"/>
            <a:chExt cx="2584440" cy="846000"/>
          </a:xfrm>
        </p:grpSpPr>
        <p:sp>
          <p:nvSpPr>
            <p:cNvPr id="310" name=""/>
            <p:cNvSpPr/>
            <p:nvPr/>
          </p:nvSpPr>
          <p:spPr>
            <a:xfrm>
              <a:off x="566640" y="47102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9200" y="476820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65200" y="2951280"/>
            <a:ext cx="2584440" cy="846000"/>
            <a:chOff x="565200" y="2951280"/>
            <a:chExt cx="2584440" cy="846000"/>
          </a:xfrm>
        </p:grpSpPr>
        <p:sp>
          <p:nvSpPr>
            <p:cNvPr id="313" name=""/>
            <p:cNvSpPr/>
            <p:nvPr/>
          </p:nvSpPr>
          <p:spPr>
            <a:xfrm>
              <a:off x="565200" y="29512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23880" y="30052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1790640" y="1905120"/>
            <a:ext cx="55627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5320" y="3014640"/>
            <a:ext cx="49528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ome observers believe that ethically responsible companies design and use governance mechanisms that serve all stakeholders’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mportance of maintaining ethical behavior is seen in the examples of Enron, WorldCom, HealthSouth and Ty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29448-7CA2-43BD-8A78-952205FEA83A}" type="slidenum">
              <a:t>36</a:t>
            </a:fld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governance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relationship among stakeholders that is used to determine and control the strategic direction and performance of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identifying ways to ensure that strategic decisions are made more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ed in corporations to establish order between the firm’s owners and its top-level managers whose interests may be in confli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490D6-B014-42DC-9DA9-80979A09F8E1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992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ship Concent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s responsible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representing the firm’s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s by monitoring top-level managers’ strategic dec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6400" y="2401920"/>
            <a:ext cx="2801880" cy="209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D30ED-5B5B-431C-A000-0EE00BA53F3A}" type="slidenum">
              <a:t>5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486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ecutive Compens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use of salary, bonuses, and long-term incentives to align managers’ interests with shareholders’ intere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for Corporate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purchase of a firm that is underperforming relative to industry rivals in order to improve its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91320" y="2009880"/>
            <a:ext cx="287964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19782-F8E8-4494-89B6-41A828C112EF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23888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paration of Ownership and Managerial Contro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asis of the modern corpor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purchase stock, becoming residual claiman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reduce risk by holding diversified portfolio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fessional managers are contracted to provide decision making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odern public corporation form leads to efficient specialization of task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isk bearing by sharehold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y development and decision making by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6B2A5-43FD-4D69-833A-AC9ACD373F1D}" type="slidenum">
              <a:t>7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gency Relationship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1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391520" cy="45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7E1EF-B4BE-45B6-9CE1-8446968CCE94}" type="slidenum">
              <a:t>8</a:t>
            </a:fld>
          </a:p>
        </p:txBody>
      </p:sp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Relationship Proble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ncipal and agent have divergent interests and goa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s lack direct control of large, publicly trad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makes decisions that result in the pursuit of goals that conflict with those of the princip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t is difficult or expensive for the principal to verify that the agent has behaved appropriate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falls prey to managerial opportunis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AA4B7-ECE4-47F0-8C1D-F11024781B92}" type="slidenum">
              <a:t>9</a:t>
            </a:fld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8:42Z</dcterms:modified>
  <cp:revision>46</cp:revision>
  <dc:subject>Chapter 10</dc:subject>
  <dc:title>Strategic Management 7e.</dc:title>
</cp:coreProperties>
</file>