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0FF95-61A8-4E59-8CFD-2F1EA8B907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4193B-FE5A-472C-807A-CAD0033DA2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AF245-1815-4EF1-A357-35CA20D14B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0F1EB-FDB5-4BED-805A-E45C0940F8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9A81F-EAAC-44A2-A36D-90F26800CC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229DB-FB91-4823-B928-4EFA02CC98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7BA17-8133-4566-84C8-EC37146012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2F390-6AA2-41A4-81D9-EDEBA333D6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EFCFE-C313-4FF8-9484-3910DB5C10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6022E-CA91-41F8-88D6-77D1B75DE0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7863E-67DA-46A8-BC0F-F6D283C64C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7D77E-5417-43CB-AB11-0EB2C4D512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554DC-990D-4558-8EE4-392BC2C991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DF0AC-8D35-4A22-B8DC-5F3F59590A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94FE4-EF8B-4009-B5A8-3F169E5B5F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B2531-47E5-4600-90E3-3F1B2982F7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83839-F14E-4811-B086-38A9D953F3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6A015-CA76-4E88-A2E5-2E71F3C1C6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21472-E208-49BC-9BE5-1A790EBF10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C6737-9B1E-4D82-8D15-D7ADDC30A7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DF575-1F09-451D-8F01-5576006E06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88B51-D0AC-4C8E-9F56-25748BC6B5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39E43-FB77-41A1-8C82-EB21F3A400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584A1-4676-4999-8E19-2EE8B8F331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37090-892A-4BF8-A787-6F617E0661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8B784-8B31-4206-A45E-B33EC5131A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DDDAB-FA45-4814-B8FC-8F71FE6FC7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F5EF2-C2EA-475B-8E82-772ABBCD32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44F0DE-D88F-461A-BA45-3436FD1D79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4C3F7D-A745-4026-9F23-D734ED35F0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35D41F-91E4-4E60-9D21-2408C4EDB1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94E5F3-DE40-4B92-BBEB-F53E882410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269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04CE88-3863-4D92-B6BA-2C41D324AF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8BB709-9963-4CB5-B95A-DB6D56EC25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F52799-563C-42FD-85C4-3F935FA5A5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41DBBA-CEC9-4471-B379-E8BF08ACB2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269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24CE7D-9E3D-47FC-B000-5FCEC3826B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732F72-AC90-47E8-8F39-FCC848E06C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0617D0-5880-4AAB-8DBB-FBC61E5AD0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640E68-98D5-460C-A6AB-687DC100F0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lick to edit the title text format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533160" y="6400440"/>
            <a:ext cx="57150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76760"/>
            <a:ext cx="12952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–</a:t>
            </a:r>
            <a:fld id="{E7449F03-6E5B-4671-BE53-67DEF3FA0C15}" type="slidenum"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830680" cy="6858000"/>
          </a:xfrm>
          <a:prstGeom prst="rect">
            <a:avLst/>
          </a:prstGeom>
          <a:ln w="0">
            <a:noFill/>
          </a:ln>
        </p:spPr>
      </p:pic>
      <p:pic>
        <p:nvPicPr>
          <p:cNvPr id="41" name="" descr=""/>
          <p:cNvPicPr/>
          <p:nvPr/>
        </p:nvPicPr>
        <p:blipFill>
          <a:blip r:embed="rId3"/>
          <a:stretch/>
        </p:blipFill>
        <p:spPr>
          <a:xfrm>
            <a:off x="2819520" y="0"/>
            <a:ext cx="6324480" cy="441972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4"/>
          <a:stretch/>
        </p:blipFill>
        <p:spPr>
          <a:xfrm>
            <a:off x="2819520" y="4419720"/>
            <a:ext cx="6324480" cy="24382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819520" y="0"/>
            <a:ext cx="0" cy="6858000"/>
          </a:xfrm>
          <a:prstGeom prst="line">
            <a:avLst/>
          </a:prstGeom>
          <a:ln w="572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4419720"/>
            <a:ext cx="6324480" cy="0"/>
          </a:xfrm>
          <a:prstGeom prst="line">
            <a:avLst/>
          </a:prstGeom>
          <a:ln w="572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352320" y="1938240"/>
            <a:ext cx="480060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3"/>
          </p:nvPr>
        </p:nvSpPr>
        <p:spPr>
          <a:xfrm>
            <a:off x="304560" y="6035760"/>
            <a:ext cx="23619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0066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6666"/>
                </a:solidFill>
                <a:latin typeface="Times New Roman"/>
              </a:rPr>
              <a:t>© 2007 Thomson/South-Western.</a:t>
            </a:r>
            <a:br>
              <a:rPr sz="800"/>
            </a:br>
            <a:r>
              <a:rPr b="1" lang="en-US" sz="800" spc="-1" strike="noStrike">
                <a:solidFill>
                  <a:srgbClr val="006666"/>
                </a:solidFill>
                <a:latin typeface="Times New Roman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04920" y="5791320"/>
            <a:ext cx="236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6666"/>
                </a:solidFill>
                <a:latin typeface="Arial"/>
              </a:rPr>
              <a:t>PowerPoint Presentation by Charlie Cook</a:t>
            </a:r>
            <a:br>
              <a:rPr sz="800"/>
            </a:br>
            <a:r>
              <a:rPr b="1" lang="en-US" sz="800" spc="-1" strike="noStrike">
                <a:solidFill>
                  <a:srgbClr val="006666"/>
                </a:solidFill>
                <a:latin typeface="Arial"/>
              </a:rPr>
              <a:t>The University of West Alabam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80000"/>
            <a:ext cx="51055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Strategic Management</a:t>
            </a:r>
            <a:br>
              <a:rPr sz="3200"/>
            </a:b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ompetitiveness and Globalization: Concepts and Cases</a:t>
            </a:r>
            <a:r>
              <a:rPr b="1" i="1" lang="en-US" sz="2400" spc="-1" strike="noStrike">
                <a:solidFill>
                  <a:srgbClr val="006666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48080" y="6095880"/>
            <a:ext cx="510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ichael A. Hitt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. Duane Ireland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obert E. Hoskis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629400" y="560700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66"/>
                </a:solidFill>
                <a:latin typeface="Arial"/>
              </a:rPr>
              <a:t>Seventh e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3048120"/>
            <a:ext cx="2133720" cy="180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TEGIC</a:t>
            </a:r>
            <a:br>
              <a:rPr sz="1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TIONS:</a:t>
            </a:r>
            <a:br>
              <a:rPr sz="1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TEGY</a:t>
            </a:r>
            <a:br>
              <a:rPr sz="1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RM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200400" y="2590920"/>
            <a:ext cx="5562720" cy="9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Tahoma"/>
              </a:rPr>
              <a:t>CHAPTER 9</a:t>
            </a:r>
            <a:br>
              <a:rPr sz="2800"/>
            </a:br>
            <a:r>
              <a:rPr b="0" i="1" lang="en-US" sz="3600" spc="-1" strike="noStrike">
                <a:solidFill>
                  <a:srgbClr val="000000"/>
                </a:solidFill>
                <a:latin typeface="Tahoma"/>
              </a:rPr>
              <a:t>Cooperative Strategy</a:t>
            </a:r>
            <a:endParaRPr b="0" i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asons for Strategic Allianc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1219320"/>
            <a:ext cx="156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Mark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124080" y="1219320"/>
            <a:ext cx="497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Rea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7360" y="1884240"/>
            <a:ext cx="28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Slow Cy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124080" y="1884240"/>
            <a:ext cx="5440320" cy="30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ain access to a restricted mark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tablish a franchise in a new mark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ntain market stability (e.g., establishing standard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727D1F-E47C-4586-B0F2-1702619E2B37}" type="slidenum">
              <a:t>10</a:t>
            </a:fld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asons for Strategic Alliance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380880" y="1219320"/>
            <a:ext cx="1952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Mark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895480" y="1219320"/>
            <a:ext cx="497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Rea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57200" y="19080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Fast Cy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895480" y="1908000"/>
            <a:ext cx="5410440" cy="40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ed up development of new goods or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ed up new market e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ntain market leader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 an industry technology stand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re risky R&amp;D expen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come uncertain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FB0237-7DD0-4C4C-B923-9A578D707EB8}" type="slidenum">
              <a:t>11</a:t>
            </a:fld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asons for Strategic Alliance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50" name=""/>
          <p:cNvSpPr/>
          <p:nvPr/>
        </p:nvSpPr>
        <p:spPr>
          <a:xfrm>
            <a:off x="380880" y="1219320"/>
            <a:ext cx="187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Mark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398760" y="1219320"/>
            <a:ext cx="497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Rea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80880" y="1851120"/>
            <a:ext cx="28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00"/>
                </a:solidFill>
                <a:latin typeface="Arial"/>
              </a:rPr>
              <a:t>Standard Cy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398760" y="1851120"/>
            <a:ext cx="5211720" cy="43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in market power (reduce industry overcapacit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in access to complementary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ablish economies of 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come trade barr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et competitive challenges from other competi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ol resources for very large capital pro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rn new business techn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F466D4-CFD7-4C10-96D6-42598B245696}" type="slidenum">
              <a:t>12</a:t>
            </a:fld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934400" cy="368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6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800" spc="-1" strike="noStrike">
                <a:solidFill>
                  <a:srgbClr val="cc3300"/>
                </a:solidFill>
                <a:latin typeface="Arial"/>
              </a:rPr>
              <a:t>9.1</a:t>
            </a:r>
            <a:r>
              <a:rPr b="1" i="1" lang="en-US" sz="16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usiness-Level Cooperative Strategies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55" name=""/>
          <p:cNvSpPr/>
          <p:nvPr/>
        </p:nvSpPr>
        <p:spPr>
          <a:xfrm>
            <a:off x="457200" y="457200"/>
            <a:ext cx="8229600" cy="46656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457200" y="577800"/>
            <a:ext cx="1828800" cy="479160"/>
            <a:chOff x="457200" y="577800"/>
            <a:chExt cx="1828800" cy="479160"/>
          </a:xfrm>
        </p:grpSpPr>
        <p:sp>
          <p:nvSpPr>
            <p:cNvPr id="157" name=""/>
            <p:cNvSpPr/>
            <p:nvPr/>
          </p:nvSpPr>
          <p:spPr>
            <a:xfrm>
              <a:off x="685800" y="57780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57200" y="88416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1390680" y="1333440"/>
            <a:ext cx="6362640" cy="4191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5B79CC-88A2-465D-8B46-236B358035CA}" type="slidenum">
              <a:t>13</a:t>
            </a:fld>
          </a:p>
        </p:txBody>
      </p:sp>
    </p:spTree>
  </p:cSld>
  <p:transition>
    <p:random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Business-Level Cooperative Strategi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905280" y="1371600"/>
            <a:ext cx="47815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Combine partner firms’ assets in complementary ways to create new value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Include distribution, supplier or outsourcing alliances where firms rely on upstream or downstream partners to build competitive advantage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352680" y="1371600"/>
            <a:ext cx="838440" cy="2819520"/>
          </a:xfrm>
          <a:custGeom>
            <a:avLst/>
            <a:gdLst>
              <a:gd name="textAreaLeft" fmla="*/ 535680 w 838440"/>
              <a:gd name="textAreaRight" fmla="*/ 838800 w 838440"/>
              <a:gd name="textAreaTop" fmla="*/ 0 h 2819520"/>
              <a:gd name="textAreaBottom" fmla="*/ 2819880 h 2819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3892"/>
                </a:lnTo>
                <a:cubicBezTo>
                  <a:pt x="10800" y="3892"/>
                  <a:pt x="5400" y="3892"/>
                  <a:pt x="0" y="3892"/>
                </a:cubicBezTo>
                <a:cubicBezTo>
                  <a:pt x="5400" y="3892"/>
                  <a:pt x="10800" y="3892"/>
                  <a:pt x="10800" y="3892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549360" y="1332000"/>
            <a:ext cx="2955960" cy="1030320"/>
            <a:chOff x="549360" y="1332000"/>
            <a:chExt cx="2955960" cy="1030320"/>
          </a:xfrm>
        </p:grpSpPr>
        <p:sp>
          <p:nvSpPr>
            <p:cNvPr id="164" name=""/>
            <p:cNvSpPr/>
            <p:nvPr/>
          </p:nvSpPr>
          <p:spPr>
            <a:xfrm>
              <a:off x="549360" y="1332000"/>
              <a:ext cx="2955960" cy="103032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05520" y="1390680"/>
              <a:ext cx="2842920" cy="9129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Complementar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Allianc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4B4A2E-08AC-4BA9-A90A-ECA75825BE71}" type="slidenum">
              <a:t>14</a:t>
            </a:fld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000"/>
                            </p:stCondLst>
                            <p:childTnLst>
                              <p:par>
                                <p:cTn id="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500"/>
                            </p:stCondLst>
                            <p:childTnLst>
                              <p:par>
                                <p:cTn id="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1870200" y="304920"/>
            <a:ext cx="5445000" cy="601956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2"/>
          <a:srcRect l="686" t="0" r="3416" b="0"/>
          <a:stretch/>
        </p:blipFill>
        <p:spPr>
          <a:xfrm>
            <a:off x="6578640" y="4572000"/>
            <a:ext cx="2066760" cy="167652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934320" y="4686480"/>
            <a:ext cx="1752480" cy="1496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600" spc="-1" strike="noStrike">
                <a:solidFill>
                  <a:srgbClr val="cc3300"/>
                </a:solidFill>
                <a:latin typeface="Arial"/>
              </a:rPr>
              <a:t>9.2</a:t>
            </a:r>
            <a:r>
              <a:rPr b="1" i="1" lang="en-US" sz="1200" spc="-1" strike="noStrike">
                <a:solidFill>
                  <a:srgbClr val="cc3300"/>
                </a:solidFill>
                <a:latin typeface="Tahoma"/>
              </a:rPr>
              <a:t> </a:t>
            </a:r>
            <a:br>
              <a:rPr sz="1200"/>
            </a:br>
            <a:br>
              <a:rPr sz="12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ertical and Horizontal Complementary Strategic Alliances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69" name=""/>
          <p:cNvSpPr/>
          <p:nvPr/>
        </p:nvSpPr>
        <p:spPr>
          <a:xfrm>
            <a:off x="6856560" y="4718160"/>
            <a:ext cx="0" cy="479160"/>
          </a:xfrm>
          <a:prstGeom prst="line">
            <a:avLst/>
          </a:prstGeom>
          <a:ln w="284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627960" y="5014800"/>
            <a:ext cx="1828800" cy="0"/>
          </a:xfrm>
          <a:prstGeom prst="line">
            <a:avLst/>
          </a:prstGeom>
          <a:ln w="572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874839-50D3-4082-9747-3E8623E710E1}" type="slidenum">
              <a:t>15</a:t>
            </a:fld>
          </a:p>
        </p:txBody>
      </p:sp>
    </p:spTree>
  </p:cSld>
  <p:transition>
    <p:random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8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mplementary Strategic Allianc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3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Vertical Complementary Strategic Alliance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Formed between firms that agree to use their skills and capabilities in different stages of the value chain to create value for both firms.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1012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sourcing is one example of this type of alli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spcBef>
                <a:spcPts val="13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Horizontal Complementary Strategic Alliance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Formed when partners who agree to combine their resources and skills to create value in the same stage of the value chain.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1012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cus is on long-term product development and distribution opportuniti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012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artners may become competitors which requires a great deal of trust between the partn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07719A-4363-408C-BD07-64B9DF74E0C3}" type="slidenum">
              <a:t>16</a:t>
            </a:fld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mpetition Response Strategy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062240" y="1409400"/>
            <a:ext cx="4624560" cy="33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81520" indent="-281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Occur when firms join forces to respond to a strategic action of another competitor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281520" indent="-281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Because they can be difficult to reverse and expensive to operate, strategic alliances are primarily formed to respond to strategic rather than tactical action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505320" y="1447920"/>
            <a:ext cx="838080" cy="3352680"/>
          </a:xfrm>
          <a:custGeom>
            <a:avLst/>
            <a:gdLst>
              <a:gd name="textAreaLeft" fmla="*/ 535320 w 838080"/>
              <a:gd name="textAreaRight" fmla="*/ 838440 w 838080"/>
              <a:gd name="textAreaTop" fmla="*/ 0 h 3352680"/>
              <a:gd name="textAreaBottom" fmla="*/ 3353040 h 3352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10299"/>
                </a:lnTo>
                <a:cubicBezTo>
                  <a:pt x="10800" y="10299"/>
                  <a:pt x="5400" y="10299"/>
                  <a:pt x="0" y="10299"/>
                </a:cubicBezTo>
                <a:cubicBezTo>
                  <a:pt x="5400" y="10299"/>
                  <a:pt x="10800" y="10299"/>
                  <a:pt x="10800" y="10299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20560" y="1407960"/>
            <a:ext cx="3124440" cy="1106280"/>
            <a:chOff x="520560" y="1407960"/>
            <a:chExt cx="3124440" cy="1106280"/>
          </a:xfrm>
        </p:grpSpPr>
        <p:sp>
          <p:nvSpPr>
            <p:cNvPr id="177" name=""/>
            <p:cNvSpPr/>
            <p:nvPr/>
          </p:nvSpPr>
          <p:spPr>
            <a:xfrm>
              <a:off x="520560" y="1407960"/>
              <a:ext cx="3124440" cy="110628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79960" y="1470960"/>
              <a:ext cx="3005280" cy="98028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omplementar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Allianc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533520" y="2548080"/>
            <a:ext cx="3124080" cy="1053720"/>
            <a:chOff x="533520" y="2548080"/>
            <a:chExt cx="3124080" cy="1053720"/>
          </a:xfrm>
        </p:grpSpPr>
        <p:sp>
          <p:nvSpPr>
            <p:cNvPr id="180" name=""/>
            <p:cNvSpPr/>
            <p:nvPr/>
          </p:nvSpPr>
          <p:spPr>
            <a:xfrm>
              <a:off x="533520" y="2548080"/>
              <a:ext cx="3124080" cy="105372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92920" y="2607840"/>
              <a:ext cx="3004920" cy="9338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Competition </a:t>
              </a:r>
              <a:br>
                <a:rPr sz="2400"/>
              </a:b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Response Allianc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CDFF8D-7C84-4C1A-8054-9BB9E40E0848}" type="slidenum">
              <a:t>17</a:t>
            </a:fld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000"/>
                            </p:stCondLst>
                            <p:childTnLst>
                              <p:par>
                                <p:cTn id="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500"/>
                            </p:stCondLst>
                            <p:childTnLst>
                              <p:par>
                                <p:cTn id="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2000"/>
                            </p:stCondLst>
                            <p:childTnLst>
                              <p:par>
                                <p:cTn id="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6699"/>
                </a:solidFill>
                <a:uFillTx/>
                <a:latin typeface="Tahoma"/>
              </a:rPr>
              <a:t>Uncertainty-Reducing Strategy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062240" y="1379520"/>
            <a:ext cx="4546800" cy="439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Are used to hedge against risk and uncertainty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These alliances are most noticed in fast-cycle markets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An alliance may be formed to reduce the uncertainty associated with developing new product or technology standard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05320" y="1447920"/>
            <a:ext cx="838080" cy="3429000"/>
          </a:xfrm>
          <a:custGeom>
            <a:avLst/>
            <a:gdLst>
              <a:gd name="textAreaLeft" fmla="*/ 535320 w 838080"/>
              <a:gd name="textAreaRight" fmla="*/ 838440 w 838080"/>
              <a:gd name="textAreaTop" fmla="*/ 0 h 3429000"/>
              <a:gd name="textAreaBottom" fmla="*/ 3429360 h 3429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16930"/>
                </a:lnTo>
                <a:cubicBezTo>
                  <a:pt x="10800" y="16930"/>
                  <a:pt x="5400" y="16930"/>
                  <a:pt x="0" y="16930"/>
                </a:cubicBezTo>
                <a:cubicBezTo>
                  <a:pt x="5400" y="16930"/>
                  <a:pt x="10800" y="16930"/>
                  <a:pt x="10800" y="16930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520560" y="1422360"/>
            <a:ext cx="3124440" cy="1106280"/>
            <a:chOff x="520560" y="1422360"/>
            <a:chExt cx="3124440" cy="1106280"/>
          </a:xfrm>
        </p:grpSpPr>
        <p:sp>
          <p:nvSpPr>
            <p:cNvPr id="186" name=""/>
            <p:cNvSpPr/>
            <p:nvPr/>
          </p:nvSpPr>
          <p:spPr>
            <a:xfrm>
              <a:off x="520560" y="1422360"/>
              <a:ext cx="3124440" cy="110628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79960" y="1485360"/>
              <a:ext cx="3005280" cy="98028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omplementar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Allianc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533520" y="2560680"/>
            <a:ext cx="3124080" cy="1053720"/>
            <a:chOff x="533520" y="2560680"/>
            <a:chExt cx="3124080" cy="1053720"/>
          </a:xfrm>
        </p:grpSpPr>
        <p:sp>
          <p:nvSpPr>
            <p:cNvPr id="189" name=""/>
            <p:cNvSpPr/>
            <p:nvPr/>
          </p:nvSpPr>
          <p:spPr>
            <a:xfrm>
              <a:off x="533520" y="2560680"/>
              <a:ext cx="3124080" cy="105372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92920" y="2620440"/>
              <a:ext cx="3004920" cy="9338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ompetition 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Response Allianc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533520" y="3643200"/>
            <a:ext cx="3124080" cy="1066680"/>
            <a:chOff x="533520" y="3643200"/>
            <a:chExt cx="3124080" cy="1066680"/>
          </a:xfrm>
        </p:grpSpPr>
        <p:sp>
          <p:nvSpPr>
            <p:cNvPr id="192" name=""/>
            <p:cNvSpPr/>
            <p:nvPr/>
          </p:nvSpPr>
          <p:spPr>
            <a:xfrm>
              <a:off x="533520" y="3643200"/>
              <a:ext cx="3124080" cy="106668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92920" y="3703680"/>
              <a:ext cx="3004920" cy="9453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Uncertainty</a:t>
              </a:r>
              <a:br>
                <a:rPr sz="2400"/>
              </a:b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Reducing Allianc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2DC330-811B-4429-9B6C-011299E28BA2}" type="slidenum">
              <a:t>18</a:t>
            </a:fld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1000"/>
                            </p:stCondLst>
                            <p:childTnLst>
                              <p:par>
                                <p:cTn id="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500"/>
                            </p:stCondLst>
                            <p:childTnLst>
                              <p:par>
                                <p:cTn id="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2000"/>
                            </p:stCondLst>
                            <p:childTnLst>
                              <p:par>
                                <p:cTn id="1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2500"/>
                            </p:stCondLst>
                            <p:childTnLst>
                              <p:par>
                                <p:cTn id="1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6699"/>
                </a:solidFill>
                <a:uFillTx/>
                <a:latin typeface="Tahoma"/>
              </a:rPr>
              <a:t>Competition-Reducing Strategy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038480" y="2161800"/>
            <a:ext cx="4648320" cy="35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87280" indent="-287280">
              <a:spcBef>
                <a:spcPts val="4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Created to avoid destructive or excessive competition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287280" indent="-287280">
              <a:spcBef>
                <a:spcPts val="499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Explicit collusion: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 when firms directly negotiate production output and pricing agreements in order to reduce competition (illegal)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287280" indent="-287280">
              <a:spcBef>
                <a:spcPts val="4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Tacit collusion: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 when firms in an industry indirectly coordinate their production and pricing decisions by observing other firm’s actions and responses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505320" y="2127240"/>
            <a:ext cx="838080" cy="3657600"/>
          </a:xfrm>
          <a:custGeom>
            <a:avLst/>
            <a:gdLst>
              <a:gd name="textAreaLeft" fmla="*/ 535320 w 838080"/>
              <a:gd name="textAreaRight" fmla="*/ 838440 w 838080"/>
              <a:gd name="textAreaTop" fmla="*/ 0 h 3657600"/>
              <a:gd name="textAreaBottom" fmla="*/ 3657960 h 3657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18703"/>
                </a:lnTo>
                <a:cubicBezTo>
                  <a:pt x="10800" y="18703"/>
                  <a:pt x="5400" y="18703"/>
                  <a:pt x="0" y="18703"/>
                </a:cubicBezTo>
                <a:cubicBezTo>
                  <a:pt x="5400" y="18703"/>
                  <a:pt x="10800" y="18703"/>
                  <a:pt x="10800" y="18703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520560" y="1422360"/>
            <a:ext cx="3124440" cy="1106280"/>
            <a:chOff x="520560" y="1422360"/>
            <a:chExt cx="3124440" cy="1106280"/>
          </a:xfrm>
        </p:grpSpPr>
        <p:sp>
          <p:nvSpPr>
            <p:cNvPr id="198" name=""/>
            <p:cNvSpPr/>
            <p:nvPr/>
          </p:nvSpPr>
          <p:spPr>
            <a:xfrm>
              <a:off x="520560" y="1422360"/>
              <a:ext cx="3124440" cy="110628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79960" y="1485360"/>
              <a:ext cx="3005280" cy="98028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omplementar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Allianc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" name=""/>
          <p:cNvGrpSpPr/>
          <p:nvPr/>
        </p:nvGrpSpPr>
        <p:grpSpPr>
          <a:xfrm>
            <a:off x="533520" y="2560680"/>
            <a:ext cx="3124080" cy="1053720"/>
            <a:chOff x="533520" y="2560680"/>
            <a:chExt cx="3124080" cy="1053720"/>
          </a:xfrm>
        </p:grpSpPr>
        <p:sp>
          <p:nvSpPr>
            <p:cNvPr id="201" name=""/>
            <p:cNvSpPr/>
            <p:nvPr/>
          </p:nvSpPr>
          <p:spPr>
            <a:xfrm>
              <a:off x="533520" y="2560680"/>
              <a:ext cx="3124080" cy="105372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92920" y="2620440"/>
              <a:ext cx="3004920" cy="9338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ompetition 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Response Allianc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533520" y="3643200"/>
            <a:ext cx="3124080" cy="1066680"/>
            <a:chOff x="533520" y="3643200"/>
            <a:chExt cx="3124080" cy="1066680"/>
          </a:xfrm>
        </p:grpSpPr>
        <p:sp>
          <p:nvSpPr>
            <p:cNvPr id="204" name=""/>
            <p:cNvSpPr/>
            <p:nvPr/>
          </p:nvSpPr>
          <p:spPr>
            <a:xfrm>
              <a:off x="533520" y="3643200"/>
              <a:ext cx="3124080" cy="106668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92920" y="3703680"/>
              <a:ext cx="3004920" cy="9453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Uncertaint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Reducing Allianc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533520" y="4724280"/>
            <a:ext cx="3124080" cy="1066680"/>
            <a:chOff x="533520" y="4724280"/>
            <a:chExt cx="3124080" cy="1066680"/>
          </a:xfrm>
        </p:grpSpPr>
        <p:sp>
          <p:nvSpPr>
            <p:cNvPr id="207" name=""/>
            <p:cNvSpPr/>
            <p:nvPr/>
          </p:nvSpPr>
          <p:spPr>
            <a:xfrm>
              <a:off x="533520" y="4724280"/>
              <a:ext cx="3124080" cy="106668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92920" y="4784760"/>
              <a:ext cx="3004920" cy="9453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Competition</a:t>
              </a:r>
              <a:br>
                <a:rPr sz="2400"/>
              </a:b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Reducing Allianc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30C999-6870-4AEE-AED9-21B1B5C37C11}" type="slidenum">
              <a:t>19</a:t>
            </a:fld>
          </a:p>
        </p:txBody>
      </p: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500"/>
                            </p:stCondLst>
                            <p:childTnLst>
                              <p:par>
                                <p:cTn id="1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2500"/>
                            </p:stCondLst>
                            <p:childTnLst>
                              <p:par>
                                <p:cTn id="1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4267080" cy="459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K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NOWLEDGE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O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BJECTIVES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47840" y="190512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500"/>
              </a:spcBef>
              <a:buClr>
                <a:srgbClr val="00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cooperative strategies and explain why firms use them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533520" indent="-533520">
              <a:spcBef>
                <a:spcPts val="1500"/>
              </a:spcBef>
              <a:buClr>
                <a:srgbClr val="00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and discuss three types of strategic alliance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533520" indent="-533520">
              <a:spcBef>
                <a:spcPts val="1500"/>
              </a:spcBef>
              <a:buClr>
                <a:srgbClr val="00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me the business-level cooperative strategies and describe their use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533520" indent="-533520">
              <a:spcBef>
                <a:spcPts val="1500"/>
              </a:spcBef>
              <a:buClr>
                <a:srgbClr val="00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uss the use of corporate-level cooperative strategies in diversified firm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533520" indent="-533520">
              <a:spcBef>
                <a:spcPts val="1500"/>
              </a:spcBef>
              <a:buClr>
                <a:srgbClr val="00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stand the importance of cross-border strategic alliances as an international cooperative strategy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99960" y="1047600"/>
            <a:ext cx="832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udying this chapter should provide you with the strategic management knowledge needed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C07DE4-3A1E-4A2D-9A99-C264CC2E4C49}" type="slidenum">
              <a:t>2</a:t>
            </a:fld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Assessment of Cooperative Strategi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5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Complementary business-level strategic alliances, especially the vertical ones, have the greatest probability of creating a sustainable competitive advantage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15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Horizontal complementary alliances are sometimes difficult to maintain because they are often between rival competitor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15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Competitive advantages gained from competition and uncertainty reducing strategies tend to be temporary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63244F-6A8D-4D84-97BE-89DE490950E6}" type="slidenum">
              <a:t>20</a:t>
            </a:fld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8080" y="463680"/>
            <a:ext cx="7934400" cy="39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6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800" spc="-1" strike="noStrike">
                <a:solidFill>
                  <a:srgbClr val="cc3300"/>
                </a:solidFill>
                <a:latin typeface="Arial"/>
              </a:rPr>
              <a:t>9.3</a:t>
            </a:r>
            <a:r>
              <a:rPr b="1" i="1" lang="en-US" sz="16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rporate-Level Cooperative Strategies</a:t>
            </a:r>
            <a:endParaRPr b="0" lang="en-US" sz="20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12" name=""/>
          <p:cNvSpPr/>
          <p:nvPr/>
        </p:nvSpPr>
        <p:spPr>
          <a:xfrm>
            <a:off x="457200" y="457200"/>
            <a:ext cx="8229600" cy="46656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457200" y="577800"/>
            <a:ext cx="1828800" cy="479160"/>
            <a:chOff x="457200" y="577800"/>
            <a:chExt cx="1828800" cy="479160"/>
          </a:xfrm>
        </p:grpSpPr>
        <p:sp>
          <p:nvSpPr>
            <p:cNvPr id="214" name=""/>
            <p:cNvSpPr/>
            <p:nvPr/>
          </p:nvSpPr>
          <p:spPr>
            <a:xfrm>
              <a:off x="685800" y="57780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57200" y="88416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1523880" y="1576440"/>
            <a:ext cx="6043680" cy="3105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700739-49BF-46C1-A629-9E9897F1B030}" type="slidenum">
              <a:t>21</a:t>
            </a:fld>
          </a:p>
        </p:txBody>
      </p:sp>
    </p:spTree>
  </p:cSld>
  <p:transition>
    <p:random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1000"/>
                            </p:stCondLst>
                            <p:childTnLst>
                              <p:par>
                                <p:cTn id="1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rporate-Level Cooperative Strategy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orporate-level Strategie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Help the firm diversify in terms of: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ts offered to the mark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arkets it ser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Require fewer resource commitmen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ermit greater flexibility in terms of efforts to diversify partners’ operation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B9A7AC-B233-4A0C-9008-C42EE9D21E73}" type="slidenum">
              <a:t>22</a:t>
            </a:fld>
          </a:p>
        </p:txBody>
      </p:sp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6699"/>
                </a:solidFill>
                <a:uFillTx/>
                <a:latin typeface="Tahoma"/>
              </a:rPr>
              <a:t>Diversifying Strategic Allianc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009680" y="1447920"/>
            <a:ext cx="45464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4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Allows a firm to expand into new product or market areas without completing a merger or an acquisition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4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Provides some of the potential synergistic benefits of a merger or acquisition, but with less risk and greater levels of flexibility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4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Permits a “test” of whether a future merger between the partners would benefit both parties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505320" y="1447920"/>
            <a:ext cx="838080" cy="3581280"/>
          </a:xfrm>
          <a:custGeom>
            <a:avLst/>
            <a:gdLst>
              <a:gd name="textAreaLeft" fmla="*/ 535320 w 838080"/>
              <a:gd name="textAreaRight" fmla="*/ 838440 w 838080"/>
              <a:gd name="textAreaTop" fmla="*/ 0 h 3581280"/>
              <a:gd name="textAreaBottom" fmla="*/ 3581640 h 3581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3255"/>
                </a:lnTo>
                <a:cubicBezTo>
                  <a:pt x="10800" y="3255"/>
                  <a:pt x="5400" y="3255"/>
                  <a:pt x="0" y="3255"/>
                </a:cubicBezTo>
                <a:cubicBezTo>
                  <a:pt x="5400" y="3255"/>
                  <a:pt x="10800" y="3255"/>
                  <a:pt x="10800" y="3255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520560" y="1422360"/>
            <a:ext cx="3124440" cy="1066320"/>
            <a:chOff x="520560" y="1422360"/>
            <a:chExt cx="3124440" cy="1066320"/>
          </a:xfrm>
        </p:grpSpPr>
        <p:sp>
          <p:nvSpPr>
            <p:cNvPr id="223" name=""/>
            <p:cNvSpPr/>
            <p:nvPr/>
          </p:nvSpPr>
          <p:spPr>
            <a:xfrm>
              <a:off x="520560" y="1422360"/>
              <a:ext cx="3124440" cy="106632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79960" y="1482840"/>
              <a:ext cx="3005280" cy="94500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Diversifying</a:t>
              </a:r>
              <a:br>
                <a:rPr sz="2400"/>
              </a:b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Strategic Allia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F869E9-8414-43AF-B812-831E1E6AAA7B}" type="slidenum">
              <a:t>23</a:t>
            </a:fld>
          </a:p>
        </p:txBody>
      </p:sp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500"/>
                            </p:stCondLst>
                            <p:childTnLst>
                              <p:par>
                                <p:cTn id="15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1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000"/>
                            </p:stCondLst>
                            <p:childTnLst>
                              <p:par>
                                <p:cTn id="1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500"/>
                            </p:stCondLst>
                            <p:childTnLst>
                              <p:par>
                                <p:cTn id="1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2000"/>
                            </p:stCondLst>
                            <p:childTnLst>
                              <p:par>
                                <p:cTn id="1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250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6699"/>
                </a:solidFill>
                <a:uFillTx/>
                <a:latin typeface="Tahoma"/>
              </a:rPr>
              <a:t>Synergistic Strategic Allianc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962160" y="1483920"/>
            <a:ext cx="4546440" cy="27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87280" indent="-2872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Creates joint economies of scope between two or more firm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287280" indent="-2872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Creates synergy across multiple functions or multiple businesses between partner firm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505320" y="1447920"/>
            <a:ext cx="838080" cy="2743200"/>
          </a:xfrm>
          <a:custGeom>
            <a:avLst/>
            <a:gdLst>
              <a:gd name="textAreaLeft" fmla="*/ 535320 w 838080"/>
              <a:gd name="textAreaRight" fmla="*/ 838440 w 838080"/>
              <a:gd name="textAreaTop" fmla="*/ 0 h 2743200"/>
              <a:gd name="textAreaBottom" fmla="*/ 2743560 h 2743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12850"/>
                </a:lnTo>
                <a:cubicBezTo>
                  <a:pt x="10800" y="12850"/>
                  <a:pt x="5400" y="12850"/>
                  <a:pt x="0" y="12850"/>
                </a:cubicBezTo>
                <a:cubicBezTo>
                  <a:pt x="5400" y="12850"/>
                  <a:pt x="10800" y="12850"/>
                  <a:pt x="10800" y="12850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520560" y="1422360"/>
            <a:ext cx="3124440" cy="1106280"/>
            <a:chOff x="520560" y="1422360"/>
            <a:chExt cx="3124440" cy="1106280"/>
          </a:xfrm>
        </p:grpSpPr>
        <p:sp>
          <p:nvSpPr>
            <p:cNvPr id="229" name=""/>
            <p:cNvSpPr/>
            <p:nvPr/>
          </p:nvSpPr>
          <p:spPr>
            <a:xfrm>
              <a:off x="520560" y="1422360"/>
              <a:ext cx="3124440" cy="110628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79960" y="1485360"/>
              <a:ext cx="3005280" cy="98028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versifying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trategic Allia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520560" y="2552760"/>
            <a:ext cx="3124440" cy="1066320"/>
            <a:chOff x="520560" y="2552760"/>
            <a:chExt cx="3124440" cy="1066320"/>
          </a:xfrm>
        </p:grpSpPr>
        <p:sp>
          <p:nvSpPr>
            <p:cNvPr id="232" name=""/>
            <p:cNvSpPr/>
            <p:nvPr/>
          </p:nvSpPr>
          <p:spPr>
            <a:xfrm>
              <a:off x="520560" y="2552760"/>
              <a:ext cx="3124440" cy="106632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79960" y="2613240"/>
              <a:ext cx="3005280" cy="94500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Synergistic</a:t>
              </a:r>
              <a:br>
                <a:rPr sz="2400"/>
              </a:b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Strategic Allia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03D593-88BE-4746-B23C-031652CC2508}" type="slidenum">
              <a:t>24</a:t>
            </a:fld>
          </a:p>
        </p:txBody>
      </p:sp>
    </p:spTree>
  </p:cSld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000"/>
                            </p:stCondLst>
                            <p:childTnLst>
                              <p:par>
                                <p:cTn id="1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500"/>
                            </p:stCondLst>
                            <p:childTnLst>
                              <p:par>
                                <p:cTn id="1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6699"/>
                </a:solidFill>
                <a:uFillTx/>
                <a:latin typeface="Tahoma"/>
              </a:rPr>
              <a:t>Franchising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062240" y="1430280"/>
            <a:ext cx="4546800" cy="32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4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Spreads risks and uses resources, capabilities, and competencies without merging or acquiring another company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4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A contractual relationship (the franchise) is developed between two parties, the franchisee and the franchisor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4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An alternative to pursuing growth through mergers and acquisitions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505320" y="1447920"/>
            <a:ext cx="838080" cy="3276360"/>
          </a:xfrm>
          <a:custGeom>
            <a:avLst/>
            <a:gdLst>
              <a:gd name="textAreaLeft" fmla="*/ 535320 w 838080"/>
              <a:gd name="textAreaRight" fmla="*/ 838440 w 838080"/>
              <a:gd name="textAreaTop" fmla="*/ 0 h 3276360"/>
              <a:gd name="textAreaBottom" fmla="*/ 3276720 h 32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17916"/>
                </a:lnTo>
                <a:cubicBezTo>
                  <a:pt x="10800" y="17916"/>
                  <a:pt x="5400" y="17916"/>
                  <a:pt x="0" y="17916"/>
                </a:cubicBezTo>
                <a:cubicBezTo>
                  <a:pt x="5400" y="17916"/>
                  <a:pt x="10800" y="17916"/>
                  <a:pt x="10800" y="17916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520560" y="1422360"/>
            <a:ext cx="3124440" cy="1106280"/>
            <a:chOff x="520560" y="1422360"/>
            <a:chExt cx="3124440" cy="1106280"/>
          </a:xfrm>
        </p:grpSpPr>
        <p:sp>
          <p:nvSpPr>
            <p:cNvPr id="238" name=""/>
            <p:cNvSpPr/>
            <p:nvPr/>
          </p:nvSpPr>
          <p:spPr>
            <a:xfrm>
              <a:off x="520560" y="1422360"/>
              <a:ext cx="3124440" cy="110628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79960" y="1485360"/>
              <a:ext cx="3005280" cy="98028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versifying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trategic Allia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520560" y="2560680"/>
            <a:ext cx="3124440" cy="1053720"/>
            <a:chOff x="520560" y="2560680"/>
            <a:chExt cx="3124440" cy="1053720"/>
          </a:xfrm>
        </p:grpSpPr>
        <p:sp>
          <p:nvSpPr>
            <p:cNvPr id="241" name=""/>
            <p:cNvSpPr/>
            <p:nvPr/>
          </p:nvSpPr>
          <p:spPr>
            <a:xfrm>
              <a:off x="520560" y="2560680"/>
              <a:ext cx="3124440" cy="105372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79960" y="2620440"/>
              <a:ext cx="3005280" cy="9338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nergistic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trategic Allia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" name=""/>
          <p:cNvGrpSpPr/>
          <p:nvPr/>
        </p:nvGrpSpPr>
        <p:grpSpPr>
          <a:xfrm>
            <a:off x="520560" y="3643200"/>
            <a:ext cx="3124440" cy="1066680"/>
            <a:chOff x="520560" y="3643200"/>
            <a:chExt cx="3124440" cy="1066680"/>
          </a:xfrm>
        </p:grpSpPr>
        <p:sp>
          <p:nvSpPr>
            <p:cNvPr id="244" name=""/>
            <p:cNvSpPr/>
            <p:nvPr/>
          </p:nvSpPr>
          <p:spPr>
            <a:xfrm>
              <a:off x="520560" y="3643200"/>
              <a:ext cx="3124440" cy="106668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79960" y="3703680"/>
              <a:ext cx="3005280" cy="9453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Franchis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34C64A-3D01-4242-B455-67D18157B158}" type="slidenum">
              <a:t>25</a:t>
            </a:fld>
          </a:p>
        </p:txBody>
      </p:sp>
    </p:spTree>
  </p:cSld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500"/>
                            </p:stCondLst>
                            <p:childTnLst>
                              <p:par>
                                <p:cTn id="20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1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1500"/>
                            </p:stCondLst>
                            <p:childTnLst>
                              <p:par>
                                <p:cTn id="2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5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2500"/>
                            </p:stCondLst>
                            <p:childTnLst>
                              <p:par>
                                <p:cTn id="2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500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Assessment of Corporate-Level Cooperative Strategi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7823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2120" indent="-222120">
              <a:spcBef>
                <a:spcPts val="1049"/>
              </a:spcBef>
              <a:buClr>
                <a:srgbClr val="006699"/>
              </a:buClr>
              <a:buFont typeface="Arial"/>
              <a:buChar char="•"/>
              <a:tabLst>
                <a:tab algn="l" pos="3435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ompared to business-level strategie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625320" indent="-2840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3435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roader in scope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c6600"/>
                </a:solidFill>
                <a:latin typeface="Wingdings"/>
                <a:ea typeface="Wingdings"/>
              </a:rPr>
              <a:t>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 More complex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625320" indent="-2840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3435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ore costl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22120" indent="-222120">
              <a:spcBef>
                <a:spcPts val="1049"/>
              </a:spcBef>
              <a:buClr>
                <a:srgbClr val="006699"/>
              </a:buClr>
              <a:buFont typeface="Arial"/>
              <a:buChar char="•"/>
              <a:tabLst>
                <a:tab algn="l" pos="3435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an lead to competitive advantage and value when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625320" indent="-2840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3435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uccessful alliance experiences are internalized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625320" indent="-2840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3435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firm uses such strategies to develop useful knowledge about how to succeed in the futur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FCC5ED-CCF4-48CB-87B6-9DBEBC3FA836}" type="slidenum">
              <a:t>26</a:t>
            </a:fld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ternational Cooperative Strategi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ross-border Strategic Alliance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 strategy in which firms with headquarters in different nations combine their resources and capabilities to create a competitive advantag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 firm may form cross-border strategic alliances to leverage core competencies that are the foundation of its domestic success to expand into international marke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3EAF8B-929E-43F2-90EF-A45B6E91A5B1}" type="slidenum">
              <a:t>27</a:t>
            </a:fld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ternational Cooperative Strategie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ynergistic Strategic Alliance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llows risk sharing by reducing financial investment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Host partner knows local market and custom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ternational alliances can be difficult to manage due to differences in management styles, cultures or regulatory constrain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ust gauge partner’s strategic intent such that the partner does not gain access to important technology and become a competitor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7305EB-2B6B-425A-8671-D306F72DCA70}" type="slidenum">
              <a:t>28</a:t>
            </a:fld>
          </a:p>
        </p:txBody>
      </p:sp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Network Cooperative Strategy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225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A cooperative strategy wherein several firms agree to form multiple partnerships to achieve shared objectives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table alliance network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ynamic alliance network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225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Effective social relationships and interactions among partners are keys to a successful network cooperative strategy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89EB88-161C-4678-BE34-898D760B14CC}" type="slidenum">
              <a:t>29</a:t>
            </a:fld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5181480" cy="459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K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NOWLEDGE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O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BJECTIVES </a:t>
            </a:r>
            <a:r>
              <a:rPr b="1" i="1" lang="en-US" sz="1600" spc="-1" strike="noStrike">
                <a:solidFill>
                  <a:srgbClr val="ffffff"/>
                </a:solidFill>
                <a:latin typeface="Tahoma"/>
              </a:rPr>
              <a:t>(cont’d)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47840" y="1904760"/>
            <a:ext cx="8229600" cy="425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500"/>
              </a:spcBef>
              <a:buClr>
                <a:srgbClr val="006699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cooperative strategies’ risks. 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533520" indent="-533520">
              <a:spcBef>
                <a:spcPts val="1500"/>
              </a:spcBef>
              <a:buClr>
                <a:srgbClr val="006699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two approaches used to manage cooperative strategie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99960" y="1044720"/>
            <a:ext cx="832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udying this chapter should provide you with the strategic management knowledge needed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9964A5-B5D4-4E5A-81FA-06CEB68B5162}" type="slidenum">
              <a:t>3</a:t>
            </a:fld>
          </a:p>
        </p:txBody>
      </p:sp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Network Cooperative Strategie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56" name=""/>
          <p:cNvSpPr/>
          <p:nvPr/>
        </p:nvSpPr>
        <p:spPr>
          <a:xfrm>
            <a:off x="3962520" y="1528920"/>
            <a:ext cx="44956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90520" indent="-290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Long term relationships that often appear in mature industries where demand is relatively constant and predic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Stable networks are built for </a:t>
            </a:r>
            <a:r>
              <a:rPr b="0" i="1" lang="en-US" sz="2400" spc="-1" strike="noStrike">
                <a:solidFill>
                  <a:srgbClr val="006699"/>
                </a:solidFill>
                <a:latin typeface="Arial"/>
              </a:rPr>
              <a:t>exploitation</a:t>
            </a: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 of the economies (scale and/or scope) available between the fir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505320" y="1523880"/>
            <a:ext cx="838080" cy="3429000"/>
          </a:xfrm>
          <a:custGeom>
            <a:avLst/>
            <a:gdLst>
              <a:gd name="textAreaLeft" fmla="*/ 535320 w 838080"/>
              <a:gd name="textAreaRight" fmla="*/ 838440 w 838080"/>
              <a:gd name="textAreaTop" fmla="*/ 0 h 3429000"/>
              <a:gd name="textAreaBottom" fmla="*/ 3429360 h 3429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2890"/>
                </a:lnTo>
                <a:cubicBezTo>
                  <a:pt x="10800" y="2890"/>
                  <a:pt x="5400" y="2890"/>
                  <a:pt x="0" y="2890"/>
                </a:cubicBezTo>
                <a:cubicBezTo>
                  <a:pt x="5400" y="2890"/>
                  <a:pt x="10800" y="2890"/>
                  <a:pt x="10800" y="2890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520560" y="1419120"/>
            <a:ext cx="3124440" cy="1066680"/>
            <a:chOff x="520560" y="1419120"/>
            <a:chExt cx="3124440" cy="1066680"/>
          </a:xfrm>
        </p:grpSpPr>
        <p:sp>
          <p:nvSpPr>
            <p:cNvPr id="259" name=""/>
            <p:cNvSpPr/>
            <p:nvPr/>
          </p:nvSpPr>
          <p:spPr>
            <a:xfrm>
              <a:off x="520560" y="1419120"/>
              <a:ext cx="3124440" cy="106668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79960" y="1479600"/>
              <a:ext cx="3005280" cy="9453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Stable Alliance</a:t>
              </a:r>
              <a:br>
                <a:rPr sz="2400"/>
              </a:b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Networ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6C66FC-D040-43A5-B186-460D89FFCB24}" type="slidenum">
              <a:t>30</a:t>
            </a:fld>
          </a:p>
        </p:txBody>
      </p:sp>
    </p:spTree>
  </p:cSld>
  <p:transition>
    <p:random/>
  </p:transition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4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500"/>
                            </p:stCondLst>
                            <p:childTnLst>
                              <p:par>
                                <p:cTn id="2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1000"/>
                            </p:stCondLst>
                            <p:childTnLst>
                              <p:par>
                                <p:cTn id="2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5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1500"/>
                            </p:stCondLst>
                            <p:childTnLst>
                              <p:par>
                                <p:cTn id="2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500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Network Cooperative Strategie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62" name=""/>
          <p:cNvSpPr/>
          <p:nvPr/>
        </p:nvSpPr>
        <p:spPr>
          <a:xfrm>
            <a:off x="4038480" y="1479600"/>
            <a:ext cx="4419720" cy="40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0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Arrangements that evolve in industries with rapid technological change leading to short product life cyc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spcBef>
                <a:spcPts val="10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Primarily used to stimulate rapid, value-creating product innovation and subsequent successful market ent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spcBef>
                <a:spcPts val="10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Purpose is often </a:t>
            </a:r>
            <a:r>
              <a:rPr b="0" i="1" lang="en-US" sz="2400" spc="-1" strike="noStrike">
                <a:solidFill>
                  <a:srgbClr val="006699"/>
                </a:solidFill>
                <a:latin typeface="Arial"/>
              </a:rPr>
              <a:t>exploration</a:t>
            </a: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 of new id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505320" y="1447920"/>
            <a:ext cx="838080" cy="4114800"/>
          </a:xfrm>
          <a:custGeom>
            <a:avLst/>
            <a:gdLst>
              <a:gd name="textAreaLeft" fmla="*/ 535320 w 838080"/>
              <a:gd name="textAreaRight" fmla="*/ 838440 w 838080"/>
              <a:gd name="textAreaTop" fmla="*/ 0 h 4114800"/>
              <a:gd name="textAreaBottom" fmla="*/ 4115160 h 4114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8542"/>
                </a:lnTo>
                <a:cubicBezTo>
                  <a:pt x="10800" y="8542"/>
                  <a:pt x="5400" y="8542"/>
                  <a:pt x="0" y="8542"/>
                </a:cubicBezTo>
                <a:cubicBezTo>
                  <a:pt x="5400" y="8542"/>
                  <a:pt x="10800" y="8542"/>
                  <a:pt x="10800" y="8542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4" name=""/>
          <p:cNvGrpSpPr/>
          <p:nvPr/>
        </p:nvGrpSpPr>
        <p:grpSpPr>
          <a:xfrm>
            <a:off x="520560" y="1407960"/>
            <a:ext cx="3124440" cy="1106280"/>
            <a:chOff x="520560" y="1407960"/>
            <a:chExt cx="3124440" cy="1106280"/>
          </a:xfrm>
        </p:grpSpPr>
        <p:sp>
          <p:nvSpPr>
            <p:cNvPr id="265" name=""/>
            <p:cNvSpPr/>
            <p:nvPr/>
          </p:nvSpPr>
          <p:spPr>
            <a:xfrm>
              <a:off x="520560" y="1407960"/>
              <a:ext cx="3124440" cy="110628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79960" y="1470960"/>
              <a:ext cx="3005280" cy="98028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table Allianc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520560" y="2552760"/>
            <a:ext cx="3124440" cy="1066320"/>
            <a:chOff x="520560" y="2552760"/>
            <a:chExt cx="3124440" cy="1066320"/>
          </a:xfrm>
        </p:grpSpPr>
        <p:sp>
          <p:nvSpPr>
            <p:cNvPr id="268" name=""/>
            <p:cNvSpPr/>
            <p:nvPr/>
          </p:nvSpPr>
          <p:spPr>
            <a:xfrm>
              <a:off x="520560" y="2552760"/>
              <a:ext cx="3124440" cy="106632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79960" y="2613240"/>
              <a:ext cx="3005280" cy="94500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Dynamic Alliance</a:t>
              </a:r>
              <a:br>
                <a:rPr sz="2400"/>
              </a:b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Networ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21BB51-8D4E-4E89-9D58-C29A54268EDF}" type="slidenum">
              <a:t>31</a:t>
            </a:fld>
          </a:p>
        </p:txBody>
      </p:sp>
    </p:spTree>
  </p:cSld>
  <p:transition>
    <p:random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0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3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500"/>
                            </p:stCondLst>
                            <p:childTnLst>
                              <p:par>
                                <p:cTn id="2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1000"/>
                            </p:stCondLst>
                            <p:childTnLst>
                              <p:par>
                                <p:cTn id="2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" dur="500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1500"/>
                            </p:stCondLst>
                            <p:childTnLst>
                              <p:par>
                                <p:cTn id="2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" dur="500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2000"/>
                            </p:stCondLst>
                            <p:childTnLst>
                              <p:par>
                                <p:cTn id="2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500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mpetitive Risks of Cooperative Strategi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Partners may act opportunistically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Partners may misrepresent competencies brought to the partnership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Partners fail to make committed resources and capabilities available to other partners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One partner may make investments that are specific to the alliance while its partner does not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F3D249-4572-40B1-89AD-9CB67D494F6F}" type="slidenum">
              <a:t>32</a:t>
            </a:fld>
          </a:p>
        </p:txBody>
      </p:sp>
    </p:spTree>
  </p:cSld>
  <p:transition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934400" cy="368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6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800" spc="-1" strike="noStrike">
                <a:solidFill>
                  <a:srgbClr val="cc3300"/>
                </a:solidFill>
                <a:latin typeface="Arial"/>
              </a:rPr>
              <a:t>9.4</a:t>
            </a:r>
            <a:r>
              <a:rPr b="1" i="1" lang="en-US" sz="16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naging Competitive Risks in Cooperative Strategies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73" name=""/>
          <p:cNvSpPr/>
          <p:nvPr/>
        </p:nvSpPr>
        <p:spPr>
          <a:xfrm>
            <a:off x="457200" y="457200"/>
            <a:ext cx="8229600" cy="46656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4" name=""/>
          <p:cNvGrpSpPr/>
          <p:nvPr/>
        </p:nvGrpSpPr>
        <p:grpSpPr>
          <a:xfrm>
            <a:off x="457200" y="577800"/>
            <a:ext cx="1828800" cy="479160"/>
            <a:chOff x="457200" y="577800"/>
            <a:chExt cx="1828800" cy="479160"/>
          </a:xfrm>
        </p:grpSpPr>
        <p:sp>
          <p:nvSpPr>
            <p:cNvPr id="275" name=""/>
            <p:cNvSpPr/>
            <p:nvPr/>
          </p:nvSpPr>
          <p:spPr>
            <a:xfrm>
              <a:off x="685800" y="57780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57200" y="88416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>
            <a:off x="533520" y="1447920"/>
            <a:ext cx="8076960" cy="2700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790BAA-4113-4D88-BBCF-71FBAF37ADFF}" type="slidenum">
              <a:t>33</a:t>
            </a:fld>
          </a:p>
        </p:txBody>
      </p:sp>
    </p:spTree>
  </p:cSld>
  <p:transition>
    <p:random/>
  </p:transition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0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500"/>
                            </p:stCondLst>
                            <p:childTnLst>
                              <p:par>
                                <p:cTn id="2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1000"/>
                            </p:stCondLst>
                            <p:childTnLst>
                              <p:par>
                                <p:cTn id="2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Managing Risks in Cooperative Strategi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670200" y="5724360"/>
            <a:ext cx="2430720" cy="4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Creating value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777960" y="4038480"/>
            <a:ext cx="2727360" cy="1295280"/>
            <a:chOff x="777960" y="4038480"/>
            <a:chExt cx="2727360" cy="1295280"/>
          </a:xfrm>
        </p:grpSpPr>
        <p:sp>
          <p:nvSpPr>
            <p:cNvPr id="281" name=""/>
            <p:cNvSpPr/>
            <p:nvPr/>
          </p:nvSpPr>
          <p:spPr>
            <a:xfrm>
              <a:off x="777960" y="4038480"/>
              <a:ext cx="2727360" cy="1295280"/>
            </a:xfrm>
            <a:prstGeom prst="rect">
              <a:avLst/>
            </a:prstGeom>
            <a:gradFill rotWithShape="0">
              <a:gsLst>
                <a:gs pos="0">
                  <a:srgbClr val="5e2f00"/>
                </a:gs>
                <a:gs pos="100000">
                  <a:srgbClr val="cc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829800" y="4112640"/>
              <a:ext cx="2623320" cy="1147320"/>
            </a:xfrm>
            <a:prstGeom prst="rect">
              <a:avLst/>
            </a:prstGeom>
            <a:gradFill rotWithShape="0">
              <a:gsLst>
                <a:gs pos="0">
                  <a:srgbClr val="cc6600"/>
                </a:gs>
                <a:gs pos="100000">
                  <a:srgbClr val="5e2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Risk and Asset </a:t>
              </a:r>
              <a:br>
                <a:rPr sz="2000"/>
              </a:b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Management</a:t>
              </a:r>
              <a:br>
                <a:rPr sz="2000"/>
              </a:b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Approach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3" name=""/>
          <p:cNvGrpSpPr/>
          <p:nvPr/>
        </p:nvGrpSpPr>
        <p:grpSpPr>
          <a:xfrm>
            <a:off x="777960" y="5562720"/>
            <a:ext cx="2727360" cy="609480"/>
            <a:chOff x="777960" y="5562720"/>
            <a:chExt cx="2727360" cy="609480"/>
          </a:xfrm>
        </p:grpSpPr>
        <p:sp>
          <p:nvSpPr>
            <p:cNvPr id="284" name=""/>
            <p:cNvSpPr/>
            <p:nvPr/>
          </p:nvSpPr>
          <p:spPr>
            <a:xfrm>
              <a:off x="777960" y="5562720"/>
              <a:ext cx="2727360" cy="609480"/>
            </a:xfrm>
            <a:prstGeom prst="rect">
              <a:avLst/>
            </a:prstGeom>
            <a:gradFill rotWithShape="0">
              <a:gsLst>
                <a:gs pos="0">
                  <a:srgbClr val="004646"/>
                </a:gs>
                <a:gs pos="100000">
                  <a:srgbClr val="0099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829800" y="5597280"/>
              <a:ext cx="2623320" cy="540000"/>
            </a:xfrm>
            <a:prstGeom prst="rect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464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Desired Outcom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6" name=""/>
          <p:cNvGrpSpPr/>
          <p:nvPr/>
        </p:nvGrpSpPr>
        <p:grpSpPr>
          <a:xfrm>
            <a:off x="777960" y="1425600"/>
            <a:ext cx="2727360" cy="2231280"/>
            <a:chOff x="777960" y="1425600"/>
            <a:chExt cx="2727360" cy="2231280"/>
          </a:xfrm>
        </p:grpSpPr>
        <p:sp>
          <p:nvSpPr>
            <p:cNvPr id="287" name=""/>
            <p:cNvSpPr/>
            <p:nvPr/>
          </p:nvSpPr>
          <p:spPr>
            <a:xfrm>
              <a:off x="777960" y="1425600"/>
              <a:ext cx="2727360" cy="223128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829800" y="1552680"/>
              <a:ext cx="2623320" cy="19771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ompetitiv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Risk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89" name=""/>
          <p:cNvCxnSpPr>
            <a:stCxn id="287" idx="2"/>
            <a:endCxn id="281" idx="0"/>
          </p:cNvCxnSpPr>
          <p:nvPr/>
        </p:nvCxnSpPr>
        <p:spPr>
          <a:xfrm>
            <a:off x="2141280" y="3657600"/>
            <a:ext cx="1080" cy="3816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290" name=""/>
          <p:cNvCxnSpPr>
            <a:stCxn id="281" idx="2"/>
            <a:endCxn id="284" idx="0"/>
          </p:cNvCxnSpPr>
          <p:nvPr/>
        </p:nvCxnSpPr>
        <p:spPr>
          <a:xfrm>
            <a:off x="2141280" y="5333760"/>
            <a:ext cx="1080" cy="2293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291" name=""/>
          <p:cNvSpPr/>
          <p:nvPr/>
        </p:nvSpPr>
        <p:spPr>
          <a:xfrm>
            <a:off x="3598920" y="4114800"/>
            <a:ext cx="4859280" cy="9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35080" indent="-235080">
              <a:spcBef>
                <a:spcPts val="75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Detailed contracts and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75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Developing trusting relationshi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598920" y="1495440"/>
            <a:ext cx="485928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35080" indent="-235080">
              <a:spcBef>
                <a:spcPts val="75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Inadequate contra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75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Misrepresentation of competenc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75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Partners fail to use their complementary re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75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Holding alliance partner’s specific investments host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FD7C98-FDC3-4C5F-AF8F-2D1699B342EF}" type="slidenum">
              <a:t>34</a:t>
            </a:fld>
          </a:p>
        </p:txBody>
      </p:sp>
    </p:spTree>
  </p:cSld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0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500"/>
                            </p:stCondLst>
                            <p:childTnLst>
                              <p:par>
                                <p:cTn id="2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1000"/>
                            </p:stCondLst>
                            <p:childTnLst>
                              <p:par>
                                <p:cTn id="2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9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500"/>
                            </p:stCondLst>
                            <p:childTnLst>
                              <p:par>
                                <p:cTn id="3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8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000"/>
                            </p:stCondLst>
                            <p:childTnLst>
                              <p:par>
                                <p:cTn id="3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2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5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1000"/>
                            </p:stCondLst>
                            <p:childTnLst>
                              <p:par>
                                <p:cTn id="3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5" dur="5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Managing Cooperative Strategi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ost Minimization Management Approach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Have formal contracts with partner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pecify how strategy is to be monitored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pecify how partner behavior is to be controlled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et goals that minimize costs and to prevent opportunistic behavior by partner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5ECB37-BE16-42D7-A356-19CCE02384DA}" type="slidenum">
              <a:t>35</a:t>
            </a:fld>
          </a:p>
        </p:txBody>
      </p:sp>
    </p:spTree>
  </p:cSld>
  <p:transition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Managing Cooperative Strategie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Opportunity Maximization Approach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ximize partnership’s value-creation opportunit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Learn from each other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xplore additional marketplace possibilit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intain less formal contracts, fewer constraint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15B16B-30BD-4F82-A551-897CA6F9BA5A}" type="slidenum">
              <a:t>36</a:t>
            </a:fld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operative Strategy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4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ooperative Strategy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 strategy in which firms work together to achieve a shared objectiv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4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ooperating with other firms is a strategy that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reates value for a customer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xceeds the cost of constructing customer value in other way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stablishes a favorable position relative to  competitor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A08414-B502-4B80-B5CD-EBFDB5AF0F11}" type="slidenum">
              <a:t>4</a:t>
            </a:fld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rategic Allianc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A primary type of cooperative strategy in which firms combine some of their resources and capabilities to create a mutual competitive advantage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volves the exchange and sharing of resources and capabilities to co-develop or distribute goods and servic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Requires cooperative behavior from all partner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B32064-C28D-4C6C-BC41-D54CD1BAE016}" type="slidenum">
              <a:t>5</a:t>
            </a:fld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rategic Alliance Behavior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225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Examples of cooperative behavior known to contribute to alliance success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ctively solving problem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eing trustworthy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nsistently pursuing ways to combine partners’ resources and capabilities to create valu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225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ollaborative (Relational) Advantage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 competitive advantage developed through a cooperative strategy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1D3F14-E55F-4C5D-8DEF-D83C12090767}" type="slidenum">
              <a:t>6</a:t>
            </a:fld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rategic Allianc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021120" y="3057480"/>
            <a:ext cx="3105000" cy="1736640"/>
            <a:chOff x="3021120" y="3057480"/>
            <a:chExt cx="3105000" cy="1736640"/>
          </a:xfrm>
        </p:grpSpPr>
        <p:sp>
          <p:nvSpPr>
            <p:cNvPr id="111" name=""/>
            <p:cNvSpPr/>
            <p:nvPr/>
          </p:nvSpPr>
          <p:spPr>
            <a:xfrm>
              <a:off x="3021120" y="3057480"/>
              <a:ext cx="3105000" cy="1736640"/>
            </a:xfrm>
            <a:prstGeom prst="rect">
              <a:avLst/>
            </a:prstGeom>
            <a:gradFill rotWithShape="0">
              <a:gsLst>
                <a:gs pos="0">
                  <a:srgbClr val="004646"/>
                </a:gs>
                <a:gs pos="100000">
                  <a:srgbClr val="0099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079800" y="3122280"/>
              <a:ext cx="2987640" cy="1605240"/>
            </a:xfrm>
            <a:prstGeom prst="rect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464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ffff"/>
                  </a:solidFill>
                  <a:latin typeface="Arial"/>
                </a:rPr>
                <a:t>Combin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Resour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apabiliti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re Competenci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907920" y="2157480"/>
            <a:ext cx="2725920" cy="1330200"/>
            <a:chOff x="907920" y="2157480"/>
            <a:chExt cx="2725920" cy="1330200"/>
          </a:xfrm>
        </p:grpSpPr>
        <p:sp>
          <p:nvSpPr>
            <p:cNvPr id="114" name=""/>
            <p:cNvSpPr/>
            <p:nvPr/>
          </p:nvSpPr>
          <p:spPr>
            <a:xfrm>
              <a:off x="907920" y="2157480"/>
              <a:ext cx="2725920" cy="133020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966960" y="2215800"/>
              <a:ext cx="2608200" cy="121248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Resour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apabiliti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re Competenci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5662440" y="2155680"/>
            <a:ext cx="2725920" cy="1330200"/>
            <a:chOff x="5662440" y="2155680"/>
            <a:chExt cx="2725920" cy="1330200"/>
          </a:xfrm>
        </p:grpSpPr>
        <p:sp>
          <p:nvSpPr>
            <p:cNvPr id="117" name=""/>
            <p:cNvSpPr/>
            <p:nvPr/>
          </p:nvSpPr>
          <p:spPr>
            <a:xfrm>
              <a:off x="5662440" y="2155680"/>
              <a:ext cx="2725920" cy="1330200"/>
            </a:xfrm>
            <a:prstGeom prst="rect">
              <a:avLst/>
            </a:prstGeom>
            <a:gradFill rotWithShape="0">
              <a:gsLst>
                <a:gs pos="0">
                  <a:srgbClr val="5e1700"/>
                </a:gs>
                <a:gs pos="100000">
                  <a:srgbClr val="cc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721480" y="2214360"/>
              <a:ext cx="2608200" cy="1212840"/>
            </a:xfrm>
            <a:prstGeom prst="rect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5e17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Resour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apabiliti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re Competenci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3139920" y="1449360"/>
            <a:ext cx="1409760" cy="1409760"/>
            <a:chOff x="3139920" y="1449360"/>
            <a:chExt cx="1409760" cy="1409760"/>
          </a:xfrm>
        </p:grpSpPr>
        <p:sp>
          <p:nvSpPr>
            <p:cNvPr id="120" name=""/>
            <p:cNvSpPr/>
            <p:nvPr/>
          </p:nvSpPr>
          <p:spPr>
            <a:xfrm>
              <a:off x="3139920" y="1449360"/>
              <a:ext cx="1409760" cy="1409760"/>
            </a:xfrm>
            <a:prstGeom prst="ellipse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198960" y="1508040"/>
              <a:ext cx="1292040" cy="129240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Firm 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595760" y="1447920"/>
            <a:ext cx="1409760" cy="1409760"/>
            <a:chOff x="4595760" y="1447920"/>
            <a:chExt cx="1409760" cy="1409760"/>
          </a:xfrm>
        </p:grpSpPr>
        <p:sp>
          <p:nvSpPr>
            <p:cNvPr id="123" name=""/>
            <p:cNvSpPr/>
            <p:nvPr/>
          </p:nvSpPr>
          <p:spPr>
            <a:xfrm>
              <a:off x="4595760" y="1447920"/>
              <a:ext cx="1409760" cy="1409760"/>
            </a:xfrm>
            <a:prstGeom prst="ellipse">
              <a:avLst/>
            </a:prstGeom>
            <a:gradFill rotWithShape="0">
              <a:gsLst>
                <a:gs pos="0">
                  <a:srgbClr val="5e1700"/>
                </a:gs>
                <a:gs pos="100000">
                  <a:srgbClr val="cc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654440" y="1506600"/>
              <a:ext cx="1292400" cy="1292040"/>
            </a:xfrm>
            <a:prstGeom prst="ellipse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5e17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Firm 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1312920" y="5191200"/>
            <a:ext cx="6521400" cy="965160"/>
            <a:chOff x="1312920" y="5191200"/>
            <a:chExt cx="6521400" cy="965160"/>
          </a:xfrm>
        </p:grpSpPr>
        <p:sp>
          <p:nvSpPr>
            <p:cNvPr id="126" name=""/>
            <p:cNvSpPr/>
            <p:nvPr/>
          </p:nvSpPr>
          <p:spPr>
            <a:xfrm>
              <a:off x="1312920" y="5191200"/>
              <a:ext cx="6521400" cy="965160"/>
            </a:xfrm>
            <a:prstGeom prst="rect">
              <a:avLst/>
            </a:prstGeom>
            <a:gradFill rotWithShape="0">
              <a:gsLst>
                <a:gs pos="0">
                  <a:srgbClr val="864300"/>
                </a:gs>
                <a:gs pos="100000">
                  <a:srgbClr val="cc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363680" y="5249880"/>
              <a:ext cx="6418080" cy="847800"/>
            </a:xfrm>
            <a:prstGeom prst="rect">
              <a:avLst/>
            </a:prstGeom>
            <a:gradFill rotWithShape="0">
              <a:gsLst>
                <a:gs pos="0">
                  <a:srgbClr val="cc6600"/>
                </a:gs>
                <a:gs pos="100000">
                  <a:srgbClr val="864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Mutual interests in designing, manufacturing,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or distributing goods or servi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28" name=""/>
          <p:cNvCxnSpPr>
            <a:stCxn id="111" idx="2"/>
            <a:endCxn id="126" idx="0"/>
          </p:cNvCxnSpPr>
          <p:nvPr/>
        </p:nvCxnSpPr>
        <p:spPr>
          <a:xfrm>
            <a:off x="4573080" y="4793760"/>
            <a:ext cx="1080" cy="39780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  <a:tailEnd len="lg" type="stealth" w="lg"/>
          </a:ln>
        </p:spPr>
      </p:cxnSp>
      <p:grpSp>
        <p:nvGrpSpPr>
          <p:cNvPr id="129" name=""/>
          <p:cNvGrpSpPr/>
          <p:nvPr/>
        </p:nvGrpSpPr>
        <p:grpSpPr>
          <a:xfrm>
            <a:off x="2260440" y="3483000"/>
            <a:ext cx="4613400" cy="453600"/>
            <a:chOff x="2260440" y="3483000"/>
            <a:chExt cx="4613400" cy="453600"/>
          </a:xfrm>
        </p:grpSpPr>
        <p:sp>
          <p:nvSpPr>
            <p:cNvPr id="130" name=""/>
            <p:cNvSpPr/>
            <p:nvPr/>
          </p:nvSpPr>
          <p:spPr>
            <a:xfrm>
              <a:off x="2260440" y="3487680"/>
              <a:ext cx="0" cy="448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873840" y="3483000"/>
              <a:ext cx="0" cy="448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2260440" y="3921120"/>
            <a:ext cx="4613400" cy="4680"/>
            <a:chOff x="2260440" y="3921120"/>
            <a:chExt cx="4613400" cy="4680"/>
          </a:xfrm>
        </p:grpSpPr>
        <p:sp>
          <p:nvSpPr>
            <p:cNvPr id="133" name=""/>
            <p:cNvSpPr/>
            <p:nvPr/>
          </p:nvSpPr>
          <p:spPr>
            <a:xfrm>
              <a:off x="2260440" y="3925800"/>
              <a:ext cx="758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6114960" y="3921120"/>
              <a:ext cx="758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494977-D9C8-468C-8E3E-6BD22131F48D}" type="slidenum">
              <a:t>7</a:t>
            </a:fld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Three Types of Strategic Allianc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Joint Venture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wo or more firms create a legally independent company by sharing some of their resources and capabiliti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Equity Strategic Alliance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artners who own different percentages of equity in a separate company they have formed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Nonequity Strategic Alliance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wo or more firms develop a contractual relationship to share some of their unique resources and capabiliti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D9CBA4-ED10-474D-A112-BF79149E2F5B}" type="slidenum">
              <a:t>8</a:t>
            </a:fld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560" y="426600"/>
            <a:ext cx="8381880" cy="39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7400" indent="0"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Table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i="1" lang="en-US" sz="2000" spc="-1" strike="noStrike">
                <a:solidFill>
                  <a:srgbClr val="333399"/>
                </a:solidFill>
                <a:latin typeface="Tahoma"/>
              </a:rPr>
              <a:t>9.1</a:t>
            </a:r>
            <a:r>
              <a:rPr b="1" i="1" lang="en-US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s for Strategic Alliances by Market Type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60360" y="1219320"/>
            <a:ext cx="8402760" cy="51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90680" indent="-2290680">
              <a:spcBef>
                <a:spcPts val="10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ke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a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90680" indent="-2290680">
              <a:spcBef>
                <a:spcPts val="9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low-Cyc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Gain access to a restricted marke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Establish a franchise in a new marke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Maintain market stability (e.g., establishing standard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90680" indent="-2290680">
              <a:spcBef>
                <a:spcPts val="9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st-Cyc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Speed up development of new goods or servic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Speed up new market entr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Maintain market leadership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Form an industry technology standar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Share risky R&amp;D expens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Overcome uncertain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90680" indent="-2290680">
              <a:spcBef>
                <a:spcPts val="9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-Cyc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Gain market power (reduce industry overcapacity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Gain access to complementary resourc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Establish better economies of scal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Overcome trade barrier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Meet competitive challenges from other competitor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Pool resources for very large capital projec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Learn new business techniq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64A5AF-CC8A-4C7F-85AF-B92F2CD230E9}" type="slidenum">
              <a:t>9</a:t>
            </a:fld>
          </a:p>
        </p:txBody>
      </p:sp>
    </p:spTree>
  </p:cSld>
  <p:transition>
    <p:random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4T15:06:22Z</dcterms:created>
  <dc:creator>Charlie Cook, The University of West Alabama</dc:creator>
  <dc:description/>
  <dc:language>en-US</dc:language>
  <cp:lastModifiedBy>Teodoro Wigodski</cp:lastModifiedBy>
  <dcterms:modified xsi:type="dcterms:W3CDTF">2006-07-29T17:28:14Z</dcterms:modified>
  <cp:revision>41</cp:revision>
  <dc:subject>Chapter 9</dc:subject>
  <dc:title>Strategic Management 7e.</dc:title>
</cp:coreProperties>
</file>