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E454-7DBA-4031-B9AC-1B9278B97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DFE1-9019-4FAD-9B96-94B940FF6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14F2-317F-4943-BA64-F05C66E6D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2967-7DEE-4826-ADEA-D6235B129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AE35-4DF7-47E4-B1DE-05B3C3004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294E-F88D-4328-8438-799ACC551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1CB3-30A6-46C9-A007-3E7963946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E464-2F59-4ABF-B92E-965ADB1AC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C377-9CDD-4FFA-9762-2DE93775F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CFC3-2424-460D-9577-1C1A5F345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6CF3-A8ED-4146-A5E9-AE3CA8F0F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C030-095D-468A-9E32-D53946195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2FDD-91D9-44BB-BAD4-15045991F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1733-8224-4F1B-A976-19CC22A5A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9F49-FEB0-4123-86E0-1739A1402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BB64-D814-4268-A129-11EC373C4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3DE5-682B-4DA6-8F94-158ED8274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978A-DBC9-4BE7-A749-AEE052DEA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FB96-D866-44E4-8FE1-CA9E4664A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8332-D777-418A-8130-355C0D147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2314-8319-49C5-9E49-67984BCDE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7E45-0269-46D1-84BC-2AB64FE3F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0E59-E86E-4C3B-BE69-9BC84C761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AF4D-089D-4D76-B6A8-054325058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EDCC-169E-40B2-9C29-69E53F6FA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B96D-BFD6-403C-B7D4-3975692CF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A883-BF3C-450D-B46C-73C18B875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3905-FC0F-451C-B8E0-FC3D9CB1A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93779-3AC3-41CE-B8B0-59D852B79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5C9B3-75C9-4B4D-9A11-BBA8A46F4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930EB-1048-4696-BEE5-F541D2D74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3E80-005F-423C-9C43-A1D1DBB9F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F4560-A5FC-4A24-8DEA-313067058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06665-4D1D-4681-A9CC-33571B67A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7D11F-CED9-4DF9-A1F9-90C2C8211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8250-EF7B-4DF9-81D4-32EA92137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E4E5-5B2B-46A3-907B-EBF1DBC13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E2DFE-B5AE-427D-9295-8F56653E1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7E211-9F46-4AE0-917F-A2314EEC9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7573-18AC-4934-999D-AD040A410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–</a:t>
            </a:r>
            <a:fld id="{0B0536EB-C208-4F7F-940F-993FC87DD4AC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590920"/>
            <a:ext cx="5562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CHAPTER 9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operative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1884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low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884240"/>
            <a:ext cx="54403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ccess to a restricte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franchise in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stability (e.g., establishing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1F9C9-D6A1-42C0-BC71-363FAA9D60D6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08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908000"/>
            <a:ext cx="5410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development of new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new marke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industry technolog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isky R&amp;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F094C-EDE5-4399-B408-4A27E99B1EFB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76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511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tandar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8760" y="1851120"/>
            <a:ext cx="5211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market power (reduce industry over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ccess to complemen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trad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competitive challenges from other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resources for very large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new busines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02A1-BF15-45A0-9D47-392B43357663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-Level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0680" y="1333440"/>
            <a:ext cx="63626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E67C2-9EBA-4669-B1C6-64DD498DD1E5}" type="slidenum">
              <a:t>13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5280" y="1371600"/>
            <a:ext cx="478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e partner firms’ assets in complementary ways to create new valu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clude distribution, supplier or outsourcing alliances where firms rely on upstream or downstream partners to build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371600"/>
            <a:ext cx="838440" cy="2819520"/>
          </a:xfrm>
          <a:custGeom>
            <a:avLst/>
            <a:gdLst>
              <a:gd name="textAreaLeft" fmla="*/ 535680 w 838440"/>
              <a:gd name="textAreaRight" fmla="*/ 838800 w 8384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892"/>
                </a:lnTo>
                <a:cubicBezTo>
                  <a:pt x="10800" y="3892"/>
                  <a:pt x="5400" y="3892"/>
                  <a:pt x="0" y="3892"/>
                </a:cubicBezTo>
                <a:cubicBezTo>
                  <a:pt x="5400" y="3892"/>
                  <a:pt x="10800" y="3892"/>
                  <a:pt x="10800" y="389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9360" y="1332000"/>
            <a:ext cx="2955960" cy="1030320"/>
            <a:chOff x="549360" y="1332000"/>
            <a:chExt cx="2955960" cy="1030320"/>
          </a:xfrm>
        </p:grpSpPr>
        <p:sp>
          <p:nvSpPr>
            <p:cNvPr id="164" name=""/>
            <p:cNvSpPr/>
            <p:nvPr/>
          </p:nvSpPr>
          <p:spPr>
            <a:xfrm>
              <a:off x="549360" y="1332000"/>
              <a:ext cx="2955960" cy="1030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5520" y="1390680"/>
              <a:ext cx="2842920" cy="912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7CAA-2967-44B5-B7B9-68E92B0C9CCA}" type="slidenum">
              <a:t>1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70200" y="304920"/>
            <a:ext cx="5445000" cy="601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686" t="0" r="3416" b="0"/>
          <a:stretch/>
        </p:blipFill>
        <p:spPr>
          <a:xfrm>
            <a:off x="6578640" y="4572000"/>
            <a:ext cx="2066760" cy="1676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4320" y="4686480"/>
            <a:ext cx="175248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9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tical and Horizontal Complementary Strategic Allianc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6560" y="47181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7960" y="5014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A023C-321B-46D9-9E26-1C19D1D1A662}" type="slidenum">
              <a:t>15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ary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ertic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between firms that agree to use their skills and capabilities in different stages of the value chain to create value for both firm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ourcing is one example of this type of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when partners who agree to combine their resources and skills to create value in the same stage of the value chai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long-term product development and distribution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ners may become competitors which requires a great deal of trust between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A9AA9-5D8A-4154-99F2-AEDDD7CB5F62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on Respons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2240" y="1409400"/>
            <a:ext cx="46245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ccur when firms join forces to respond to a strategic action of another competit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ecause they can be difficult to reverse and expensive to operate, strategic alliances are primarily formed to respond to strategic rather than tactical ac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838080" cy="33526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299"/>
                </a:lnTo>
                <a:cubicBezTo>
                  <a:pt x="10800" y="10299"/>
                  <a:pt x="5400" y="10299"/>
                  <a:pt x="0" y="10299"/>
                </a:cubicBezTo>
                <a:cubicBezTo>
                  <a:pt x="5400" y="10299"/>
                  <a:pt x="10800" y="10299"/>
                  <a:pt x="10800" y="1029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177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520" y="2548080"/>
            <a:ext cx="3124080" cy="1053720"/>
            <a:chOff x="533520" y="2548080"/>
            <a:chExt cx="3124080" cy="1053720"/>
          </a:xfrm>
        </p:grpSpPr>
        <p:sp>
          <p:nvSpPr>
            <p:cNvPr id="180" name=""/>
            <p:cNvSpPr/>
            <p:nvPr/>
          </p:nvSpPr>
          <p:spPr>
            <a:xfrm>
              <a:off x="533520" y="25480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920" y="26078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C8CB-23DF-4943-8D74-CAD3D59DCF38}" type="slidenum">
              <a:t>1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Uncertainty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2240" y="1379520"/>
            <a:ext cx="454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used to hedge against risk and uncertaint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alliances are most noticed in fast-cycle marke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alliance may be formed to reduce the uncertainty associated with developing new product or technology standard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44792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930"/>
                </a:lnTo>
                <a:cubicBezTo>
                  <a:pt x="10800" y="16930"/>
                  <a:pt x="5400" y="16930"/>
                  <a:pt x="0" y="16930"/>
                </a:cubicBezTo>
                <a:cubicBezTo>
                  <a:pt x="5400" y="16930"/>
                  <a:pt x="10800" y="16930"/>
                  <a:pt x="10800" y="1693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86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189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192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FA0B-1ECA-46C9-B825-A2BDBEF3966C}" type="slidenum">
              <a:t>1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Competition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8480" y="2161800"/>
            <a:ext cx="4648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ed to avoid destructive or excessive competi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xpli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directly negotiate production output and pricing agreements in order to reduce competition (illegal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a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in an industry indirectly coordinate their production and pricing decisions by observing other firm’s actions and respon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127240"/>
            <a:ext cx="838080" cy="36576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8703"/>
                </a:lnTo>
                <a:cubicBezTo>
                  <a:pt x="10800" y="18703"/>
                  <a:pt x="5400" y="18703"/>
                  <a:pt x="0" y="18703"/>
                </a:cubicBezTo>
                <a:cubicBezTo>
                  <a:pt x="5400" y="18703"/>
                  <a:pt x="10800" y="18703"/>
                  <a:pt x="10800" y="1870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9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201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204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724280"/>
            <a:ext cx="3124080" cy="1066680"/>
            <a:chOff x="533520" y="4724280"/>
            <a:chExt cx="3124080" cy="1066680"/>
          </a:xfrm>
        </p:grpSpPr>
        <p:sp>
          <p:nvSpPr>
            <p:cNvPr id="207" name=""/>
            <p:cNvSpPr/>
            <p:nvPr/>
          </p:nvSpPr>
          <p:spPr>
            <a:xfrm>
              <a:off x="533520" y="472428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" y="478476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84D7-AE42-4201-BB37-0709519CBC09}" type="slidenum">
              <a:t>1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operative strategies and explain why firms use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iscuss three types of strategic allian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business-level cooperative strategies and describe their us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-level cooperative strategies in diversified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ortance of cross-border strategic alliances as an international cooperative strateg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5026-EAE8-40C6-AF2B-BA1C52D78A78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lementary business-level strategic alliances, especially the vertical ones, have the greatest probability of creating a sustainable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alliances are sometimes difficult to maintain because they are often between rival competito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etitive advantages gained from competition and uncertainty reducing strategies tend to be tempor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FA11-BA34-409E-A9D4-C4DE1B0CBBA3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-Level Cooperative Strategie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4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436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BFD1-9590-49B6-86D9-899DEA2E7994}" type="slidenum">
              <a:t>21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 the firm diversify in terms of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fered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s it 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fewer resource commitme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mit greater flexibility in terms of efforts to diversify partners’ oper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C6154-D07D-4411-B732-9DAFBE5A14E1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Diversifying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09680" y="1447920"/>
            <a:ext cx="454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a firm to expand into new product or market areas without completing a merger or an acquisi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s some of the potential synergistic benefits of a merger or acquisition, but with less risk and greater levels of flexibilit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ermits a “test” of whether a future merger between the partners would benefit both part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447920"/>
            <a:ext cx="838080" cy="35812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55"/>
                </a:lnTo>
                <a:cubicBezTo>
                  <a:pt x="10800" y="3255"/>
                  <a:pt x="5400" y="3255"/>
                  <a:pt x="0" y="3255"/>
                </a:cubicBezTo>
                <a:cubicBezTo>
                  <a:pt x="5400" y="3255"/>
                  <a:pt x="10800" y="3255"/>
                  <a:pt x="10800" y="325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0560" y="1422360"/>
            <a:ext cx="3124440" cy="1066320"/>
            <a:chOff x="520560" y="1422360"/>
            <a:chExt cx="3124440" cy="1066320"/>
          </a:xfrm>
        </p:grpSpPr>
        <p:sp>
          <p:nvSpPr>
            <p:cNvPr id="223" name=""/>
            <p:cNvSpPr/>
            <p:nvPr/>
          </p:nvSpPr>
          <p:spPr>
            <a:xfrm>
              <a:off x="520560" y="14223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960" y="14828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BC14-A8F5-4C2A-A5DB-95DD6D35EA7E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Synergistic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62160" y="1483920"/>
            <a:ext cx="454644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joint economies of scope between two or more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synergy across multiple functions or multiple businesses between partner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447920"/>
            <a:ext cx="838080" cy="27432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0"/>
                </a:lnTo>
                <a:cubicBezTo>
                  <a:pt x="10800" y="12850"/>
                  <a:pt x="5400" y="12850"/>
                  <a:pt x="0" y="12850"/>
                </a:cubicBezTo>
                <a:cubicBezTo>
                  <a:pt x="5400" y="12850"/>
                  <a:pt x="10800" y="12850"/>
                  <a:pt x="10800" y="128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29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32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9125-18FA-4C9F-BD27-72421C4B5E8D}" type="slidenum">
              <a:t>24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62240" y="1430280"/>
            <a:ext cx="454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preads risks and uses resources, capabilities, and competencies without merging or acquiring another compan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contractual relationship (the franchise) is developed between two parties, the franchisee and the franchiso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 alternative to pursuing growth through mergers and acquisition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447920"/>
            <a:ext cx="838080" cy="327636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7916"/>
                </a:lnTo>
                <a:cubicBezTo>
                  <a:pt x="10800" y="17916"/>
                  <a:pt x="5400" y="17916"/>
                  <a:pt x="0" y="17916"/>
                </a:cubicBezTo>
                <a:cubicBezTo>
                  <a:pt x="5400" y="17916"/>
                  <a:pt x="10800" y="17916"/>
                  <a:pt x="10800" y="1791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3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0560" y="2560680"/>
            <a:ext cx="3124440" cy="1053720"/>
            <a:chOff x="520560" y="2560680"/>
            <a:chExt cx="3124440" cy="1053720"/>
          </a:xfrm>
        </p:grpSpPr>
        <p:sp>
          <p:nvSpPr>
            <p:cNvPr id="241" name=""/>
            <p:cNvSpPr/>
            <p:nvPr/>
          </p:nvSpPr>
          <p:spPr>
            <a:xfrm>
              <a:off x="520560" y="2560680"/>
              <a:ext cx="312444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960" y="2620440"/>
              <a:ext cx="300528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0560" y="3643200"/>
            <a:ext cx="3124440" cy="1066680"/>
            <a:chOff x="520560" y="3643200"/>
            <a:chExt cx="3124440" cy="1066680"/>
          </a:xfrm>
        </p:grpSpPr>
        <p:sp>
          <p:nvSpPr>
            <p:cNvPr id="244" name=""/>
            <p:cNvSpPr/>
            <p:nvPr/>
          </p:nvSpPr>
          <p:spPr>
            <a:xfrm>
              <a:off x="520560" y="364320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960" y="370368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ranchi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B801-A5AF-49DF-9814-2D788E8396FD}" type="slidenum">
              <a:t>25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rporate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red to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roader in scop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More comple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cost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lead to competitive advantage and value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ful alliance experiences are intern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uses such strategies to develop useful knowledge about how to succeed in the futur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A42C-FC61-4781-ADFB-F2F51B75841A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oss-border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ith headquarters in different nations combine their resources and capabilities to create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may form cross-border strategic alliances to leverage core competencies that are the foundation of its domestic success to expand into international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3177-19AE-476A-93F4-D81009A626F1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ynergistic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risk sharing by reducing financial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st partner knows local market and custo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alliances can be difficult to manage due to differences in management styles, cultures or regulatory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st gauge partner’s strategic intent such that the partner does not gain access to important technology and become a competit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16250-5F06-43E9-BD10-ECBF9EAF1876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operative strategy wherein several firms agree to form multiple partnerships to achieve shared objectiv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le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ynamic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ocial relationships and interactions among partners are keys to a successful network cooperative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3E025-F84D-4839-925D-BC15A9E8E3CE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operative strategies’ risk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wo approaches used to manage cooperative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F7C8D-89C5-493C-BD04-39903ADE3C51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528920"/>
            <a:ext cx="4495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 term relationships that often appear in mature industries where demand is relatively constant and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table networks are built fo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it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the economies (scale and/or scope) available between th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152388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90"/>
                </a:lnTo>
                <a:cubicBezTo>
                  <a:pt x="10800" y="2890"/>
                  <a:pt x="5400" y="2890"/>
                  <a:pt x="0" y="2890"/>
                </a:cubicBezTo>
                <a:cubicBezTo>
                  <a:pt x="5400" y="2890"/>
                  <a:pt x="10800" y="2890"/>
                  <a:pt x="10800" y="289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0560" y="1419120"/>
            <a:ext cx="3124440" cy="1066680"/>
            <a:chOff x="520560" y="1419120"/>
            <a:chExt cx="3124440" cy="1066680"/>
          </a:xfrm>
        </p:grpSpPr>
        <p:sp>
          <p:nvSpPr>
            <p:cNvPr id="259" name=""/>
            <p:cNvSpPr/>
            <p:nvPr/>
          </p:nvSpPr>
          <p:spPr>
            <a:xfrm>
              <a:off x="520560" y="141912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60" y="147960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D450-4F31-45EA-A1F9-21492913E652}" type="slidenum">
              <a:t>30</a:t>
            </a:fld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1479600"/>
            <a:ext cx="4419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rangements that evolve in industries with rapid technological change leading to short product lif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marily used to stimulate rapid, value-creating product innovation and subsequent successful market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rpose is ofte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r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447920"/>
            <a:ext cx="838080" cy="4114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8542"/>
                </a:lnTo>
                <a:cubicBezTo>
                  <a:pt x="10800" y="8542"/>
                  <a:pt x="5400" y="8542"/>
                  <a:pt x="0" y="8542"/>
                </a:cubicBezTo>
                <a:cubicBezTo>
                  <a:pt x="5400" y="8542"/>
                  <a:pt x="10800" y="8542"/>
                  <a:pt x="10800" y="854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265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68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ynamic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74CC5-A7C1-44E8-BA9D-1CDE2B289EAD}" type="slidenum">
              <a:t>31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Risks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misrepresent competencies brought to the partnershi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fail to make committed resources and capabilities available to other partn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partner may make investments that are specific to the alliance while its partner does no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EBBD-73A4-4873-8599-4A0F73924A78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Competitive Risks in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C06F3-6FCA-47C4-AD4A-3306C79B3C44}" type="slidenum">
              <a:t>33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Risks in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70200" y="5724360"/>
            <a:ext cx="24307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ing val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7960" y="4038480"/>
            <a:ext cx="2727360" cy="1295280"/>
            <a:chOff x="777960" y="4038480"/>
            <a:chExt cx="2727360" cy="1295280"/>
          </a:xfrm>
        </p:grpSpPr>
        <p:sp>
          <p:nvSpPr>
            <p:cNvPr id="281" name=""/>
            <p:cNvSpPr/>
            <p:nvPr/>
          </p:nvSpPr>
          <p:spPr>
            <a:xfrm>
              <a:off x="777960" y="4038480"/>
              <a:ext cx="2727360" cy="1295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800" y="4112640"/>
              <a:ext cx="2623320" cy="1147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k and Asse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ro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77960" y="5562720"/>
            <a:ext cx="2727360" cy="609480"/>
            <a:chOff x="777960" y="5562720"/>
            <a:chExt cx="2727360" cy="609480"/>
          </a:xfrm>
        </p:grpSpPr>
        <p:sp>
          <p:nvSpPr>
            <p:cNvPr id="284" name=""/>
            <p:cNvSpPr/>
            <p:nvPr/>
          </p:nvSpPr>
          <p:spPr>
            <a:xfrm>
              <a:off x="777960" y="5562720"/>
              <a:ext cx="2727360" cy="6094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9800" y="5597280"/>
              <a:ext cx="2623320" cy="540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ired Outc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960" y="1425600"/>
            <a:ext cx="2727360" cy="2231280"/>
            <a:chOff x="777960" y="1425600"/>
            <a:chExt cx="2727360" cy="2231280"/>
          </a:xfrm>
        </p:grpSpPr>
        <p:sp>
          <p:nvSpPr>
            <p:cNvPr id="287" name=""/>
            <p:cNvSpPr/>
            <p:nvPr/>
          </p:nvSpPr>
          <p:spPr>
            <a:xfrm>
              <a:off x="777960" y="1425600"/>
              <a:ext cx="2727360" cy="223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9800" y="1552680"/>
              <a:ext cx="2623320" cy="197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v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87" idx="2"/>
            <a:endCxn id="281" idx="0"/>
          </p:cNvCxnSpPr>
          <p:nvPr/>
        </p:nvCxnSpPr>
        <p:spPr>
          <a:xfrm>
            <a:off x="2141280" y="36576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90" name=""/>
          <p:cNvCxnSpPr>
            <a:stCxn id="281" idx="2"/>
            <a:endCxn id="284" idx="0"/>
          </p:cNvCxnSpPr>
          <p:nvPr/>
        </p:nvCxnSpPr>
        <p:spPr>
          <a:xfrm>
            <a:off x="2141280" y="53337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3598920" y="4114800"/>
            <a:ext cx="4859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tailed contract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veloping trus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8920" y="1495440"/>
            <a:ext cx="48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adequat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isrepresentation of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ners fail to use their complement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lding alliance partner’s specific investments h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97944-1D68-43EC-9CED-D42B93388071}" type="slidenum">
              <a:t>34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Minimization Management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formal contracts with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strategy is to be monito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partner behavior is to be controll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t goals that minimize costs and to prevent opportunistic behavior by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6B562-E90A-4325-890A-C9055EA75C03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 Maximization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ximize partnership’s value-creation opportun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 from each oth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lore additional marketplac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less formal contracts, fewer constrai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3D976-C898-4DB1-B42C-087EEA9DC98A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ve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ork together to achieve a shared objec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ng with other firms is a strategy tha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s value for a custom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ceeds the cost of constructing customer value in other way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es a favorable position relative to 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55E92-271E-47E1-A015-CC2359A1725F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rimary type of cooperative strategy in which firms combine some of their resources and capabilities to create a mutual competitive advant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the exchange and sharing of resources and capabilities to co-develop or distribute goods and serv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cooperative behavior from all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661AC-F73B-44C5-9D78-677525DF6516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 Behavi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amples of cooperative behavior known to contribute to alliance succes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ely solving proble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ing trustworth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ly pursuing ways to combine partners’ resources and capabilities to create valu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llaborative (Relational) Advant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petitive advantage developed through a cooperative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0EF0-7B44-43D6-91F0-75288F9AB56F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1120" y="3057480"/>
            <a:ext cx="3105000" cy="1736640"/>
            <a:chOff x="3021120" y="3057480"/>
            <a:chExt cx="3105000" cy="1736640"/>
          </a:xfrm>
        </p:grpSpPr>
        <p:sp>
          <p:nvSpPr>
            <p:cNvPr id="111" name=""/>
            <p:cNvSpPr/>
            <p:nvPr/>
          </p:nvSpPr>
          <p:spPr>
            <a:xfrm>
              <a:off x="3021120" y="3057480"/>
              <a:ext cx="3105000" cy="17366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3122280"/>
              <a:ext cx="2987640" cy="1605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omb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157480"/>
            <a:ext cx="2725920" cy="1330200"/>
            <a:chOff x="907920" y="2157480"/>
            <a:chExt cx="2725920" cy="1330200"/>
          </a:xfrm>
        </p:grpSpPr>
        <p:sp>
          <p:nvSpPr>
            <p:cNvPr id="114" name=""/>
            <p:cNvSpPr/>
            <p:nvPr/>
          </p:nvSpPr>
          <p:spPr>
            <a:xfrm>
              <a:off x="907920" y="21574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960" y="2215800"/>
              <a:ext cx="2608200" cy="121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62440" y="2155680"/>
            <a:ext cx="2725920" cy="1330200"/>
            <a:chOff x="5662440" y="2155680"/>
            <a:chExt cx="2725920" cy="1330200"/>
          </a:xfrm>
        </p:grpSpPr>
        <p:sp>
          <p:nvSpPr>
            <p:cNvPr id="117" name=""/>
            <p:cNvSpPr/>
            <p:nvPr/>
          </p:nvSpPr>
          <p:spPr>
            <a:xfrm>
              <a:off x="5662440" y="21556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1480" y="2214360"/>
              <a:ext cx="2608200" cy="12128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139920" y="1449360"/>
            <a:ext cx="1409760" cy="1409760"/>
            <a:chOff x="3139920" y="1449360"/>
            <a:chExt cx="1409760" cy="1409760"/>
          </a:xfrm>
        </p:grpSpPr>
        <p:sp>
          <p:nvSpPr>
            <p:cNvPr id="120" name=""/>
            <p:cNvSpPr/>
            <p:nvPr/>
          </p:nvSpPr>
          <p:spPr>
            <a:xfrm>
              <a:off x="3139920" y="144936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960" y="1508040"/>
              <a:ext cx="1292040" cy="1292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95760" y="1447920"/>
            <a:ext cx="1409760" cy="1409760"/>
            <a:chOff x="4595760" y="1447920"/>
            <a:chExt cx="1409760" cy="1409760"/>
          </a:xfrm>
        </p:grpSpPr>
        <p:sp>
          <p:nvSpPr>
            <p:cNvPr id="123" name=""/>
            <p:cNvSpPr/>
            <p:nvPr/>
          </p:nvSpPr>
          <p:spPr>
            <a:xfrm>
              <a:off x="4595760" y="144792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4440" y="1506600"/>
              <a:ext cx="1292400" cy="1292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12920" y="5191200"/>
            <a:ext cx="6521400" cy="965160"/>
            <a:chOff x="1312920" y="5191200"/>
            <a:chExt cx="6521400" cy="965160"/>
          </a:xfrm>
        </p:grpSpPr>
        <p:sp>
          <p:nvSpPr>
            <p:cNvPr id="126" name=""/>
            <p:cNvSpPr/>
            <p:nvPr/>
          </p:nvSpPr>
          <p:spPr>
            <a:xfrm>
              <a:off x="1312920" y="5191200"/>
              <a:ext cx="6521400" cy="965160"/>
            </a:xfrm>
            <a:prstGeom prst="rect">
              <a:avLst/>
            </a:prstGeom>
            <a:gradFill rotWithShape="0">
              <a:gsLst>
                <a:gs pos="0">
                  <a:srgbClr val="8643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5249880"/>
              <a:ext cx="6418080" cy="8478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864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utual interests in designing, manufactur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 distributing goods or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"/>
          <p:cNvCxnSpPr>
            <a:stCxn id="111" idx="2"/>
            <a:endCxn id="126" idx="0"/>
          </p:cNvCxnSpPr>
          <p:nvPr/>
        </p:nvCxnSpPr>
        <p:spPr>
          <a:xfrm>
            <a:off x="4573080" y="4793760"/>
            <a:ext cx="1080" cy="397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129" name=""/>
          <p:cNvGrpSpPr/>
          <p:nvPr/>
        </p:nvGrpSpPr>
        <p:grpSpPr>
          <a:xfrm>
            <a:off x="2260440" y="3483000"/>
            <a:ext cx="4613400" cy="453600"/>
            <a:chOff x="2260440" y="3483000"/>
            <a:chExt cx="4613400" cy="453600"/>
          </a:xfrm>
        </p:grpSpPr>
        <p:sp>
          <p:nvSpPr>
            <p:cNvPr id="130" name=""/>
            <p:cNvSpPr/>
            <p:nvPr/>
          </p:nvSpPr>
          <p:spPr>
            <a:xfrm>
              <a:off x="2260440" y="348768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3840" y="348300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60440" y="3921120"/>
            <a:ext cx="4613400" cy="4680"/>
            <a:chOff x="2260440" y="3921120"/>
            <a:chExt cx="4613400" cy="4680"/>
          </a:xfrm>
        </p:grpSpPr>
        <p:sp>
          <p:nvSpPr>
            <p:cNvPr id="133" name=""/>
            <p:cNvSpPr/>
            <p:nvPr/>
          </p:nvSpPr>
          <p:spPr>
            <a:xfrm>
              <a:off x="2260440" y="392580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14960" y="3921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3578-A6E0-4351-99A5-22805F403A95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e Types of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create a legally independent company by sharing some of their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who own different percentages of equity in a separate company they have form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n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develop a contractual relationship to share some of their unique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FAFA-2801-4077-885B-109BD7110371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9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Strategic Alliances by Market Type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219320"/>
            <a:ext cx="84027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0680" indent="-22906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a restricted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a franchise in a new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stability (e.g., establishing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development of new goods or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new market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leader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Form an industry technology stand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hare risky R&amp;D expen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market power (reduce industry overcapacit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complementary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better 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trade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eet competitive challenges from other competi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Pool resources for very large capital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Learn new busines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284D-448A-4C86-AF64-1AE4E97DE873}" type="slidenum">
              <a:t>9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8:14Z</dcterms:modified>
  <cp:revision>41</cp:revision>
  <dc:subject>Chapter 9</dc:subject>
  <dc:title>Strategic Management 7e.</dc:title>
</cp:coreProperties>
</file>