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61B-8867-4652-B2CE-6B0BE5E4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DC2-4697-4C40-9A6C-B3D5AD83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D992-7DCD-4DD2-92F8-9EE59914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FD9-D033-46EE-A177-91C89BFC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154-E6A4-4189-B04C-0C4556098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FC1-944A-44A4-B793-F67B011F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516E-6E11-4C23-AFDD-4FB7DD5A5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565-D66A-4A91-BD74-D5E37D1F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FDB-F296-48B4-B128-37690F83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2E0-A12F-4E4A-BD28-1336047F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4B6B-CFED-4B32-A8EA-8CA2A4AD7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0625-8069-47F3-A3A9-D62816AE6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D3D-A9B5-4723-86A4-78AD5582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80D-2D38-40CD-B2D5-929F8A69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C818-5AAB-4543-B36A-83D005665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DB6-5028-4D77-9FFA-8A4FA52A3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43CE-B5DD-4263-A633-2D8782E4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C86-F74F-44E6-9A09-E0BA4EE7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95F-D9A0-41A1-9078-756B2CF8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97C9-3227-45E9-8CBF-AD7D95F9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392-6AF0-497F-8B5C-794C0041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896-0057-4CFC-9183-34BC43B6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DBC-1A07-4161-8CBD-6254313EA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642-FAC7-4E4E-9339-5526D74B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A8A1-076F-4E40-BBE2-A649A3325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6C67-48B2-4BC0-A5EB-749C0DA9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66D1-1703-4439-AA74-19451419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326-2C48-43F3-A12D-45AE2BE6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8870-5C3C-4C46-BD49-2B7A969C0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0726-AB82-4FF8-A0EC-F6CBE9BB4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9E0B-5921-430F-B521-3973049B1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B18D-3F46-47FB-8D59-A480CEA6C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0C68-D013-49BE-A4AB-1789C24C7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C3ED-00CA-4DAE-9278-D475BA403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4E67-038D-48FF-B8F1-9EB9C1095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7D8E-1274-4984-A1AE-DDB690CD4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307B-93D3-4DBE-8482-19A3E7BE7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2D33-E86F-4E43-B463-F510C6BB4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C290-B1AB-42FF-8680-143BC6051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E9B7-55C2-4FA3-98D9-6CB569101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192E80F5-F199-4ED1-AF0E-D6501CB9B72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5A9A-4BE6-48D4-8F00-0604CB61658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B2E6-9A91-4203-87F4-B6FE24A58B6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0956-3E03-412C-B9D5-16C6D75E22E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0E2F-24E2-4819-9599-91E1D7A9073B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ADE0-2EE7-4F83-A531-6758D2BACE63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91CB-D6F2-4498-BE89-3BEDA4D07FAC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F318-8D8B-4908-87E5-0A4EFAD46B47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4E2F-FA58-4129-85D7-E24360FF4B2B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7D15-AC00-4700-B76A-73B8D6A85CEF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EB56-8F32-4F89-AD92-847760EA7EAD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FA3D-1224-45FD-86B3-57B890EE59A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96E9-4B91-4C06-B1E4-6626ACFD3E7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B348-BE7E-464B-A4F3-0EE7F3D51DA2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DCB7-5268-4A1D-8FB8-62998C81B7D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406C-CBEE-4C9B-9CFB-BBDA78C351CB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2684-0CB9-4BC0-AFE0-595C89F6684E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894F-64F8-4BA7-84CD-CB2781E020DF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53D4-FC3C-4C8D-9ECC-C885AC9597C7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3A06-5916-4288-85A5-C716DF30833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41C4-26BA-48D9-A7AA-EEE0DB226AA6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F0F2-ACCC-48DE-9A29-B02DE151D608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BC7C-C779-491C-8A51-B0A1F0006C2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D52B-85C0-42FA-AB07-A77BB05BC882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BF8A-EDD0-4414-9B73-609EA1E7987F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B695-282F-41B0-BBBD-16A52040C4B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725D-A65F-4D3D-846D-E03975336817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5AFE-AB19-494F-BD91-85DA407ACE1F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56A7-B310-4024-9076-5A3F5265783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BEC0-4112-4ABD-B6CA-0921397D0AF7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3B59-F40C-4C69-B77E-A7C8014556D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6051-3797-42A2-806A-F647BFAA804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F8B6-9289-444D-AF70-2A0DE53E9E8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A9DF-B638-4995-BD10-9CC228BAF16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6AF8-C0DD-4105-BC9B-802ACE50D44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B9BA-9C62-47A6-B1B5-BFFB9DC023AD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14Z</dcterms:modified>
  <cp:revision>41</cp:revision>
  <dc:subject>Chapter 9</dc:subject>
  <dc:title>Strategic Management 7e.</dc:title>
</cp:coreProperties>
</file>