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9D45-0477-4489-BCF9-2439A1FFD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5A27-3384-4D2E-AFF1-D45F23A97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2780-08BA-492D-B761-93BC5BBA9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566B-D03F-42DC-A8CA-FD73C2996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35F1-D802-466E-AC7C-AF083045E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9983-FA88-4061-B57A-3894E7AF0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EB5A-EB3D-44F0-96AA-44D2ED958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83AF-BA00-43DF-9953-BDB6F57EB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10DB-CF1F-49F1-8674-EB00F7C34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B1A7-C0F0-4378-B512-2F85F37BD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0CC4-9D23-41F0-8B05-D086E27F4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4703-5B54-4A8D-88FC-474041A0C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FE3A-0FF1-4413-AE76-F528CDCD5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0002-8EEE-4B0B-91D6-193819C8C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1A27-3604-4194-AB99-5A97B9D87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B310-5B3E-4477-865A-4CA8C5B97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C137-87A7-4ACB-A1D0-FEE951B75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6124-1E15-4951-8CFC-8016DF4AF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19B5-8568-41B4-BA85-AE5E0802C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5F74-B192-4BBB-8366-CD0BD4D11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5379-4D85-4D3E-BD8B-B4E90939F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5328-12E4-4014-9FC6-4E060FB73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AB2A-F0BE-480A-BF16-22B0B9660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9CCE-8C56-40A1-9665-DA52F76AD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43AD-907F-456B-A4BF-315755491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B4D7-269C-4D61-85CF-2E2AC8E25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C3F4E5-DECD-410C-85A7-7C0E67A164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61026F-82DB-422F-84CE-672A706DDC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E3D23C-8697-4FD0-828B-396DFDBF22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ABE894-6490-4E64-A0D7-0ACBF5D86C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5B04CB-6850-420D-B645-8AD0293536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333B70-BB6F-4142-B27D-D7970EA084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DCCC43-B9B6-4A6A-A2AD-80E5C556ED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96C578-594D-4768-BABD-15A3A5800C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31D70D-8573-46E0-8B92-1C5393CD05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0413C-70DB-4516-954E-014FBC35DE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559A7C-5238-4197-AD41-5693ED40FA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09F2FC-82D0-483E-8295-B6DECA830B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8ED8076C-96C7-41D6-BF09-14ED069101F4}"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30B923C6-D068-41CC-96CB-B7C7131D9C27}"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6EF8155-160C-4C36-B6A6-00DC4D53B255}"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B99233-81EA-4950-B8CA-E93F179EFF3D}"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E9E570-2E1C-4D43-A1DF-2AFFFDF9F12C}"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84CE6E4-0686-4E38-B7A7-4C1C64925C99}"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A710609-B3F5-424F-A85A-2780177C4E5C}"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1519E52E-4E76-4EDD-8E23-61E60736CF16}"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739F9A35-69EC-408C-B299-CCA76C7E0259}"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9D9548AB-61D1-430A-A224-5FE9F19F2099}"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B008A38B-A4FB-40A4-8E4C-3998595D3433}"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A566CE-1C35-493E-8BF3-B0880103E16B}"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FAF7D5E-617F-4E64-B16D-4581A234C379}"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C9DEC99-5D29-482D-9473-0810F153EA4A}"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C2CEBD6-04FF-4B93-8261-DB1B6671B0D6}"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0155F42-043E-4159-9810-5894168BD543}"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BFC2538-1066-4B5D-AD37-E908CF8E8BD6}"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4271F6F-9828-4E0F-AA85-CEC3F6235C9D}"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683D337-5224-45DC-B640-76A80FB561D2}"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973740E-9425-43CA-9C58-14E4229177AA}"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8EB49E8-9A8F-4933-BA92-11EC50B9FC3A}"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DD3344-B70B-4917-958F-CD4E1C874890}"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E8EF70-2C35-41E2-B56A-F27E8E5C85C4}"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59F137-B872-43F7-A8C5-8AEC7DA2ABA3}"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4DF58908-7DF9-4D3D-9A23-4A95C1540800}"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86C38BB4-92F3-46E2-8B2B-5C8CAF2FC89D}"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B94F2F7-4DD3-459D-88E8-69A5BA172A8F}"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62A6C995-C283-41F7-88FF-45D7F58C2270}"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5828557-CEAA-4FAC-A996-E2BF2DAB4E8B}"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48CD0BCA-7812-4620-8449-D820DE5F6BFE}"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054A955-FA38-4135-AA50-6167F11C5D15}"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1EF7925-65F3-46C7-B280-7216E0D04ED7}"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D964E2-1B6C-4BA5-BD8E-439020918EE1}"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Teodoro Wigodski</cp:lastModifiedBy>
  <dcterms:modified xsi:type="dcterms:W3CDTF">2006-07-29T17:27:35Z</dcterms:modified>
  <cp:revision>40</cp:revision>
  <dc:subject>Chapte 8</dc:subject>
  <dc:title>Strategic Management 7e.</dc:title>
</cp:coreProperties>
</file>