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F598-D458-48C7-9D18-D86F5A0B1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D717-EA4B-40D8-9E71-9BCDC61F2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F264-A77D-4C59-AE68-81FB2BAB9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FAB1-AAB0-4C3F-8D12-D155C813F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A384-7DE9-4184-88B7-BC6491967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54DF-3F0A-4B04-9DA3-0426936C8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1F7F-7D49-4E27-BA30-9DC80222E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72FC-E740-4ED6-AFAA-05053A31C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A235-A1EF-4F54-8D7A-D1E49226F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D4BD-05C8-4207-991D-B8E8A66A4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3FB8-BB63-46CB-B667-1D5679710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2727-B3C2-4482-A02C-60CD51FC0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8C56-110C-421C-868C-0D7629D9D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06AC-4A7A-42E9-86DC-E63C9CE71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3FAB-8E7D-4177-ACB1-1191385DF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886A-02C6-4668-9E33-4D4A43D04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FCDC-A139-4004-A7B0-BAD648AF2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C0B9-3EED-4947-BE82-87945D4E9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337D-FF4F-4537-90C4-A705D94F3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5CB5-8E72-41EF-B724-69648EBC5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DF52-0ACB-4F35-A56F-546E1D4E3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48F8-C1C6-48C1-B277-120ABF902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3CB7-DA11-42D3-94FE-4EB298862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5588-5C28-4B0C-89BD-B0019B32C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696A-3EAE-4A62-9AD0-212BF0C90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CC58-DA27-4204-9046-AE5D0A84D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6D6B4C-4FA6-4052-96BF-229024A05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429FF4-27C2-4678-A62B-1C20144CA9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F4A5FF-DAAA-4E52-A709-B489B29E38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6D9FF7-0EB0-4389-B867-52D7322813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435BA3-A69D-4358-8325-2CBC103133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F13FD3-2410-4779-9C90-3FCF156AFD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8A80EC-BD2D-4B55-B383-5F7EBD7FAD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64389E-4F3D-407F-8AA1-26CD7D76F2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52C756-6400-4C23-A4A7-EF0B2A2F15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E21D56-CDA5-4C39-B48A-2F4ADEABD2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87F39C-54BD-4C1E-9510-7C3B7ACBE9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071D6E-1865-434E-98E4-D81D7DA04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96A37EA2-62E2-4EEB-9806-CC56BD9B981E}"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834E0032-9BC3-4891-8074-08BC68AD3D1E}"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88900B-EDED-4FBB-8C26-448FC3332E3F}"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51DDD2-7F24-4806-B1BC-22CF3C3F3032}"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9D9B52-DAC5-4262-9573-B9AEAEED7471}"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B7DE463-617A-4BD4-BA48-AC64F11DAFD8}"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BEC4E8A-0DDB-4EAE-8A0E-8BAB6C103765}"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A7565811-F43F-4C5F-8653-DBD93B824C16}"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BFF9F2C4-791F-4A1E-BBFA-7013A7882146}"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CC7F42AE-F73E-4CA3-9108-752E026E6D06}"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4FDE510B-B3FD-4A35-ADA1-C6B7FE5D8C2C}"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0E7E3B-50C6-464F-A888-0A62C94139A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B80FF78-70EC-4379-9AD4-9F70D1477CBC}"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C919C50-5BFA-4A4D-91B9-458EA6E50B29}"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E74AABA-68FE-4F81-8C9C-F23C0B6D4F72}"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5E8FB28-A5FD-45FD-9659-6DA5C663FD0A}"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4C0284D-81D5-43E2-AE1A-5433F0165098}"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2CA52D0-FBE6-4156-8960-9B6D451B5E7E}"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020ED3A-D790-45B5-ADF2-2B4CE7FDE543}"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07ED2BF-5F07-409D-A056-EDD2B4878C3F}"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55A3AB5-109C-41D5-8C12-007470B33E60}"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29B8A3-A253-410A-A929-780AEE088DC6}"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AD0075-6ADA-4943-8BB3-97BE28ED9343}"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3EED7C-B332-48A9-9ABF-4FB79D1CB293}"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B26DC8D7-CE33-45C1-B67C-1421F8C32E4D}"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051DA3D6-2DDD-452A-A502-F53C3DEDA4E8}"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7B283DC-D93B-45AB-A0EF-1695DE508988}"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D87F11EB-422E-4E98-9D60-4D8EF59BD66A}"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5E98167-D339-4234-954D-63544D90890D}"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ECF017F5-807A-42AD-B3DF-9A2F3F85E26F}"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919FFE2-6E0F-4D4E-9D4C-0D30158CA744}"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4578C5C-4618-4B67-865D-D7C7C5E491FB}"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CD7427-0DBA-4F61-8166-A64F1B2EE984}"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7:35Z</dcterms:modified>
  <cp:revision>40</cp:revision>
  <dc:subject>Chapte 8</dc:subject>
  <dc:title>Strategic Management 7e.</dc:title>
</cp:coreProperties>
</file>