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8443-77B6-4B3D-B51D-934A5067F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2652-148C-4C2E-98AE-86971A235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E03F-222C-4CAD-BB5C-36A7CA354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3233-0F01-4D6E-BDBF-82BBD8270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B724-D9B1-4638-94E8-CB0B464E4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8DD3-4C32-47D3-B34F-D6A760256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C97F-427F-40C2-B7C9-DA3E88B79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ABEB-7A3C-4265-A254-92F295059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D4A61-ADF6-4019-84F4-9EDAE6D5A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D93C-BBAB-4E36-AC3B-DC2781D0E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522C-8DA3-48C9-B0F2-A592535C3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CEE9-3E5E-478C-ADED-862CC5825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1E328-8F6D-4846-B673-5FC2A7BFF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DF83-2DAC-4BFE-ACC8-92B0782FE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C124-EF9F-4FE0-A25C-9A8152A64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2D0F-2669-4FBA-B718-5E92E11A1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2A4C-3E09-4853-9AA5-C98CB157F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279A-0B0D-491D-AF06-BF5F0D044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2B6B-E32A-4DE3-A56E-AA38F3D4E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C4BD-026A-4272-B45D-B7C58DF07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BC8E-E54E-4790-BC1C-93B92D1F1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FCB4-D30D-4CAB-9138-822EAECB1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F423-33E7-48D9-9CD9-FE8347E79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4C3E-C8D1-4094-BEC5-2AE762393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8CBA-D638-407F-87CE-6D8BDB1B3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E289-442C-4621-99D6-CF1D0635E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0825236-EBC5-4281-A66F-1AD94E2FF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53579-A27C-4E81-9471-0AADFA12A8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3759A4-B308-4BB9-874F-2620B08EC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3E0622-EC81-47AA-BCD6-BA988DF13B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FC0EDC-0A2C-49AE-92BB-C9547D347E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F115DD-B965-4C21-B529-B262FC48DF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A77779-1D41-4C1D-B318-161812A6B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A7309-6823-4FE9-9CAB-F10B7F6DEB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02D9F6-1553-4E54-8D21-BDA0BD274D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C46993-6F73-4461-874D-C578A249D9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BD8426-8F92-422F-8202-46BBCA0EE5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0E12DE-92F7-4519-9A91-67F3CB5CF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82E48BA4-E8F7-4A06-8DD4-963E2545A120}"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20D29512-057F-4D36-91AB-EEAFB3375389}"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BA0466-7F40-431B-8083-89385FE77EF5}"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D2A26F-C30C-4784-A475-900DA47F3D55}"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0CD72E-A081-4612-B96F-A11E04FE084A}"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54EAEF2-0FB7-46D1-897C-0B97E376C68C}"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64A7A0F-6CCB-479F-9CE5-496EF95F081E}"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75AF5D00-221E-4841-B51D-84C7D132964C}"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7725EB94-C146-415F-AAC6-23A7F36E9B54}"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9B451409-6252-48D8-B844-A080F1E79AA4}"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C5F498E0-6FCA-49BB-A4DA-A00D08BF9157}"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058972-DE54-491D-9182-70824E8DCE78}"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8C6141-B3BA-431C-856C-A41054BDBAF8}"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85D2BE5-E17E-49E2-A2CA-44ED80411859}"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131AC0-387C-434C-AA79-2734279B0DF2}"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2C10E26-F77D-4624-A0CA-7D60A01A8233}"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99E874B-1139-4ADE-8978-A657ABB6F08E}"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602E848-A60C-4E9B-9A15-1ED758CF9342}"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72FD030-13DA-4F8B-A0F5-C1EEBE52161F}"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6AAD91C-3CF7-4D3B-98D2-3A5527EA05BE}"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C6BF2E-CD41-4F61-9FCD-EFD1C8005671}"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7B67FC-0C03-4BD3-AC36-66C640D61792}"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1C6FF8-7ECD-41CA-AA95-2E413919ACD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F48D6-C907-44C5-8287-F185FE24ABBA}"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3E0DDEB8-AE8A-49C4-BEE2-D13B1C799898}"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8A4D529B-7CB1-471F-A1B1-BD1BB7EA6F43}"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3BD84A1-696E-4438-BA72-68F3893929A9}"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F487A2B6-1FA8-459E-815B-E1FF49ADFD74}"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0DDF3CA-B2CC-4B51-BF93-090F8F0824BC}"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08529303-A4F3-45E3-A3FB-E4DEA955065C}"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27B9A20-41A6-4C62-BFB3-CEA97DB73417}"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5FF8322-9B40-4418-86CE-11BD48BF08FA}"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A538C1-7655-4D43-B334-AB8609C21975}"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7:35Z</dcterms:modified>
  <cp:revision>40</cp:revision>
  <dc:subject>Chapte 8</dc:subject>
  <dc:title>Strategic Management 7e.</dc:title>
</cp:coreProperties>
</file>