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DD0C-6B37-4FFC-9558-A253C93C3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52AD-72FB-435C-AA0D-261709304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1B8F-B0B3-4768-A4EB-23F577F6F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28C7-56DC-4352-93AE-B1D5B2021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3810-AC02-4F74-BDFA-25B3AF3E4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C8F6-6452-48DD-BD6E-48A3E69E3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313D-7769-45DF-B1B7-973851851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5616-A69F-487B-8CFC-8A601E733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EC71-9956-4589-8D30-ECF8414A5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6A96-41D5-4FAB-81A1-F882A5817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5F24-96C1-4668-8E4F-AE3D45119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023B-6607-4D3C-A46C-E967F7F8B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15D0-A431-497D-A891-076A5FDBA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2FA7-5DD0-4000-A3F1-5EA622ED3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A31F-2D0A-41FE-BC60-E10B3F877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05B4-1D8C-4CDF-B6E6-472C74750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B9B1-F1BD-484D-B952-E876F8208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BDC0-36D6-4173-907F-45152F260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F2CA-638A-4591-89D9-9770797B7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8AAF-C5FD-4540-94F1-C003FECFD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19CF-7062-4470-A313-41C2853A8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FA70-DD5E-4D5C-818D-18AE81C02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35DE-2DE2-4552-A27C-094490F9C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86B9-EB07-45B6-8222-FBD89ECE8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0DCD-4718-4BE1-B305-461B3EAC5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C32D-D184-4BE3-A5A3-DD63FF807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1C76-9233-42D8-930A-62D5239B5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2DF1-3739-4948-95AE-C109DA394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C2C6-6D67-494B-99C0-2907039F9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017D-58F2-43BB-9637-424FE8FE8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3FE274-2A3B-4B46-ABC5-1E388329EC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96045E-E5C7-45F8-9528-1092B580F8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DECB9B-0AB7-4155-BD4D-869BFB54B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1DE0DC-E91A-49B2-A57B-3F8FABF0FD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F9C0AA-3760-4D4A-A7D3-A1A077E57B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54DC7D-AB14-4E64-9E04-84ECDD4615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00B1B6-EE99-495E-B246-23C532A042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6DD586-AE37-4624-AF48-5DD7C8EA17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D4AA31-07A9-48A1-85B5-F01877F1CE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584F7C-2974-404B-B9F7-C7642611FA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EC9EC-DDED-4094-9A33-4359814A82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7771C8-578C-4E20-91C9-2E1E4B539E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136F1E4B-E773-4B3D-BB2A-D21D7F7CEBD2}"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5FF15BE6-C560-420E-8CE5-ED554DB8674F}"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E41E08-D7FB-4846-808F-47B285D05F91}"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4A5336F-A788-4B15-8B43-EC1536BF0943}"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9629AB2-6C1C-47CA-98C1-8EC6DC44BF13}"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08D8911-5CAF-4636-9B24-1EBF61D19F29}"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DF7B380-1D87-42D3-8336-E628E320EF88}"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F84DF70-D593-4817-9156-E5E3FB24DE35}"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5409BD5A-EEB7-49CE-A599-111F9AB3BBEA}"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C3828FB-CFB3-4524-A2B8-A65F05B9164C}"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08C3094-9418-4EF1-A3D6-5D070005004B}"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D833AE-AF55-43C5-AEC6-ADC31A9406EB}"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7ECF69-1990-480C-A52E-6A7AB4AA53D4}"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079BB8-1420-4FFA-8ECE-E4BDC160A079}"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B2AB12-4D6F-4BF9-8072-7FDE796B6F7D}"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04F2902-BE08-4C90-93A6-EAB035FBD9D7}"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8E344F2-60F3-43DF-86CE-E2721BAA6A67}"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E4CD51A-B4F1-4A7C-99C6-D69AD2439DFB}"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7F4A5B5-6DE7-45E6-A928-AB7A5C221F50}"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D8EF281-A8C2-407C-A884-C54826EE9999}"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736FFE5-B184-471C-8B3D-CD09FAEFD8B2}"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AA87223-2F69-4B7E-A490-2E43604E97B2}"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05D96D3-AA35-414F-88B7-1487E5FDB82B}"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98C17CD-CBEF-4888-8A2B-67F8BF21646E}"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250AFE8-3D17-4A4F-8AAE-E6E1AA2B520A}"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28F4959-375F-47B4-9FEC-604F43F73FDA}"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0EE5C0A-94EB-4E4B-A105-9E318F9F9889}"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8CCCB379-2666-488E-B45E-70F7325C20BC}"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1CCC835F-6568-472F-9A3B-2F821E35BF9C}"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5A134D63-E81D-40EE-B8FA-82019697EA7E}"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4D2478D-D16D-444E-8FE9-FFEC9A04F981}"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FC9DBE7-2F0A-4249-81C7-0A37138D02A4}"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E43FE47-7DF8-4913-ADC1-12E9FF7AA3B2}"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4E1D8AFC-FA31-47A6-905C-9D97487FBA8D}"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Jorge Lara</cp:lastModifiedBy>
  <dcterms:modified xsi:type="dcterms:W3CDTF">2007-09-13T20:05:23Z</dcterms:modified>
  <cp:revision>40</cp:revision>
  <dc:subject>Chapter 7</dc:subject>
  <dc:title>Strategic Management 7e.</dc:title>
</cp:coreProperties>
</file>