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807F-DD41-4B5A-A7DE-E97B5BDB5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C463-B5F8-476B-BFA5-DA40CC7D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2949-70A1-4A4E-8F48-B73518B27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C85A-901D-46BA-B69B-4A0B8C73A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2C90-7A60-4269-BBB4-FB0A9C124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81E0-4EAE-4F7C-BF1B-8B1C21268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AB69-D55B-4DD8-9F8F-97A27782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8963-C1AA-4DEA-9AC9-E16DF2366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6A74-2BC6-43E5-A18F-451C78E6C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FC76-8244-46E5-B85B-98B47285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FC50-8EAF-492B-8DB8-52C77C81E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DD53-4DF8-4FD9-B5EA-17ABC5328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B5CB-F584-4FE8-BD93-B7D753B9D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0AB0-7498-4987-918F-BBACE32FF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4A19-1753-405E-9944-7DF3665BC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7617-26CE-422A-B53E-4C5DFC3BE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E564-4229-408C-B488-30A18F127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7556-7D74-4406-B014-E70874FDC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1FF4-87EF-49ED-A245-92FCF73CD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85A3-7854-40BE-BCA8-8DF8CE11E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32BD-4649-4232-A90F-CD0879B40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6364-88F0-4087-B17A-EC612EE94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8150-AF50-459E-9AFD-A6CA67996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0239-FF68-4EB2-9D26-D369D7BDD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16A4-8DCD-4E8F-ACE6-E421A0B3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0160-D1EF-433F-A503-31FD8B54A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EBD9-B67F-4C97-9BF8-6693E8AA3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5C21-16E7-45CF-A93D-7D79070FA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09FF-84B5-4E3C-B63F-FF0EB1503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3666-94AA-4983-9364-1C3B58F7D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5436F1-334C-4C0C-9C03-D808C8103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2B4385-7532-46A6-B8C4-C8014DA4A1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29BE5B-CEF0-4505-9281-1310EFB15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38BCAC-F023-4430-920C-14C581AF69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EE92C-7E51-4760-885C-8E5988ADC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CB5A90-5002-43FF-A4FD-3B99BBDDA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5B59D3-0B96-4B5B-93B7-F253F4203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4E760-7C17-4113-A5AF-42FCA577AE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9995D7-06B7-4EB1-BCAD-859622416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CB414-9D74-46FE-995E-F7D84EE563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C0870-BF87-425C-801B-D225B8227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E6FAD-68EE-4B9B-93F0-41068C00F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81B29D7C-539D-40F3-A120-C4ED85EAA9C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1229AE3D-6AA4-4DFC-B04D-4FA5C65CB489}"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77B00E-C1C6-4AC1-BE6D-34EBF5F19D45}"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72EF570-8037-4CBD-82E1-BF7042C1C56C}"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CCFCD5-FFC7-4FF3-8E62-F111DCEA5968}"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B147443-5569-4CB8-8886-52FC3E9DA864}"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822FDF4-933E-4C5E-AF1F-674B0C09AB57}"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4412CEA-1D25-491E-9CB9-57EEC922BFDA}"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2DD2534-EE2E-4D8B-BEEF-744B088AEC3E}"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D0638C-EDF6-4B58-9864-75DF7BDE1F09}"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FB50A22-A0B6-47FE-B5D2-7C0B597C33C5}"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394967-CF2B-45AE-8234-A66C8C2C53B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9C698F-70A7-48B6-9531-71F3D958BD3E}"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CCD958-9D41-45FF-958A-BB9008860DB6}"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0C057C-49CF-4BC3-899B-32301034F873}"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2BDA8F-940E-405D-AFF7-C277306BB702}"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DC2E8D-8BAE-4AB5-BB55-DE4216A7B7B3}"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BA2EED-63EC-4D38-A192-663332BD0CF0}"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4B315A3-4C50-4561-9066-EF362A7060EE}"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E90B34B-4AAA-4424-85F5-8D65804B3EEA}"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3CB30C-C160-4DB9-A900-0D6EB4E3FD9E}"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01354D-7289-46ED-AFAF-109AECB358BB}"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8D9E83-4A51-4F23-89E6-33FFFE1DC04F}"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E69EF4-9961-4522-9225-D391F887F06A}"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B36869-6726-4EFB-8691-C1F09CE7D1C1}"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ACF504-963E-49AD-8E75-6EC080638669}"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C0B4710-1D2B-4F8E-AE70-141BD551CCF2}"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58F63A7A-3368-4FC9-AF54-48B0F6109CCC}"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ABACC87C-E8C6-4A02-92E9-EF8379ADE7A3}"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AC3F702-EC02-477F-9236-47D84297E28D}"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5FEA26-0736-4EB3-8530-309C4F02D3AD}"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5B777D-2FD5-4240-9CBE-A837112F96C2}"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04782A-C465-478E-8CB8-3BB698722FDE}"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BFE65D76-656D-4BDA-A4E6-ADCFE713117A}"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9-13T20:05:23Z</dcterms:modified>
  <cp:revision>40</cp:revision>
  <dc:subject>Chapter 7</dc:subject>
  <dc:title>Strategic Management 7e.</dc:title>
</cp:coreProperties>
</file>