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F296-0660-4A98-BE46-599259F9C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D498-E6E4-4169-9E43-DBF81E140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82C9-E4B3-4847-A556-45AA6E035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99D9-875A-4437-8CEA-E56F5FBED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44B9-4173-4BEA-AB60-A46F73188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F8CF-D655-442E-ADAD-55C739F7D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D8FB-26B6-460D-A306-21A1C164D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61FD-FF82-4DA5-9DF8-6E04C0879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DA16-0715-4928-BDF0-1E79C2292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EBDF-8FA1-4C6D-A67F-D9AD04CD4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B2C6-7EFF-44A9-9F68-4E10B7C7F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3956-616A-4FA2-B3FF-6B1670343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2D5C-AEAC-4D57-B08B-0DC2E9684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D2F2-5025-40C7-BF40-B3D21D847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A3B1-48FD-48BF-9305-B925885A1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AF66-E525-4422-A145-816D1A942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3D3D-CEA8-4848-9430-9B19D33DA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FBF3-51E4-478D-9A07-594555D65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911D-0F16-4E75-8CDD-EDE917D56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CFF1-2A21-421B-9E61-8C37C0AEF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EB3C-6FA6-41CE-8167-4CE178FB1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8F02-55CC-4838-8455-6DA316B7A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DA23-D5AF-4F92-9CEA-D60BB517C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B574-4C84-47B7-8AB8-1C129B512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2890-076A-4098-BF2E-D5DF74804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D544-76C2-4B91-8F8D-C8FABE813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A78D-9849-42B0-90D5-710C4EFBF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3E8C-5C68-4365-AFC4-458F4F127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C49F-43FE-4087-A17F-010BC8FE4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AD36-FC95-4388-AFB1-7F44EEC30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C83B24-5E9B-442D-A5DD-24F7DB99B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3FC759-F6BE-4C64-AF9E-8E330577A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5E8A04-8421-4189-99E9-BCD79969F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78D81E-9393-4C04-A35B-03F8BC02D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A3FA4C-C233-40C8-8E96-5DB470CE85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E925C-E603-4356-8FD4-C7D9DB163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C104CF-654C-4C9E-825E-018752E515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8B4440-209D-49A1-892E-892A5306F0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DFBBC8-4D62-4D50-BB66-7D8DC70375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FA7D8-9A55-460C-A1C6-98F7350359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365F7-78C6-4012-B76B-3C7E9D10F5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3CA16-C46E-4CFF-9AB2-023C46C0D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DDD54CA3-FD1D-4D0E-AE14-DFC2830E6E7C}"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464F27D6-6FB4-44D8-A660-388D410F66E6}"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48FA48-1EF5-41CA-8AB9-4BB227B700B1}"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873A50F-0C06-4B64-82DC-CE72064FD16A}"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6F14431-875C-498E-A7E6-7CD5EABBF49B}"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BF5C154-4B61-4085-AE4D-E2F082A74951}"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D4982BB-4C27-4A13-9977-B7BC79820C03}"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127ED65-C1FD-4240-A390-4E5CD4631ACF}"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B04F38DD-F101-4F20-918A-C5476BC1138C}"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82BCDE-C209-4438-84DE-DCEB69FDF9D1}"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01AB26-D018-4320-9DF3-D7D42751E60E}"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40BB3D-3300-4723-9B93-F05F7522552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67467F-024B-42F1-B3DA-8E9D561C7257}"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648C02-61C3-4D14-A159-862BF69AE5DC}"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8C93ED-B85A-4381-B45E-BEE1BAEAD11D}"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E4DC08F-2549-46A6-ACC6-74EA5FC06075}"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69209A-0B84-4374-AE52-922CC8CCA040}"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D1BAB2E-6CE0-4985-81C9-81CA99FE05E4}"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264F17F-A72A-4F05-9620-79ACED3D5B5A}"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D3651B5-E00F-4D4D-A53A-0C9D7210FB11}"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671AE3A-87EA-40A4-BCA2-BE947D860BD3}"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F4D0809-F062-48E5-A24E-6C256CAAFDE2}"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403D6E5-18AC-49C3-87D8-72F236715A75}"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13C295-FB89-485D-923E-C8BEA48D4FC2}"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1F077DA-1FEB-4AB6-877C-6D6B8409EBE2}"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80F69E8-442D-4AF6-95D7-C4479556BCCA}"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C1878C6-1768-464F-9717-B01104DB814B}"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D75A571A-BA4D-4E13-A421-E8E612BBD38A}"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E83B02F4-A1AE-4F66-B512-669AC2E3EC79}"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C3A848C3-CE33-4871-9E95-4951B2C94FD0}"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4D902B6-88F5-42CA-BA0A-264475ED19D7}"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D98FB9-0B61-42EC-82B1-E83B5F17772C}"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0A1587-A1D4-49B7-BB40-20FDDA792F0C}"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95ADCE06-DF41-4BF7-8852-7B23024F4D00}"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9-13T20:05:23Z</dcterms:modified>
  <cp:revision>40</cp:revision>
  <dc:subject>Chapter 7</dc:subject>
  <dc:title>Strategic Management 7e.</dc:title>
</cp:coreProperties>
</file>