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01D7-7775-4556-9516-F510E1DB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8377-79E6-442A-8AF7-673824DF7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2548-80BB-467D-9D8C-A8E0AE7F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E67E-1B5A-4309-802D-30E4E2A6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36B-598F-4898-ACDB-7F20F1DC7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00EF-2ED9-4C7B-A7E6-75799469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9A8-1C0C-45FF-867C-EA8EF142D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163C-5810-4E43-8DBE-31EF624FD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9C89-437B-4E48-9DC0-1E470860E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B5FD-75A1-40D1-B0D4-A092E049D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1009-FE14-45A6-99E9-BCC9FE2F9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3546-BB1D-495D-A0B3-59856AEF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B98-341D-4BD1-80DA-E4812AF3B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9FE3-A6E8-4B04-AEE5-376F00E15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406D-ECEB-4958-8378-938FD132F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2097-709C-4D72-ABBC-D2B4617A6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6F2B-7043-4882-BB18-6E4728D9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C28D-65C8-4EFB-8ECC-53B57C41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F0C3-97DB-4A07-A39E-FC76137A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600-1E1D-4E5C-859B-D534171A0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4923-B6FC-41FB-B619-7ED08C827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9C1D-1942-4D02-8F5C-F75C19FA8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86F2-48E3-43D6-9A05-680A30E76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3A2D-C050-4911-9311-6F849A4AE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39F-6A25-49FF-A813-087DEDE62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C4C5-B079-49B9-8167-53443E59F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BFE2-5C29-45E2-8A9F-CA0C4BEF2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DD0D-8B72-4757-895C-F3D424439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1211-4A21-4518-B9CC-04A192B78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BF8A-71E7-4E4F-91F2-972F3E8F2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49D3-B23F-449D-9941-DBA7ACE3F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7BCC-42A3-4064-8BC6-BD3541B78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CE60-260D-4C57-B605-E78A6F669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DDC4-12F6-4618-980D-DE3AD6AF0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ED0D-3B84-4B05-A74B-59ED64ED5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4B7A-6ADC-4CC8-AAD0-9557FFBF7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EB90-5553-4884-9242-E914B12A0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5095CC98-0A82-4209-8E41-8BFBF00E277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C09F-3F25-4750-A1D5-CE6F7A34F911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3B99-248C-4D23-AB34-5A0B551E5500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17EA-04BA-45A8-A8A8-3A48728BF3C0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A86D-D6E5-47D8-BE73-FE3D9892603C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B0BB-581D-4264-BDAE-4E0876A8E023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33A1-CE9E-4C4F-9716-18527B6B690E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8000-DEAA-434B-9FA8-729C8AFF613D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6A5E-CCDB-4220-B6FD-6C3BB158A676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7F31-42F4-44F2-9A0F-6093B4FE8CD0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A50D-F358-453E-A697-998237B66D44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AD1C-F14B-4825-AA53-0E280C58D1B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DBFB-6863-4461-AE61-14FEDE5922C8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894DD-5DC0-4638-BB92-4F68A8848D1B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49EB-D02B-4C2D-9D0D-B5E8D18574B1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BD61-EC91-4741-8EBA-6A2BD8A4D60C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B845-F482-445D-B96A-477F2AB9CC86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A6A7-389E-4C7A-B7A9-1C3579A2EC92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5B7E-58B3-478E-96C4-289BB016DF61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C4AE-C141-4F41-8666-44C3296BDDA9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5F64-38AC-45D9-8F55-0291D3A2A2B0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879F-C914-4BB4-9E7F-4BFD5BEC6EDE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FA19-81C9-4383-8E88-2B95C7ABAE1B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D912-01E1-4FD0-8B32-572111266845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2279-151B-44A4-BDEF-14797BBA0F54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22D5-9145-43BE-A1CE-12F7B7CF5DF2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6DB1-2C49-437D-8061-BACE090E0FA4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C4A6-DFDF-480B-988A-88177F454775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DAA2-C3F8-4191-A9F9-D894BB4F2001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17270-E8A3-4B6D-B711-503DD5A33C15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B0D7-D535-4375-8D1C-71B22B373D41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6:26Z</dcterms:modified>
  <cp:revision>42</cp:revision>
  <dc:subject>Chapter 6</dc:subject>
  <dc:title>Strategic Management 7e.</dc:title>
</cp:coreProperties>
</file>