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BCC-DD04-4E20-BE4B-05A2863C9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A88B-6742-400E-B514-EFF667520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7B0D8-5A07-4D02-8088-17538346F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B96CF-4F69-4DA2-BE32-2608D9037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58A3-4F32-4885-BF17-4AE3546E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EC19-1CB1-45B5-ADC1-80BC77C9D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CABE-2607-46D7-B9FC-1E38B920C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5BCF-EBD1-4234-A182-FCA0B5632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A401-36B5-485B-B3CC-D922480B1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40C1-D878-4D97-B030-07BC94DD4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4B82-3B11-42A3-994E-360F06874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913B6-2D89-470D-A849-134BE8015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ACD-2BDB-4B1D-BBA4-12ADEA56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EE8E-735C-4BDD-8EAE-3FDB20785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DFEAC-2B56-4042-9BA5-40F41BA88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0A88-427C-4488-8DE2-301CCE6CD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CD00-9B03-4BA2-BB39-B6A10A3FE1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7F9E-B80A-47BF-958D-0FDBB3CF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F4A7-3010-4F16-893A-AF3CA0521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BD4D-85D0-4CE2-B1EF-869024751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7FF8-4BDE-49B5-9041-CE349E877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03493-C5A4-4E1C-B284-2237FC7A1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3ED2-531B-41EF-8DB3-70E2355F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DC5C-714B-4C56-B433-EE3F52D2C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1813-8F7D-4792-BA14-5C545FAB1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654C-1D87-40E7-96FA-E7C4D8165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7DAE-41F9-40BB-9888-FF0058BD2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92685-33EE-47E8-A1C5-647074E64B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EB7CA-1B02-4FCF-B645-CC351E33E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0C604-E300-49F2-B928-4946C352BC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F4D20-93FD-4CB6-AFF8-5C6A1D683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DCE75-35D3-4A33-BEAE-A3B09562F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DBD1-608A-4FAD-A6A9-E15473804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2A0B4-3D6E-4BBA-9A91-82CAD9CA2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56FAF-CBCF-450A-899A-98D04980A2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15FCF-B48E-4A22-AE60-C90E6EC08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EDEA-1866-4765-A789-B8EF4E9A5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–</a:t>
            </a:r>
            <a:fld id="{48E6A114-D4A6-4610-AF53-106487E9843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3840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620440"/>
            <a:ext cx="556272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6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rporate-Level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6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436680" y="1074600"/>
            <a:ext cx="4135320" cy="52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Creat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es of scope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erring core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 power (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ing competitors through multipoint compet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tical 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economies (unrelated diversific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restru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066680"/>
            <a:ext cx="3886200" cy="49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Neutral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trus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 future cash fl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reduction for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ngi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lue-Reducing 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fying managerial employment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managerial 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6BFE3-9FD7-4EB1-80D9-EA34A753D825}" type="slidenum">
              <a:t>10</a:t>
            </a:fld>
          </a:p>
        </p:txBody>
      </p:sp>
    </p:spTree>
  </p:cSld>
  <p:transition>
    <p:random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58520" y="51084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65320" y="510840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alue-Creating Strategies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2986200" y="1508040"/>
            <a:ext cx="497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rational and Corporate Related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54360" y="5530680"/>
            <a:ext cx="537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rate Relatedness: Transferring Skills into Businesses through Corporate Headquar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5960" y="2852640"/>
            <a:ext cx="194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Relatedness: Sharing Activities between Busin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39520" y="21146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09000" y="4648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2589120" y="2041560"/>
            <a:ext cx="2894040" cy="1511280"/>
            <a:chOff x="2589120" y="2041560"/>
            <a:chExt cx="2894040" cy="1511280"/>
          </a:xfrm>
        </p:grpSpPr>
        <p:sp>
          <p:nvSpPr>
            <p:cNvPr id="214" name=""/>
            <p:cNvSpPr/>
            <p:nvPr/>
          </p:nvSpPr>
          <p:spPr>
            <a:xfrm>
              <a:off x="2589120" y="204156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664000" y="212868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Constrain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tical Integr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Market Pow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592360" y="3595680"/>
            <a:ext cx="2893680" cy="1511280"/>
            <a:chOff x="2592360" y="3595680"/>
            <a:chExt cx="2893680" cy="1511280"/>
          </a:xfrm>
        </p:grpSpPr>
        <p:grpSp>
          <p:nvGrpSpPr>
            <p:cNvPr id="217" name=""/>
            <p:cNvGrpSpPr/>
            <p:nvPr/>
          </p:nvGrpSpPr>
          <p:grpSpPr>
            <a:xfrm>
              <a:off x="2592360" y="3595680"/>
              <a:ext cx="2893680" cy="1511280"/>
              <a:chOff x="2592360" y="3595680"/>
              <a:chExt cx="2893680" cy="1511280"/>
            </a:xfrm>
          </p:grpSpPr>
          <p:sp>
            <p:nvSpPr>
              <p:cNvPr id="218" name=""/>
              <p:cNvSpPr/>
              <p:nvPr/>
            </p:nvSpPr>
            <p:spPr>
              <a:xfrm>
                <a:off x="2592360" y="359568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78400" y="364032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2705040" y="366552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relate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 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Financial Economi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514840" y="3595680"/>
            <a:ext cx="2894040" cy="1511280"/>
            <a:chOff x="5514840" y="3595680"/>
            <a:chExt cx="2894040" cy="1511280"/>
          </a:xfrm>
        </p:grpSpPr>
        <p:sp>
          <p:nvSpPr>
            <p:cNvPr id="222" name=""/>
            <p:cNvSpPr/>
            <p:nvPr/>
          </p:nvSpPr>
          <p:spPr>
            <a:xfrm>
              <a:off x="5514840" y="3595680"/>
              <a:ext cx="2894040" cy="151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589720" y="3682800"/>
              <a:ext cx="2746080" cy="13352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lated Linked 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vers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514840" y="2041560"/>
            <a:ext cx="2893680" cy="1511280"/>
            <a:chOff x="5514840" y="2041560"/>
            <a:chExt cx="2893680" cy="1511280"/>
          </a:xfrm>
        </p:grpSpPr>
        <p:grpSp>
          <p:nvGrpSpPr>
            <p:cNvPr id="225" name=""/>
            <p:cNvGrpSpPr/>
            <p:nvPr/>
          </p:nvGrpSpPr>
          <p:grpSpPr>
            <a:xfrm>
              <a:off x="5514840" y="2041560"/>
              <a:ext cx="2893680" cy="1511280"/>
              <a:chOff x="5514840" y="2041560"/>
              <a:chExt cx="2893680" cy="1511280"/>
            </a:xfrm>
          </p:grpSpPr>
          <p:sp>
            <p:nvSpPr>
              <p:cNvPr id="226" name=""/>
              <p:cNvSpPr/>
              <p:nvPr/>
            </p:nvSpPr>
            <p:spPr>
              <a:xfrm>
                <a:off x="5514840" y="2041560"/>
                <a:ext cx="2893680" cy="15112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00880" y="2086200"/>
                <a:ext cx="2720160" cy="142056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5627520" y="2111400"/>
              <a:ext cx="2667240" cy="13716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Both Operational and Corporate Relatedness</a:t>
              </a:r>
              <a:br>
                <a:rPr sz="1600"/>
              </a:b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(Rare capability that creates diseconomies of scop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30A81-1CAF-40A1-8B20-C4F85994C91B}" type="slidenum">
              <a:t>11</a:t>
            </a:fld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9344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lue-Creating Diversification Strategies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ional and Corporate Relatednes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662940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0B31-AD2D-4E16-A1B4-8AD27F3BCE09}" type="slidenum">
              <a:t>12</a:t>
            </a:fld>
          </a:p>
        </p:txBody>
      </p:sp>
    </p:spTree>
  </p:cSld>
  <p:transition>
    <p:random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 creates value by building upon or extending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op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savings that occur when a firm transfers capabilities and competencies developed in one of its businesses to another of its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DD8F7-A17F-4DC2-A3E9-240CF313C605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Economies of Sco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is created from economies of scope throug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onal relatedness in sharing activ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relatedness in transferring skills or corporate core competencies among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fference between sharing activities and transferring competencies is based on how the resources are jointly used to create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EBE59-322C-48D9-A64C-C9E32A1BE4F0}" type="slidenum">
              <a:t>14</a:t>
            </a:fld>
          </a:p>
        </p:txBody>
      </p:sp>
    </p:spTree>
  </p:cSld>
  <p:transition>
    <p:random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haring Activ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al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d by sharing either a primary activity such as inventory delivery systems, or a support activity such as purchasing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requires sharing strategic control over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ity sharing may create risk because business-unit ties create links between outcomes.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EEAB6-2389-4660-999A-DAA5C7379948}" type="slidenum">
              <a:t>15</a:t>
            </a:fld>
          </a:p>
        </p:txBody>
      </p:sp>
    </p:spTree>
  </p:cSld>
  <p:transition>
    <p:random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ransferring Corporat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complex sets of resources and capabilities to link different businesses through managerial and technological knowledge, experience, and expertis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87548-D0E5-4FF3-A979-7868F60B388B}" type="slidenum">
              <a:t>16</a:t>
            </a:fld>
          </a:p>
        </p:txBody>
      </p:sp>
    </p:spTree>
  </p:cSld>
  <p:transition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 Relatedn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value in two way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liminates resource duplication in the need to allocate resources for a second unit to develop a competence that already exists in another un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intangible resources (resource intangibility) that are difficult for competitors to understand and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ansferred intangible resource gives the unit receiving it an immediate competitive advantage over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922F9-3596-4851-B634-4D96D2E5DD31}" type="slidenum">
              <a:t>17</a:t>
            </a:fld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 power exists when a firm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ll its products above the existing competitive level and/or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duce the costs of its primary and support activities below the competitive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5E9EC-2018-4AF6-829C-4A9A7BAF60DB}" type="slidenum">
              <a:t>18</a:t>
            </a:fld>
          </a:p>
        </p:txBody>
      </p:sp>
    </p:spTree>
  </p:cSld>
  <p:transition>
    <p:random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0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Market Power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point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diversified firms simultaneously compete in the same product areas or geographic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Integr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produces its own in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integra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—a firm operates its own distribution system for delivering its outpu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37944-7929-45E0-8CC7-D649F741D7B4}" type="slidenum">
              <a:t>19</a:t>
            </a:fld>
          </a:p>
        </p:txBody>
      </p:sp>
    </p:spTree>
  </p:cSld>
  <p:transition>
    <p:random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 corporate-level strategy and discuss its purpose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different levels of diversification with different corporate-level strateg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ree primary reasons firms diversif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how firms can create value by using a 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two ways value can be created with an unrelated diversification strateg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 the incentives and resources that encourage diversifica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447840" indent="-447840">
              <a:spcBef>
                <a:spcPts val="75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motives that can encourage managers to overdiversify a firm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F0EF-E1ED-4B1E-9E97-BFFB79E1BB20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ed Diversification: Complexit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multaneous Operational Relatedness and Corporate Relatedne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managing two sources of knowledge simultaneously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forms of economies of sc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y such efforts often fail because of implementation difficul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E35BE-419C-4F5F-ADE2-8B58F52CB4C7}" type="slidenum">
              <a:t>20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st savings realized through improved allocations of financi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investments inside or outside the fi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 value through two types of financial economie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 internal capital al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chase of other corporations and the restructuring their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747BC-586B-4F40-B7F3-D20EFA896A42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icient Internal Capital Market Al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 distributes capital to business divisions to create value for overall compan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 office gains access to information about those businesses’ actual and prospective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glomerates have a fairly short life cycle because financial economies are more easily duplicated by competitors than are gains from operational and corporate related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16888-1232-49C1-9E62-739FF289BAEA}" type="slidenum">
              <a:t>22</a:t>
            </a:fld>
          </a:p>
        </p:txBody>
      </p:sp>
    </p:spTree>
  </p:cSld>
  <p:transition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nrelated Diversification: Restructur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tructuring creates financial econom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creates value by buying and selling other firms’ assets in the external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source allocation decisions may become complex, so success often requir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mature, low-technology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n businesses not reliant on a client orient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A705-071D-433B-9065-3BD676B0DBD3}" type="slidenum">
              <a:t>23</a:t>
            </a:fld>
          </a:p>
        </p:txBody>
      </p:sp>
    </p:spTree>
  </p:cSld>
  <p:transition>
    <p:random/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1469880"/>
            <a:ext cx="495288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titrust laws in 1960s and 1970s discouraged mergers that created increased market power (vertical or horizontal integ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ergers in the 1960s and 1970s thus tended to be un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laxation of antitrust enforcement results in more and larger horizontal mer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Early 2000: antitrust concerns seem to be emerging and mergers now more closely scrutin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0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131"/>
                </a:lnTo>
                <a:cubicBezTo>
                  <a:pt x="10800" y="2131"/>
                  <a:pt x="5400" y="2131"/>
                  <a:pt x="0" y="2131"/>
                </a:cubicBezTo>
                <a:cubicBezTo>
                  <a:pt x="5400" y="2131"/>
                  <a:pt x="10800" y="2131"/>
                  <a:pt x="10800" y="2131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A51A5-A276-409A-A181-361FF821840D}" type="slidenum">
              <a:t>24</a:t>
            </a:fld>
          </a:p>
        </p:txBody>
      </p:sp>
    </p:spTree>
  </p:cSld>
  <p:transition>
    <p:random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10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2000"/>
                            </p:stCondLst>
                            <p:childTnLst>
                              <p:par>
                                <p:cTn id="65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5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x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1469880"/>
            <a:ext cx="4952880" cy="40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igh tax rates on dividends cause a corporate shift from dividends to buying and building companies in high-performance indust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1986 Tax Reform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Reduced individual ordinary income tax rate from 50 to 28 perc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reated capital gains as ordinary incom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Thus created incentive for shareholders to prefer dividends to acquisition invest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66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Anti-trust Legis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732040" y="1393920"/>
            <a:ext cx="1295280" cy="4244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244760"/>
              <a:gd name="textAreaBottom" fmla="*/ 4245120 h 424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7020"/>
                </a:lnTo>
                <a:cubicBezTo>
                  <a:pt x="10800" y="7020"/>
                  <a:pt x="5400" y="7020"/>
                  <a:pt x="0" y="7020"/>
                </a:cubicBezTo>
                <a:cubicBezTo>
                  <a:pt x="5400" y="7020"/>
                  <a:pt x="10800" y="7020"/>
                  <a:pt x="10800" y="702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33520" y="2303640"/>
            <a:ext cx="2189160" cy="896760"/>
            <a:chOff x="533520" y="2303640"/>
            <a:chExt cx="2189160" cy="896760"/>
          </a:xfrm>
        </p:grpSpPr>
        <p:sp>
          <p:nvSpPr>
            <p:cNvPr id="270" name=""/>
            <p:cNvSpPr/>
            <p:nvPr/>
          </p:nvSpPr>
          <p:spPr>
            <a:xfrm>
              <a:off x="533520" y="230364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27120" y="238932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Tax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4DC2-6DF4-4E79-B638-798227BE7DEB}" type="slidenum">
              <a:t>25</a:t>
            </a:fld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1000"/>
                            </p:stCondLst>
                            <p:childTnLst>
                              <p:par>
                                <p:cTn id="68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429000" y="1438200"/>
            <a:ext cx="495288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igh performance eliminates the need for greate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w performance acts as incentive for diver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Firms plagued by poor performance often take higher risks (diversification is risk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75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04"/>
                </a:lnTo>
                <a:cubicBezTo>
                  <a:pt x="10800" y="2804"/>
                  <a:pt x="5400" y="2804"/>
                  <a:pt x="0" y="2804"/>
                </a:cubicBezTo>
                <a:cubicBezTo>
                  <a:pt x="5400" y="2804"/>
                  <a:pt x="10800" y="2804"/>
                  <a:pt x="10800" y="2804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3D8AE-780D-4894-8FDA-356D2C876ED0}" type="slidenum">
              <a:t>26</a:t>
            </a:fld>
          </a:p>
        </p:txBody>
      </p:sp>
    </p:spTree>
  </p:cSld>
  <p:transition>
    <p:random/>
  </p:transition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0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0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2000"/>
                            </p:stCondLst>
                            <p:childTnLst>
                              <p:par>
                                <p:cTn id="74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500"/>
                            </p:stCondLst>
                            <p:childTnLst>
                              <p:par>
                                <p:cTn id="7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629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Curvilinear Relationship between Diversification and Performanc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492200" y="1447920"/>
            <a:ext cx="6143760" cy="47829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 flipV="1">
            <a:off x="1809720" y="2286000"/>
            <a:ext cx="0" cy="3124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D6CDB-7045-4E2D-A396-B3D5D6FFF16A}" type="slidenum">
              <a:t>27</a:t>
            </a:fld>
          </a:p>
        </p:txBody>
      </p:sp>
    </p:spTree>
  </p:cSld>
  <p:transition>
    <p:random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000"/>
                            </p:stCondLst>
                            <p:childTnLst>
                              <p:par>
                                <p:cTn id="7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3429000" y="1469880"/>
            <a:ext cx="4952880" cy="34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may be defensive strateg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m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line is threat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is small and is in mature or maturing indus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88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2732040" y="1393920"/>
            <a:ext cx="1295280" cy="310176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3101760"/>
              <a:gd name="textAreaBottom" fmla="*/ 3102120 h 310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9569"/>
                </a:lnTo>
                <a:cubicBezTo>
                  <a:pt x="10800" y="9569"/>
                  <a:pt x="5400" y="9569"/>
                  <a:pt x="0" y="9569"/>
                </a:cubicBezTo>
                <a:cubicBezTo>
                  <a:pt x="5400" y="9569"/>
                  <a:pt x="10800" y="9569"/>
                  <a:pt x="10800" y="956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292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776F7-3DC5-4233-8208-B52C65C92D93}" type="slidenum">
              <a:t>28</a:t>
            </a:fld>
          </a:p>
        </p:txBody>
      </p:sp>
    </p:spTree>
  </p:cSld>
  <p:transition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500"/>
                            </p:stCondLst>
                            <p:childTnLst>
                              <p:par>
                                <p:cTn id="78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l Incentives to Diversif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1469880"/>
            <a:ext cx="5029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ynergy exists when the value created by businesses working together </a:t>
            </a: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exceeds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the value created by them working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ut synergy creates joint interdependence between business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become risk averse and constrain its level of activity sha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firm may reduce level of technological change by operating in more certain environ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533520" y="1371600"/>
            <a:ext cx="2189160" cy="896760"/>
            <a:chOff x="533520" y="1371600"/>
            <a:chExt cx="2189160" cy="896760"/>
          </a:xfrm>
        </p:grpSpPr>
        <p:sp>
          <p:nvSpPr>
            <p:cNvPr id="297" name=""/>
            <p:cNvSpPr/>
            <p:nvPr/>
          </p:nvSpPr>
          <p:spPr>
            <a:xfrm>
              <a:off x="533520" y="1371600"/>
              <a:ext cx="2189160" cy="8967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7120" y="1457280"/>
              <a:ext cx="2000160" cy="7236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ow Perform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732040" y="1393920"/>
            <a:ext cx="1295280" cy="4397400"/>
          </a:xfrm>
          <a:custGeom>
            <a:avLst/>
            <a:gdLst>
              <a:gd name="textAreaLeft" fmla="*/ 827640 w 1295280"/>
              <a:gd name="textAreaRight" fmla="*/ 1295640 w 1295280"/>
              <a:gd name="textAreaTop" fmla="*/ 0 h 4397400"/>
              <a:gd name="textAreaBottom" fmla="*/ 4397760 h 439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3865"/>
                </a:lnTo>
                <a:cubicBezTo>
                  <a:pt x="10800" y="13865"/>
                  <a:pt x="5400" y="13865"/>
                  <a:pt x="0" y="13865"/>
                </a:cubicBezTo>
                <a:cubicBezTo>
                  <a:pt x="5400" y="13865"/>
                  <a:pt x="10800" y="13865"/>
                  <a:pt x="10800" y="1386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33520" y="2303640"/>
            <a:ext cx="2189160" cy="1277280"/>
            <a:chOff x="533520" y="2303640"/>
            <a:chExt cx="2189160" cy="1277280"/>
          </a:xfrm>
        </p:grpSpPr>
        <p:sp>
          <p:nvSpPr>
            <p:cNvPr id="301" name=""/>
            <p:cNvSpPr/>
            <p:nvPr/>
          </p:nvSpPr>
          <p:spPr>
            <a:xfrm>
              <a:off x="533520" y="2303640"/>
              <a:ext cx="2189160" cy="1277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27120" y="2425680"/>
              <a:ext cx="2000160" cy="1030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Uncertain Future Cash Flo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33520" y="3603600"/>
            <a:ext cx="2189160" cy="1277640"/>
            <a:chOff x="533520" y="3603600"/>
            <a:chExt cx="2189160" cy="1277640"/>
          </a:xfrm>
        </p:grpSpPr>
        <p:sp>
          <p:nvSpPr>
            <p:cNvPr id="304" name=""/>
            <p:cNvSpPr/>
            <p:nvPr/>
          </p:nvSpPr>
          <p:spPr>
            <a:xfrm>
              <a:off x="533520" y="3603600"/>
              <a:ext cx="2189160" cy="127764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7120" y="3725640"/>
              <a:ext cx="2000160" cy="1031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ahoma"/>
                </a:rPr>
                <a:t>Synergy and Risk 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6598D-50A6-4399-BE30-1A1E1355523A}" type="slidenum">
              <a:t>29</a:t>
            </a:fld>
          </a:p>
        </p:txBody>
      </p:sp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500"/>
                            </p:stCondLst>
                            <p:childTnLst>
                              <p:par>
                                <p:cTn id="82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2000"/>
                            </p:stCondLst>
                            <p:childTnLst>
                              <p:par>
                                <p:cTn id="83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2500"/>
                            </p:stCondLst>
                            <p:childTnLst>
                              <p:par>
                                <p:cTn id="8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ole of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ies play a major role in the behavior of large firm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versification conc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cope of the industries and markets in which the firm compet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w managers buy, create and sell different businesses to match skills and strengths with opportunities presented to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AA1F1-D906-41A0-939D-42EB608462CA}" type="slidenum">
              <a:t>3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Diversifica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 must have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entives to diversif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esources required to create value through diversification—cash and tangible resources (e.g., plant and equipment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lue creation is determined more by appropriate use of resources than by incentives to diversif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nagerial Motives to Diversif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risk reduc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increased compens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FABCC-CA47-4182-AC19-BDA8231C0250}" type="slidenum">
              <a:t>30</a:t>
            </a:fld>
          </a:p>
        </p:txBody>
      </p:sp>
    </p:spTree>
  </p:cSld>
  <p:transition>
    <p:random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6419880" cy="577368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867280" y="447840"/>
            <a:ext cx="2819520" cy="176184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477120" y="561960"/>
            <a:ext cx="228600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6.4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mmary Model of the Relationship between Firm Performance and Diversificatio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632448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588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019920" y="59151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R. E. Hoskisson &amp; M. A. Hitt, 1990, Antecedents and performance outcomes of diversification: A review and critique of theoretical perspectives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ournal of Management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6: 498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F2DC5-59EC-4C9B-834C-78EB1499B287}" type="slidenum">
              <a:t>31</a:t>
            </a:fld>
          </a:p>
        </p:txBody>
      </p:sp>
    </p:spTree>
  </p:cSld>
  <p:transition>
    <p:random/>
  </p:transition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wo Strategy Leve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siness-level Strategy (Competitiv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business unit in a diversified firm chooses a business-level strategy as its means of competing in individual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 (Companywide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actions taken by the firm to gain a competitive advantage by selecting and managing a group of different businesses competing in several industries and product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93B69-17EC-4B48-9D21-43E86D7FCFAC}" type="slidenum">
              <a:t>4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y: Key Ques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y’s Val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degree to which the businesses in the portfolio are worth more under the management of the company than they would be under other ownership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hat businesses should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the firm be in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ow should the corporat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office manage the 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group of businesses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397560" y="3429000"/>
            <a:ext cx="811440" cy="517320"/>
            <a:chOff x="6397560" y="3429000"/>
            <a:chExt cx="811440" cy="517320"/>
          </a:xfrm>
        </p:grpSpPr>
        <p:sp>
          <p:nvSpPr>
            <p:cNvPr id="107" name=""/>
            <p:cNvSpPr/>
            <p:nvPr/>
          </p:nvSpPr>
          <p:spPr>
            <a:xfrm>
              <a:off x="6397560" y="3429000"/>
              <a:ext cx="811440" cy="517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56600" y="3484440"/>
              <a:ext cx="691920" cy="404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5433840" y="4249800"/>
            <a:ext cx="2738520" cy="519120"/>
            <a:chOff x="5433840" y="4249800"/>
            <a:chExt cx="2738520" cy="519120"/>
          </a:xfrm>
        </p:grpSpPr>
        <p:grpSp>
          <p:nvGrpSpPr>
            <p:cNvPr id="110" name=""/>
            <p:cNvGrpSpPr/>
            <p:nvPr/>
          </p:nvGrpSpPr>
          <p:grpSpPr>
            <a:xfrm>
              <a:off x="7360920" y="4249800"/>
              <a:ext cx="811440" cy="517680"/>
              <a:chOff x="7360920" y="4249800"/>
              <a:chExt cx="811440" cy="517680"/>
            </a:xfrm>
          </p:grpSpPr>
          <p:sp>
            <p:nvSpPr>
              <p:cNvPr id="111" name=""/>
              <p:cNvSpPr/>
              <p:nvPr/>
            </p:nvSpPr>
            <p:spPr>
              <a:xfrm>
                <a:off x="7360920" y="424980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19600" y="4305600"/>
                <a:ext cx="692280" cy="40464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5433840" y="4251600"/>
              <a:ext cx="811080" cy="517320"/>
              <a:chOff x="5433840" y="4251600"/>
              <a:chExt cx="811080" cy="517320"/>
            </a:xfrm>
          </p:grpSpPr>
          <p:sp>
            <p:nvSpPr>
              <p:cNvPr id="114" name=""/>
              <p:cNvSpPr/>
              <p:nvPr/>
            </p:nvSpPr>
            <p:spPr>
              <a:xfrm>
                <a:off x="5433840" y="425160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492520" y="4307040"/>
                <a:ext cx="692280" cy="405000"/>
              </a:xfrm>
              <a:prstGeom prst="rect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4952880" y="5073480"/>
            <a:ext cx="1774800" cy="519120"/>
            <a:chOff x="4952880" y="5073480"/>
            <a:chExt cx="1774800" cy="519120"/>
          </a:xfrm>
        </p:grpSpPr>
        <p:grpSp>
          <p:nvGrpSpPr>
            <p:cNvPr id="117" name=""/>
            <p:cNvGrpSpPr/>
            <p:nvPr/>
          </p:nvGrpSpPr>
          <p:grpSpPr>
            <a:xfrm>
              <a:off x="4952880" y="5074920"/>
              <a:ext cx="811080" cy="517680"/>
              <a:chOff x="4952880" y="5074920"/>
              <a:chExt cx="811080" cy="517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952880" y="5074920"/>
                <a:ext cx="81108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1560" y="5130720"/>
                <a:ext cx="691920" cy="40464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5916240" y="5073480"/>
              <a:ext cx="811440" cy="517680"/>
              <a:chOff x="5916240" y="5073480"/>
              <a:chExt cx="811440" cy="517680"/>
            </a:xfrm>
          </p:grpSpPr>
          <p:sp>
            <p:nvSpPr>
              <p:cNvPr id="121" name=""/>
              <p:cNvSpPr/>
              <p:nvPr/>
            </p:nvSpPr>
            <p:spPr>
              <a:xfrm>
                <a:off x="5916240" y="5073480"/>
                <a:ext cx="811440" cy="51768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975280" y="5128920"/>
                <a:ext cx="691920" cy="40500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6880320" y="5075280"/>
            <a:ext cx="1774800" cy="517320"/>
            <a:chOff x="6880320" y="5075280"/>
            <a:chExt cx="1774800" cy="517320"/>
          </a:xfrm>
        </p:grpSpPr>
        <p:grpSp>
          <p:nvGrpSpPr>
            <p:cNvPr id="124" name=""/>
            <p:cNvGrpSpPr/>
            <p:nvPr/>
          </p:nvGrpSpPr>
          <p:grpSpPr>
            <a:xfrm>
              <a:off x="6880320" y="5075280"/>
              <a:ext cx="811080" cy="517320"/>
              <a:chOff x="6880320" y="5075280"/>
              <a:chExt cx="811080" cy="517320"/>
            </a:xfrm>
          </p:grpSpPr>
          <p:sp>
            <p:nvSpPr>
              <p:cNvPr id="125" name=""/>
              <p:cNvSpPr/>
              <p:nvPr/>
            </p:nvSpPr>
            <p:spPr>
              <a:xfrm>
                <a:off x="688032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93900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7844040" y="5075280"/>
              <a:ext cx="811080" cy="517320"/>
              <a:chOff x="7844040" y="5075280"/>
              <a:chExt cx="811080" cy="517320"/>
            </a:xfrm>
          </p:grpSpPr>
          <p:sp>
            <p:nvSpPr>
              <p:cNvPr id="128" name=""/>
              <p:cNvSpPr/>
              <p:nvPr/>
            </p:nvSpPr>
            <p:spPr>
              <a:xfrm>
                <a:off x="7844040" y="5075280"/>
                <a:ext cx="811080" cy="517320"/>
              </a:xfrm>
              <a:prstGeom prst="rect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02720" y="5130720"/>
                <a:ext cx="692280" cy="404280"/>
              </a:xfrm>
              <a:prstGeom prst="rect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839920" y="3946320"/>
            <a:ext cx="1926720" cy="305280"/>
            <a:chOff x="5839920" y="3946320"/>
            <a:chExt cx="1926720" cy="305280"/>
          </a:xfrm>
        </p:grpSpPr>
        <p:cxnSp>
          <p:nvCxnSpPr>
            <p:cNvPr id="131" name=""/>
            <p:cNvCxnSpPr>
              <a:stCxn id="107" idx="2"/>
              <a:endCxn id="114" idx="0"/>
            </p:cNvCxnSpPr>
            <p:nvPr/>
          </p:nvCxnSpPr>
          <p:spPr>
            <a:xfrm rot="5400000">
              <a:off x="6168960" y="3617280"/>
              <a:ext cx="305280" cy="964080"/>
            </a:xfrm>
            <a:prstGeom prst="bentConnector3">
              <a:avLst>
                <a:gd name="adj1" fmla="val 4994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07" idx="2"/>
              <a:endCxn id="111" idx="0"/>
            </p:cNvCxnSpPr>
            <p:nvPr/>
          </p:nvCxnSpPr>
          <p:spPr>
            <a:xfrm flipH="1" rot="16200000">
              <a:off x="7133400" y="3615480"/>
              <a:ext cx="303120" cy="964440"/>
            </a:xfrm>
            <a:prstGeom prst="bentConnector3">
              <a:avLst>
                <a:gd name="adj1" fmla="val 49702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3" name=""/>
          <p:cNvGrpSpPr/>
          <p:nvPr/>
        </p:nvGrpSpPr>
        <p:grpSpPr>
          <a:xfrm>
            <a:off x="5358960" y="4768560"/>
            <a:ext cx="964080" cy="306360"/>
            <a:chOff x="5358960" y="4768560"/>
            <a:chExt cx="964080" cy="306360"/>
          </a:xfrm>
        </p:grpSpPr>
        <p:cxnSp>
          <p:nvCxnSpPr>
            <p:cNvPr id="134" name=""/>
            <p:cNvCxnSpPr>
              <a:stCxn id="114" idx="2"/>
              <a:endCxn id="118" idx="0"/>
            </p:cNvCxnSpPr>
            <p:nvPr/>
          </p:nvCxnSpPr>
          <p:spPr>
            <a:xfrm rot="5400000">
              <a:off x="5446080" y="4681080"/>
              <a:ext cx="306720" cy="481680"/>
            </a:xfrm>
            <a:prstGeom prst="bentConnector3">
              <a:avLst>
                <a:gd name="adj1" fmla="val 4970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5" name=""/>
            <p:cNvCxnSpPr>
              <a:stCxn id="114" idx="2"/>
              <a:endCxn id="121" idx="0"/>
            </p:cNvCxnSpPr>
            <p:nvPr/>
          </p:nvCxnSpPr>
          <p:spPr>
            <a:xfrm flipH="1" rot="16200000">
              <a:off x="5928840" y="4679640"/>
              <a:ext cx="305640" cy="4831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136" name=""/>
          <p:cNvGrpSpPr/>
          <p:nvPr/>
        </p:nvGrpSpPr>
        <p:grpSpPr>
          <a:xfrm>
            <a:off x="7286040" y="4710240"/>
            <a:ext cx="964080" cy="365400"/>
            <a:chOff x="7286040" y="4710240"/>
            <a:chExt cx="964080" cy="365400"/>
          </a:xfrm>
        </p:grpSpPr>
        <p:cxnSp>
          <p:nvCxnSpPr>
            <p:cNvPr id="137" name=""/>
            <p:cNvCxnSpPr>
              <a:endCxn id="125" idx="0"/>
            </p:cNvCxnSpPr>
            <p:nvPr/>
          </p:nvCxnSpPr>
          <p:spPr>
            <a:xfrm flipV="1" rot="10800000">
              <a:off x="7286040" y="4887720"/>
              <a:ext cx="513000" cy="187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12" idx="2"/>
              <a:endCxn id="128" idx="0"/>
            </p:cNvCxnSpPr>
            <p:nvPr/>
          </p:nvCxnSpPr>
          <p:spPr>
            <a:xfrm flipH="1" rot="16200000">
              <a:off x="7825320" y="4650480"/>
              <a:ext cx="365760" cy="484560"/>
            </a:xfrm>
            <a:prstGeom prst="bentConnector3">
              <a:avLst>
                <a:gd name="adj1" fmla="val 4995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39" name=""/>
          <p:cNvSpPr/>
          <p:nvPr/>
        </p:nvSpPr>
        <p:spPr>
          <a:xfrm>
            <a:off x="5942520" y="595476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495400" y="5594400"/>
            <a:ext cx="2683080" cy="396720"/>
            <a:chOff x="5495400" y="5594400"/>
            <a:chExt cx="2683080" cy="396720"/>
          </a:xfrm>
        </p:grpSpPr>
        <p:sp>
          <p:nvSpPr>
            <p:cNvPr id="141" name=""/>
            <p:cNvSpPr/>
            <p:nvPr/>
          </p:nvSpPr>
          <p:spPr>
            <a:xfrm flipH="1" flipV="1">
              <a:off x="5495400" y="5628600"/>
              <a:ext cx="1353960" cy="36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6833880" y="5630760"/>
              <a:ext cx="1344600" cy="360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833880" y="5594400"/>
              <a:ext cx="397080" cy="39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6470280" y="5611320"/>
              <a:ext cx="379440" cy="37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2B88-0B37-430E-A78A-408EC2A12656}" type="slidenum">
              <a:t>5</a:t>
            </a:fld>
          </a:p>
        </p:txBody>
      </p:sp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Low Lev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809520"/>
            <a:ext cx="41148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minant Busines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tween 70% and 95% of revenue comes from a single busin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791320" y="5315040"/>
            <a:ext cx="685800" cy="31896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248520" y="1371600"/>
            <a:ext cx="2132640" cy="2133000"/>
            <a:chOff x="6248520" y="1371600"/>
            <a:chExt cx="2132640" cy="2133000"/>
          </a:xfrm>
        </p:grpSpPr>
        <p:sp>
          <p:nvSpPr>
            <p:cNvPr id="149" name=""/>
            <p:cNvSpPr/>
            <p:nvPr/>
          </p:nvSpPr>
          <p:spPr>
            <a:xfrm>
              <a:off x="6248520" y="1371600"/>
              <a:ext cx="2132640" cy="21330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394320" y="1517400"/>
              <a:ext cx="1837800" cy="1838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400800" y="4038480"/>
            <a:ext cx="1904760" cy="1904760"/>
            <a:chOff x="6400800" y="4038480"/>
            <a:chExt cx="1904760" cy="1904760"/>
          </a:xfrm>
        </p:grpSpPr>
        <p:sp>
          <p:nvSpPr>
            <p:cNvPr id="152" name=""/>
            <p:cNvSpPr/>
            <p:nvPr/>
          </p:nvSpPr>
          <p:spPr>
            <a:xfrm>
              <a:off x="6400800" y="4038480"/>
              <a:ext cx="1904760" cy="1904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30760" y="4168440"/>
              <a:ext cx="1641240" cy="164124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952880" y="5410080"/>
            <a:ext cx="914400" cy="914400"/>
            <a:chOff x="4952880" y="5410080"/>
            <a:chExt cx="914400" cy="914400"/>
          </a:xfrm>
        </p:grpSpPr>
        <p:sp>
          <p:nvSpPr>
            <p:cNvPr id="155" name=""/>
            <p:cNvSpPr/>
            <p:nvPr/>
          </p:nvSpPr>
          <p:spPr>
            <a:xfrm>
              <a:off x="4952880" y="5410080"/>
              <a:ext cx="914400" cy="91440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15160" y="5472000"/>
              <a:ext cx="787680" cy="78804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85800" y="163188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ingle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than 95% of revenue comes from a single busin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13855-E28C-45F8-B4B1-39A5276ABE04}" type="slidenum">
              <a:t>6</a:t>
            </a:fld>
          </a:p>
        </p:txBody>
      </p:sp>
    </p:spTree>
  </p:cSld>
  <p:transition>
    <p:random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Moderate to High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07880"/>
            <a:ext cx="3886200" cy="24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Constrain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a single business and all businesses share product, technological and distribution linkag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9760" y="1307880"/>
            <a:ext cx="403704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6680" indent="-1666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elated Linked (mixed related and unrelated)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512640" indent="-231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only limited links between businesse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10080" y="3952800"/>
            <a:ext cx="2828880" cy="2371680"/>
            <a:chOff x="5410080" y="3952800"/>
            <a:chExt cx="2828880" cy="2371680"/>
          </a:xfrm>
        </p:grpSpPr>
        <p:sp>
          <p:nvSpPr>
            <p:cNvPr id="162" name=""/>
            <p:cNvSpPr/>
            <p:nvPr/>
          </p:nvSpPr>
          <p:spPr>
            <a:xfrm flipH="1">
              <a:off x="6165360" y="4714920"/>
              <a:ext cx="61596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53120" y="5781600"/>
              <a:ext cx="1447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238880" y="5315040"/>
              <a:ext cx="1000080" cy="1000080"/>
              <a:chOff x="7238880" y="5315040"/>
              <a:chExt cx="1000080" cy="1000080"/>
            </a:xfrm>
          </p:grpSpPr>
          <p:sp>
            <p:nvSpPr>
              <p:cNvPr id="165" name=""/>
              <p:cNvSpPr/>
              <p:nvPr/>
            </p:nvSpPr>
            <p:spPr>
              <a:xfrm>
                <a:off x="7238880" y="531504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07280" y="538344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324480" y="3952800"/>
              <a:ext cx="1000080" cy="1000080"/>
              <a:chOff x="6324480" y="3952800"/>
              <a:chExt cx="1000080" cy="1000080"/>
            </a:xfrm>
          </p:grpSpPr>
          <p:sp>
            <p:nvSpPr>
              <p:cNvPr id="168" name=""/>
              <p:cNvSpPr/>
              <p:nvPr/>
            </p:nvSpPr>
            <p:spPr>
              <a:xfrm>
                <a:off x="632448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39288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5410080" y="5324400"/>
              <a:ext cx="1000080" cy="1000080"/>
              <a:chOff x="5410080" y="5324400"/>
              <a:chExt cx="1000080" cy="1000080"/>
            </a:xfrm>
          </p:grpSpPr>
          <p:sp>
            <p:nvSpPr>
              <p:cNvPr id="171" name=""/>
              <p:cNvSpPr/>
              <p:nvPr/>
            </p:nvSpPr>
            <p:spPr>
              <a:xfrm>
                <a:off x="541008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47848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971640" y="3952800"/>
            <a:ext cx="2838240" cy="2371680"/>
            <a:chOff x="971640" y="3952800"/>
            <a:chExt cx="2838240" cy="2371680"/>
          </a:xfrm>
        </p:grpSpPr>
        <p:sp>
          <p:nvSpPr>
            <p:cNvPr id="174" name=""/>
            <p:cNvSpPr/>
            <p:nvPr/>
          </p:nvSpPr>
          <p:spPr>
            <a:xfrm>
              <a:off x="1743120" y="4724280"/>
              <a:ext cx="1295280" cy="112068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809800" y="5324400"/>
              <a:ext cx="1000080" cy="1000080"/>
              <a:chOff x="2809800" y="5324400"/>
              <a:chExt cx="1000080" cy="1000080"/>
            </a:xfrm>
          </p:grpSpPr>
          <p:sp>
            <p:nvSpPr>
              <p:cNvPr id="176" name=""/>
              <p:cNvSpPr/>
              <p:nvPr/>
            </p:nvSpPr>
            <p:spPr>
              <a:xfrm>
                <a:off x="280980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004646"/>
                  </a:gs>
                  <a:gs pos="100000">
                    <a:srgbClr val="0099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78200" y="53928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C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1895400" y="3952800"/>
              <a:ext cx="1000080" cy="1000080"/>
              <a:chOff x="1895400" y="3952800"/>
              <a:chExt cx="1000080" cy="1000080"/>
            </a:xfrm>
          </p:grpSpPr>
          <p:sp>
            <p:nvSpPr>
              <p:cNvPr id="179" name=""/>
              <p:cNvSpPr/>
              <p:nvPr/>
            </p:nvSpPr>
            <p:spPr>
              <a:xfrm>
                <a:off x="1895400" y="39528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566768"/>
                  </a:gs>
                  <a:gs pos="100000">
                    <a:srgbClr val="bbe0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963800" y="4021200"/>
                <a:ext cx="861840" cy="86184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A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71640" y="5324400"/>
              <a:ext cx="1000080" cy="1000080"/>
              <a:chOff x="971640" y="5324400"/>
              <a:chExt cx="1000080" cy="1000080"/>
            </a:xfrm>
          </p:grpSpPr>
          <p:sp>
            <p:nvSpPr>
              <p:cNvPr id="182" name=""/>
              <p:cNvSpPr/>
              <p:nvPr/>
            </p:nvSpPr>
            <p:spPr>
              <a:xfrm>
                <a:off x="971640" y="53244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cc6600"/>
                  </a:gs>
                  <a:gs pos="100000">
                    <a:srgbClr val="5e2f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040040" y="5392440"/>
                <a:ext cx="861840" cy="862200"/>
              </a:xfrm>
              <a:prstGeom prst="ellipse">
                <a:avLst/>
              </a:prstGeom>
              <a:gradFill rotWithShape="0">
                <a:gsLst>
                  <a:gs pos="0">
                    <a:srgbClr val="5e2f00"/>
                  </a:gs>
                  <a:gs pos="100000">
                    <a:srgbClr val="cc66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Tahoma"/>
                  </a:rPr>
                  <a:t>B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F41C-55FE-49CC-A4E5-218553942E5E}" type="slidenum">
              <a:t>7</a:t>
            </a:fld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Levels of Diversification: Very High Levels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related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ss than 70% of revenue comes from the dominant business, and there are no common links between business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0080" y="4562640"/>
            <a:ext cx="1000080" cy="1000080"/>
            <a:chOff x="5410080" y="4562640"/>
            <a:chExt cx="1000080" cy="1000080"/>
          </a:xfrm>
        </p:grpSpPr>
        <p:sp>
          <p:nvSpPr>
            <p:cNvPr id="187" name=""/>
            <p:cNvSpPr/>
            <p:nvPr/>
          </p:nvSpPr>
          <p:spPr>
            <a:xfrm>
              <a:off x="541008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8480" y="4631040"/>
              <a:ext cx="861840" cy="86184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43200" y="4562640"/>
            <a:ext cx="1000080" cy="1000080"/>
            <a:chOff x="2743200" y="4562640"/>
            <a:chExt cx="1000080" cy="1000080"/>
          </a:xfrm>
        </p:grpSpPr>
        <p:sp>
          <p:nvSpPr>
            <p:cNvPr id="190" name=""/>
            <p:cNvSpPr/>
            <p:nvPr/>
          </p:nvSpPr>
          <p:spPr>
            <a:xfrm>
              <a:off x="2743200" y="4562640"/>
              <a:ext cx="1000080" cy="1000080"/>
            </a:xfrm>
            <a:prstGeom prst="ellipse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1600" y="4630680"/>
              <a:ext cx="861840" cy="862200"/>
            </a:xfrm>
            <a:prstGeom prst="ellipse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932280" y="3038400"/>
            <a:ext cx="1261800" cy="1261800"/>
            <a:chOff x="3932280" y="3038400"/>
            <a:chExt cx="1261800" cy="1261800"/>
          </a:xfrm>
        </p:grpSpPr>
        <p:sp>
          <p:nvSpPr>
            <p:cNvPr id="193" name=""/>
            <p:cNvSpPr/>
            <p:nvPr/>
          </p:nvSpPr>
          <p:spPr>
            <a:xfrm>
              <a:off x="3932280" y="3038400"/>
              <a:ext cx="1261800" cy="126180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8320" y="3124440"/>
              <a:ext cx="1087560" cy="10875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637C-17A0-4721-A5C8-3D9BA988DC3B}" type="slidenum">
              <a:t>8</a:t>
            </a:fld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49068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6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ls and Types of Diversification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8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239240" cy="5172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6324480"/>
            <a:ext cx="7010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: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Adapted from R. P. Rumelt, 1974,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trategy, Structure and Economic Performance,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ston: Harvard Business Schoo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1AD26-2017-4456-851E-A530490ED58C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6:26Z</dcterms:modified>
  <cp:revision>42</cp:revision>
  <dc:subject>Chapter 6</dc:subject>
  <dc:title>Strategic Management 7e.</dc:title>
</cp:coreProperties>
</file>