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40D3-90F6-41FF-A324-C0890B1C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089-9D5F-4806-9B33-61E3A01F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5B2-CAE5-4863-A436-71C32ADB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FB63-BD7A-48E1-9673-E420B9E51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5CBC-9503-41DC-89D1-50D6F993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B82-150B-4C3D-9875-69846139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621-395F-4F47-A4BA-666C306F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7B4-98C5-4454-A7BE-77E57C83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8D03-21B8-45EE-8497-134B12A8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E6F4-0A14-4AEB-BE7E-3222BF76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ACFB-48D3-427D-9E5B-87950EDE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434-C419-44F1-BEF1-F2CE223E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D22-2440-4CCA-A59D-E7F996BF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C4F-F595-4CE1-BF85-15D0E6CF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5C60-F927-4DA5-8FA2-8703B30D9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C83-BE66-4F1B-8756-C254F6F9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D54-9654-438A-B3A4-AA1BE583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2F2-F8D5-4041-8A48-6D3668BE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1C0-D9F0-4BB0-A732-C6DA5482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3CA5-3F59-4950-86F0-B1B62912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85AC-7F33-4515-B075-B0FDEBAF5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FB2-6C06-493E-AF0A-B8554649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E38-85DF-4814-A800-18A05881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6A8-025E-4318-8609-C0F65D6C2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95B-7BE6-455F-B476-B8CF4ED9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8FBF-0AAF-4F78-BC1C-A534A83E7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4A5F-85B4-4BEB-8F98-8D2F5A9C8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C2EB-6733-453B-B629-3DD5321F3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7CB6-C268-49CE-99A5-173D07EC1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19BB-E2B0-4859-B04E-7A3E504B2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9C83-07E2-4C7B-9658-9C1CF11F4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9611-B0B5-43F7-BE2C-3BA2857A3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2113-5021-42A8-B480-C1232CE3C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B615-8AD0-4CBD-8972-5AF4E0EE1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D16A-1F1C-45DE-9FB5-D1593BF7F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42D5-46ED-41B5-AAEA-EA0E0F4B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A9D0-7606-4855-907E-A8CD145F4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6C50D995-8E3D-4881-BDFF-11B2E20B830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1B6E-3710-4B33-AA20-0449D9F1E22D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621E-7101-4D1B-BDDB-29CAB068DEC8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35AD-B518-4C3F-937A-B6D5B8E099BB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A204-6595-4D1B-A389-2CC6DC7DBE6F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BA54-18C9-456C-87B3-257BA2E672D3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9407-3CE1-4FDF-8E34-8B4850CE3F10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DB4C-3039-4071-A198-836C52EB2DDC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EF3A-377F-45B6-8511-FBC6C3236027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53D9-6449-4EF0-8A30-7B99244E5F8C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6717-F314-4FB6-9ADB-1794F9084565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5E19-1FA9-4902-9CD8-6200CCE6C8A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6F6B-A268-4DCC-9ECE-8D09C94CCA21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83D1-32F2-4A06-9520-8B15AC04A82C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17EA-ED35-4A14-8787-1FE0B57487C1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7611-6E69-4D87-8D4F-98E0C313DE0E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1365-1211-43A2-A90F-22EF942251CA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E5ED-4334-4741-947F-273CFE1F22E9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E530-BCCB-46CC-9863-4354C5C3A216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FE8D-2C77-47D8-AE5C-A9ADF5F0ABD4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C818-02FD-474E-928A-8A596EAD31C4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0562-BB63-4880-9F3D-F1CCCE169CF3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C175-6BA2-4A28-B255-6BA56CDE8F9C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CAB0-0901-479C-A888-4D1D2015FE4B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3C2D-9855-4086-94A0-5706C4A03153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3BDC-5C14-4A52-8DA0-8B70002206D8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2815-7286-4690-AD6A-6B8EC5EDB96D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CFAB-1D5E-4989-BB88-5CB80767285A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F8C9-2AB1-481D-A0CF-300A30E89A3C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C454-BFC6-40FD-9017-539437A4A531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863D-A4AE-4AE8-A729-E61417A1B74F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6:26Z</dcterms:modified>
  <cp:revision>42</cp:revision>
  <dc:subject>Chapter 6</dc:subject>
  <dc:title>Strategic Management 7e.</dc:title>
</cp:coreProperties>
</file>