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D9CD-14FE-4792-830B-B8A371734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3B99-9947-4C26-A5C0-EF104886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67F4-6B53-4236-9AD3-8D7E2BBB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243E-4C53-44C8-A8E1-DC77A4905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804F-CC9B-4BBA-8B77-CF05E395F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99D-3E88-4E31-B33F-5936FB30C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2C2C-1563-4E5D-BB40-51506274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0831-518B-4557-A144-1B8D30C1F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E9E9-150E-43A5-94E5-1E99A9211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394-72CD-4AD0-ACFD-65B78E377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817-9DB5-4C35-8CC6-2BD30F12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E54F-7D57-4B04-81D0-3D726C20B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4A0F-E655-4F13-A6DE-B4116A093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8ED0-D80C-4DA7-B39B-99145BD6F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21AC-6D37-42EC-9FD9-24F76AF14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F138-42F8-4B82-94EE-1694AD391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EA8E-69D8-4D39-A6EB-6984D5760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F30-6CF9-471A-82C1-6598AF220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191A-383A-418D-A6B7-46A5414FA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21A6-994E-4C35-B79B-1D78378A9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692E-8CCE-4C08-B322-E1EF6B112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B3F7-1FFC-4F65-B2AA-8C9BF5395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7027-93AF-414B-B9FF-042A7E068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5457-B62C-4E5C-BB93-EC918C80F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3B98-DACB-4364-87BE-4D877E7F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D119-BC32-4B5F-BD04-CC9B95368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8C3B-187F-4C0E-9856-0B13F6DDB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637D-5D30-42AA-AF82-27B252345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6F67-49CA-4623-BF03-E88598E09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4292-25EC-4BBE-A879-DF7D1467C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B729-0DD0-42D5-8F08-AAECEFD93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823B-DF09-4119-A961-6728525F8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6C51-3376-4344-8E52-AFEFDC819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1886-E2F4-4B7C-81F9-8E3DC1275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A07E-AC11-44B1-A2D1-6073D6F36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62D4-3FE5-451B-A737-8DAE38EEB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F0B5-1785-4194-BEF2-449FA55E7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C7BC2586-5AA7-4773-805B-9553C723B2C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AFD9-239B-4A23-8FAF-5192EC5DE9BF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300B-E892-41B9-B738-B1D5470E749F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B4DE-3823-48B3-82F9-E057E9BEE65D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C99D-5173-4176-8465-B8C3EC5B87E0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81D9-1679-448B-985C-3DB71D019FC6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0912-C6C2-4B1A-9D9D-E417BD916840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0401-0DE8-440F-9B8A-291F36624F29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CFB2-EC3D-4ED1-A8B0-E91908FD475B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A26C-8DC8-4226-9211-286C0381C953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8E0F-61F5-4EEC-A42A-BD0F256FA878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BB44-7E8E-44F6-B868-E2EBA042C71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CA0B-BAF7-475D-9CEA-327BEA9B9F1D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6758-3C3F-4D91-AF3C-980A8CBB17DA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B185-3103-47F7-A024-91E974946861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8980-D174-41B5-BB4B-90F02F89D04D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760D-BF0A-449C-85C7-B3F542663DEB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1351-1ECD-445A-8CC8-C73BDF43BF3F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26AB-920F-4801-8E73-246A75C3F661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34CC-5BC4-4BDD-8821-6899D7494386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FCCE-E02A-406C-8831-30D48D085D6B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9DB4-0AB4-4542-94F4-14B1BCF03559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B098-7F2F-4EE2-A0C0-84908F3EA930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FE9B-C4F5-452C-A05F-E332377041A4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9EB5-4C23-4B23-A2A9-7209CF6380E8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6501-0DED-4D2A-8ADE-419F8424DF1E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5798-FF41-4C2F-91D9-3ADEC42C3E8C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1EB51-DF52-423C-B01E-D593DF74EF91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8958-0268-4746-B025-2B99F460C7E6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FA78-C7B4-4138-B6A1-03E22F26C056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71B8-F879-4972-A656-9E5F70C80D52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6:26Z</dcterms:modified>
  <cp:revision>42</cp:revision>
  <dc:subject>Chapter 6</dc:subject>
  <dc:title>Strategic Management 7e.</dc:title>
</cp:coreProperties>
</file>