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81B3-7AB1-431E-8A41-0771FD489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82B8-F477-4765-A00A-35EE3C99E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4BB7-B75C-4122-AFF0-A889FADD7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0F05-C92B-4511-9CF4-B70477E68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57D2-073B-4F17-8989-73A662F24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B8F6-99BD-4439-B634-E690BA343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BE21-41D9-413D-90B4-3C1AD95B3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D7BA-2E90-48A5-A9AD-428910D32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56C5-7DA2-489A-AA2B-AFB845D84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FA2D-3FCA-41FF-AD4D-6F3C25B06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D222-75EB-44F4-8C85-438275160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2A93-62E3-4283-8355-606089947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3BCC-3932-46FF-9EA3-12B0F845B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F27A-4B31-4C0E-9476-4482D392B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E39E-A87F-4BDC-B89C-2385ABEEF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8935-B99B-4823-A5F1-1EA30C264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C41E-242A-4221-9A2D-778F27460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56C6-47B9-4E02-940E-A00FA263C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FAFB-325C-4D6B-8BB4-1E8940D9C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BE81-585F-4744-B45D-0F84F1040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15DE-2F1E-4526-956D-C336B33EB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238F-9EA8-4F9A-A21E-DEB235BAE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6B6B-9FD8-4BB4-8B1D-44F126847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E6C1-CEBD-4047-BD97-0DD1D6E11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9937-CA7F-4C14-83FD-DA30F3A31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054C7-8B86-40AE-A72E-AD4DAEEB8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08BBF-CC8F-42A2-91EC-2CC56FE3E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0A88-08D0-42B9-9207-85A7F9218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6C5B-604E-44AE-8992-08FACB55A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203B-D660-458C-A581-83D94750D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8863C-5D0D-456B-846B-D6F271CE8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74378-2EC6-4121-B89F-AB37021AB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DA865-4251-418A-8A74-B943BF83B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4A43-EDB5-4B81-8FE8-0A6550D8E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AABF5-D021-490A-9176-BFCBA7104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4A8BE-A9E5-4887-9664-796086CF3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7F14-7398-4885-9E40-C7D814DB5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336FD45D-627F-4C7E-96C7-F6996B54C703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E9548-FEF3-44C0-8DF3-E603EC0A7E40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B557D-C760-446B-9357-5A289C358406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4C688-ED56-4B12-ABC7-94D72E897D4E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F897B-57C2-4B08-8E88-4DD1FF7DA6D7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F867C-6763-45AF-BF2C-64D1DEEF0AFD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E927-AEDE-4B0A-AB9C-CE2F95B1EDC2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EF363-6D8A-4C0D-BDAE-AE38451D0227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14ADE-6297-441D-9F74-44FDA52161BF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301FA-69F3-44C1-B550-F68BF9F04D33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170A9-22CF-469B-B75A-C510E2F332D2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6178-22B9-48D5-BCB6-13300DFD9D8F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8F9B-FA0C-4C1A-BC6C-5AFF3819F599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F98C-5ACB-4FA7-B191-B590076B7DA1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CC169-3142-4287-AD12-1177BB8D56BF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DA839-E6DA-41F9-9535-BB812CC69383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F881-7A35-4F13-A46F-A409994ECF15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468E-6898-4A77-B7FF-2746B8BDBA21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FB6A5-BC55-4FEB-8F6E-5BC6632597E8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7FE1-802D-4875-93A3-117FE4134B52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0A73-D01A-42E1-AF77-D4C5EB9E4808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62C73-16A2-4FC2-802F-FED3E37FC8A6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22D0-E3C7-4FE4-B928-7FDBC1BAB96D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A1EB-3614-4307-B411-7AC10E0339F7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C4BAE-C417-4248-86A2-02479711516D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AA52-8EE8-493B-8E8A-B4343C7E1811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11CDA-C672-422F-A3B4-4763B81F6E3F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1896-B706-4C53-8687-FC7C02171B6F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D4701-40DB-4589-AD5A-A1D284E4D062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BF08-504A-4C1F-811A-40DBD4551413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7787B-9874-472B-BFF9-1058545981CD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6:26Z</dcterms:modified>
  <cp:revision>42</cp:revision>
  <dc:subject>Chapter 6</dc:subject>
  <dc:title>Strategic Management 7e.</dc:title>
</cp:coreProperties>
</file>