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59A2-F392-4C9E-9F2E-3D16EE035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DC18-0755-4EE6-957D-4C0394417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2C0F-3631-4991-90B0-6C7A11E3F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C21A-18C4-4157-B482-758FED70B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0A41-285E-4492-A7A6-11768BF0C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9CA0-65B9-4448-B279-5A99E4C92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445D-EB86-4CFF-8769-1EC9FBB39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59F8-FD1C-4F00-A1B8-FF4155385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75F47-4E2A-4A1E-BD34-6717BAD40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369D-9137-4463-8CE0-FDBF41FB6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94F1-61AC-4BE0-8D95-68116318A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841B-2562-4A5A-BEB3-8EC82CE8B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4243-83CB-427C-80E7-2757C3043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2353-2334-4AD2-9E9B-DF4B22E9F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A2A5-7DAD-4E44-AF51-AA543FB0B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62C3-B115-453D-9666-7F9ABA8FC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7FA6-0F52-40AC-AEDC-6096BDDA3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EE54-EBDF-48A1-8940-B95FF0197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125A-254F-4391-96D5-03C198692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1CAD-2A62-425A-9CC8-1B5BCDD9B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3CD1-8B25-4D38-8754-E4C03BE2A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2B29-053B-4185-AB76-8D49AA3EF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F119-58FA-42A2-AD13-5E71BFC6D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E7F5-9B54-4D60-A238-B4A1ADC87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460F-17F1-4607-934B-EF51077CB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96B2-9FAC-4E16-8703-7182835C2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5954-F912-4646-9B6E-2E7DE7364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6AD2-469C-4E7B-92DE-5F9A9757A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27E0-B7FE-499A-A83B-9EDD2CCD5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DBF0-E0B3-4A76-9518-66DF0E3DA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05BA-2760-4246-B613-8BE538164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29BC-ABD5-401F-8831-6E087300A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FD59-7D4B-4784-82AA-CB473A6B8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3980-6A21-4C8D-974D-C4F091171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BBF96E-FEB7-4930-A954-C9F2CBD5E5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40F86A-D4F0-40CA-A23F-EB267B1782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D5B399-E4A4-4836-A242-2293455B83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78BEF5-58D5-4D06-AC70-B722E51AAC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6D3972-35D2-4D79-B145-F2385399C4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8D5456-406D-4A44-85BA-E35270EDCF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AA9D62-5E42-4E7F-8D14-6B6BB5655D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A5C614-CCDD-458E-B5A4-89316DE6F0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41401F-E737-4345-9368-D6153CD341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3FAA82-1547-47B1-8B9C-BAA3B508C2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3B330C-2C32-46E8-A4F6-659DC615BF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462FA7-CF04-4CE0-A0CA-B5C9582486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0074F0D0-D0D2-495A-A227-BC88C5BFD903}"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CDF899DF-9D83-4410-9054-13BFE7E10E8E}"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87206AA-807C-4E91-B99F-05D4381E67F7}"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B3F1A47-4EB0-40F8-BB73-4259F2A1879F}"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A0570AA-C397-4862-9562-00A299F57798}"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2BBA6C5-D436-49F1-A412-566F7121395F}"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F07E15-C308-4191-899B-60FDB925AA7C}"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7E25F4-8A68-433E-9FC6-5856669AAEAE}"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A15E5C-CECB-42FC-BEA1-A22759B257F2}"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012CB3A-9B63-4A31-AE03-51E6DF9E7679}"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14655A4-2155-41B7-B12B-6352ABBF28D9}"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10710D-5F63-4CDC-B6D5-BDC445D80C9D}"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8D585BB-8445-49A9-99D1-AC66905B023D}"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2D21CB-C375-411C-8D2C-43FA68DFCC1B}"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886C8C-E381-4D05-A1ED-0CCE339B1CE6}"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408797-F2AD-4840-91B4-A005B53726CE}"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13E8E2C-B372-4240-94E8-056973FF46B7}"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25A84B3A-386F-4CCA-87B2-472D6C5E6691}"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CD89F9C2-8D79-49A4-8C6A-37180E4BD46B}"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78D303-19E3-4342-A82D-8DB82E16B783}"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ADD5AE9E-7E8E-436B-8696-373FEEDF9ABB}"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142BEA2-8223-43CA-ACAC-8053289337A2}"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49497F2-5222-4C66-B025-97153C74670E}"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6FE54FD-B272-40B4-8F6C-9EA01EE18D35}"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962BBA1-530E-4C28-9052-183FE17CE577}"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9DB37618-7459-41B5-BB71-48A4695687AE}"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3813FE0-7DC1-4F4C-B234-0818B7839EF4}"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EAB35423-F841-4259-A6FA-6C96530F0C7A}"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2B5C268F-C703-46E6-B037-51232AAE2A3A}"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24FF5AEE-DB69-4372-A210-18D19DB72547}"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BADA200B-F79D-45F1-88C0-AA5C5EA62272}"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F16999FA-2FC4-4E9C-A306-5EA9A5CA3FD8}"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A4E6745-A51B-4A1A-BC57-390ED087838F}"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AD8938E-F042-4590-948F-F047D8A5BDD3}"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E609251-CA43-40BC-A38B-903D0B7ACFCD}"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5F75707-5EA3-4DF3-93FC-DA2F3D0C3814}"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ADBEF28-8B0F-4060-8DCC-82A35603D046}"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860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624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780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8920"/>
            <a:chOff x="692280" y="4191120"/>
            <a:chExt cx="5861880" cy="80892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60116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412955BE-9CA5-4911-B041-FCB80630E1EE}"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6570A161-B5AB-4894-9E7A-44EB6038EE08}"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3F110BE-56CC-4CDC-89EB-99421F82D017}"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4C5FF8FB-F7E6-41EE-A721-9197BA1D2A59}"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2440" y="3443400"/>
            <a:ext cx="1355760" cy="441000"/>
            <a:chOff x="170244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244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FB6595A8-C113-4740-A1EB-29747A58E9DF}"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Jorge Lara</cp:lastModifiedBy>
  <dcterms:modified xsi:type="dcterms:W3CDTF">2007-08-30T16:39:48Z</dcterms:modified>
  <cp:revision>45</cp:revision>
  <dc:subject>Chapter 5</dc:subject>
  <dc:title>Strategic Management 7e.</dc:title>
</cp:coreProperties>
</file>