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5E7E-1D8E-469C-9B89-717DE7058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0687-A03B-476E-8244-F8878573F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C16D-87FE-4A84-BAD8-ACBA5B967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9443-FCB4-4B95-BB66-4A41652B1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36D1-E54F-4D26-90C7-596DB67B4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0F0F-CCA2-4C6F-AF8C-55C8456F2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9FE3-C74A-4860-8825-D613E1451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4D4E-12F6-405C-9AE7-5D5AD368E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6064-714D-46E0-97E7-BC161C9A1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1C8C-2C38-4E6C-AD97-054953AA4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D4EB-DD2A-444F-9118-FEE4F0FFB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71B7-C68F-4E8C-A2AB-9D9DF71D6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D0BA-84F0-41B4-8D7D-C3550A971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170A-5340-4BB2-B35B-707EB720C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57F6-2DAF-4828-82CA-55727B8BC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0690-0035-4F0A-BEB7-AE49F1242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E30F-6712-4246-AB58-3F66973A4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1DAE-0690-4507-A030-ACD5D7E17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0553-B8AF-454A-9ABA-1F42EB7E1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5E84-FE87-48D6-B1CE-F2BBD7CDA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6A36-B38C-4F74-B46A-7B49857E6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5F51-7696-47AD-91A4-F948C077D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E546-A3EE-4EA9-BD28-3F37A8217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8751-E765-48D8-B4A0-F33519574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8BA2-68E5-4922-AACB-8D39FB59E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372D-326A-4797-883B-050ADC5FE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E9D9-A965-4D62-8B58-5D13C6A15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BAA8-9481-404C-B31B-175C8DA56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09AD-290F-4219-9197-CCF8D3C5D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DCDE-2869-449E-80D7-CB3D6FB32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921E-ABE6-46AB-A1A9-E1C71E4B0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5D63-F489-4528-A195-4AA03E8CC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644A-21F2-40EE-8EA5-EFD87B38D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5FC0-B67D-48A9-B777-BFD5EAD24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6D3CEB-B5DB-4F90-8129-1EECCF6508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F5BC48-F93C-451D-A455-71C6DDEFC6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1C15E5-002D-4FD1-BA63-041C1573EC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BE3B56-1E00-4E18-8FEF-34D94B1EF7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CBFFC0-CFB5-49EA-8F5D-5CFF650C81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F35E7E-00FF-4F22-8502-F8560F8E0A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4FB9F5-A850-4E09-8C96-535D41D95F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A1C492-93A2-4A83-A83C-C0EE2F0BC0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2FE65-A982-4B5D-8DB6-F9AD421C9A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F02B02-6700-4BE9-96AC-EECF2F199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0262B8-A801-4135-AFEE-92E95169CF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18290A-C385-435A-A984-AC26BE0364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E03652A6-0617-4EFF-9C0D-AF0F54941A48}"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EF11EFB-42FF-4720-ABEB-3EEB7DFA8CBB}"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B4952C1-CB82-4F83-9B51-63ACF17F9567}"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D2545FA-2882-4DB0-8D49-701D276E9F47}"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3D86E82-F01C-4B85-914B-0A6DFEFAF6E5}"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0C3A051-C4F1-4A1C-B819-C14DEF59DBB6}"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F7366F-69DA-4CC0-B5BE-0610F7C386DE}"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EF18E6-FA69-4410-8B8D-AB5F0A2D28A8}"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7900B9-95D1-47EA-98B6-B73F116F6A81}"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E1C0E12-970B-4275-8FAB-0B45960A91AC}"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3DD8427-1DA3-4293-8031-0DB2254CEBA1}"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9B88F3-A21D-44DF-B9C3-F9DA83DE86E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6DEA904-1B65-44E6-9EF4-30DA4E7EDA04}"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FC55EB-AC9B-4B10-AE2E-1F105EFACD23}"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D3A8DF-1519-4E81-8314-1A0A740A0E18}"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220F4D-92BB-4102-B052-D2DD7D074B14}"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EB93985-7BED-4AA7-9CCC-BFEE7D594A20}"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CB34EAB-7C49-471D-97CA-B9171463D9D4}"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2582ACE-7C5E-4B80-AF29-CE182830D340}"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EA88E4-5C08-45FB-992B-947F9CBFD106}"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11C641A-969C-4314-A8E3-1F28D8E3C418}"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D6991A2-090B-4C06-A6AC-40FB1FCF5846}"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46369D3-4421-485C-93C1-2C48D13F1117}"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1343AC6-A399-4581-9BE9-A3C4B4C6A755}"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874E147-672C-4578-80EC-38885F1C1DC7}"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2F82130F-5C7F-43A2-B1F2-A3EC26A7BAEF}"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EE99AB1-BF01-432A-BE56-36C5648C807F}"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A8204B0-CFF5-4FCC-8722-2A3B77B73CE2}"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E1D2D6F-E696-48FA-BB70-81E61839D67A}"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118E6E9F-1D4E-4FF1-9F74-D60935F0478A}"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DB8FE149-48DC-4FBA-A1B3-5A34BC7843F6}"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2A87928-629D-4F3A-B4B6-9FD4901EE491}"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160D168-3323-4E45-A606-3E5760DA0866}"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62E1FCB-1712-4732-A0D7-F7E8BD20972D}"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1373754-721B-4225-934B-1D029CB22585}"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8AA2B5A-03BC-43DF-8C28-D8070D035BF6}"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72CE07E-F0EB-4B68-BD09-4F82F055A757}"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860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624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780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8920"/>
            <a:chOff x="692280" y="4191120"/>
            <a:chExt cx="5861880" cy="80892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60116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F91A6AFE-17EF-49E7-BB19-FAAF615B1F06}"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459288B-D1EA-4A0B-8805-00D7E4F90417}"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C21A04F-6B88-4E98-934C-90F9CA08FB92}"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1BFC490-08D2-42E9-8FA3-DCFCED07FE0F}"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2440" y="3443400"/>
            <a:ext cx="1355760" cy="441000"/>
            <a:chOff x="170244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244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82F55394-D288-4704-A56E-6A81B9378F25}"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Jorge Lara</cp:lastModifiedBy>
  <dcterms:modified xsi:type="dcterms:W3CDTF">2007-08-30T16:39:48Z</dcterms:modified>
  <cp:revision>45</cp:revision>
  <dc:subject>Chapter 5</dc:subject>
  <dc:title>Strategic Management 7e.</dc:title>
</cp:coreProperties>
</file>