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B620-162B-40CE-A2F6-7E8B03ACA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2221-4C5A-492B-BB2D-CF49867D5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15E0-F626-4167-8E69-3570C93E9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D9C7-A29E-4E97-8AC7-A2B375BAE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4E8C-E429-4F44-9DD7-DA3023BEF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D60B-04D9-45A2-9959-E3CD2AC89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E637-DEA1-4679-A6FB-9F0B3E80F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78A9-F9D7-4843-9ED9-881184FE7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F37E-FE96-41EA-A64B-35E7AFF30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B69A-70A2-4822-9EC7-F1BAE69B7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0190-7D6C-48A6-A862-C6AFFADAE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A915-46B1-4E73-A249-6B415683B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94B8-7D13-4A41-915E-F018F2DED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BEBD-25C2-4421-BDF9-BB9CCEE51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11E2-4AE4-40FE-998E-3E739AE69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5700-AE4E-49D6-94F6-5DFA1819C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2180-49AD-480C-ACA2-3B081239A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3673-7DEA-4358-AAA3-29FC07DF3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4543-F621-4F5C-A7FF-DC51FCD3C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0137-79A8-48F4-A6EC-458A5A9F1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6BB2-1826-4097-81E5-84676A942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1FEE-3DCF-42D5-804E-83309A429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8F29-8887-49A0-B0DB-9F58D4F31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6924-8BCC-424E-85AA-9974473B6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5B1C-FB31-4BEB-BC02-B1A5DB69B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D641-6FC6-4371-BCC6-5D38D44AB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BFB0-0EA4-4460-B92A-325ECB26E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2276-F43B-4409-B276-B6FC53EAD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FED9-BAD2-40AF-985E-84CD6D453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B431-0C8F-499F-A690-59EB67163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2C65-38EE-432A-B1EC-660D0AF7E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CE89-EE8B-4E3A-8639-83810CD7D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2690-1B06-45BE-A09E-087B50A82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E572-F0F2-49AC-A020-FEEDC0016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DBD78F-54AE-4182-BFAE-1F39C6A747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83CDD6-8BC4-4060-8BBC-E18023538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C53A35-C028-4F4E-ABA3-75B4D55A3F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2F22FB-92C2-410B-B8E6-198C281318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4DCB1D-6036-414B-9BB6-852F81C5BE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05CFDE-8DD0-4E3E-8498-787EB2137C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2921CE-CE50-4E16-BAAA-15B09D36D2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759622-ABC0-4110-A210-164A20BF0F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A473A2-854D-4F6E-B8D6-9DF2E28A96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661E83-C15A-49AD-AB0D-8740DE2C04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A5E6C0-D0D6-421C-B544-ECE566CFC6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F94DE5-5CEF-4068-8B39-3DBE1E61CC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214DB909-64EF-45EB-A083-B045C813153C}"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4716606-2B60-4A8B-A9B8-EFDB60EAE7D9}"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60F549C-97CE-4B28-BD7D-9CDD6B8CDAF1}"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DDC1159-AA0E-49E3-8EDB-BF89CE0E178F}"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8EFDF42-5922-4E62-97F8-2AC203CCAAC5}"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A11F8B7-F80D-4188-BD48-21A4D62CDC8D}"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DF3BC5-5E13-4110-AD1D-BA69F3DE73CC}"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CA6137-13FB-41D9-95CA-85274467A1FD}"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C4861D-A6AE-44DF-8F1F-001F76B40079}"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4661068-1A4A-49BE-ACBC-F7673A4C0624}"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7548B52-A102-4744-8C2A-7EC72D97B7C3}"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A9C391-1394-46D1-A321-02C7EDFBAF28}"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ABB4574-10BE-4D3F-AF48-2A04393117E0}"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CD75A1-4AFC-4C4A-A1FA-3509D8B0292A}"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B30005-FC78-451B-AEBD-2C930FF8F97D}"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8A0299-3464-44AF-960D-1D3E52ABC0E0}"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9FA061A-0E11-4A31-A27E-AE74A710E3ED}"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A0C0078-710C-4FCE-80B4-D603ED59E759}"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D76B2C1-14B6-42F2-862B-A46E27226610}"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BCE285-E75E-41E3-8A41-FBA3B9D8EB9D}"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C782A98-C1B2-4D52-9968-6BD7CB75E9A3}"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C307D25-992F-4098-B27F-FFA16D4F4EAC}"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327C3CB-BFEE-4C27-B721-17DBE0BA106D}"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F917A0D-2C50-4113-9E44-8F940BACC358}"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73291CD-BF9F-479E-B610-DE74ED98166C}"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154B697B-0BB5-445A-B149-5801512043F8}"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AAF7A6B-D382-4CF7-97C6-8077A99038CB}"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BB2D6B3-2D02-4490-BB23-04440C4A43E6}"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8CF3D4D-41F0-4D28-9D4A-DA67018C070A}"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1CBEF6C3-8A25-47B3-86C1-3A37A99ACC3E}"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A1D622A3-CB00-44B9-B1A2-01095F018598}"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D0DDFB4-1FCD-4662-8352-66B4A536DB63}"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9B23534-1A86-4858-A004-CB7491D1FD50}"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0940466-8E5E-4E8A-B7D2-D87139396E49}"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FB6149E-FFF8-4C6D-9173-D75AC6477BEC}"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90569CC-B1F1-4A27-BC9D-FFA6AF400499}"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F67776A-61BA-4FAA-985F-03309AC21B57}"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860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624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780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8920"/>
            <a:chOff x="692280" y="4191120"/>
            <a:chExt cx="5861880" cy="80892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60116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A332A178-B62A-4C9E-B083-CC63500291CA}"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5C18A9D-309B-4045-8255-8DA3EC02B863}"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336FE27-5A00-4D83-9836-70056DB9D99F}"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9D06EAF-7314-47BC-8A32-F85989E7E41E}"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2440" y="3443400"/>
            <a:ext cx="1355760" cy="441000"/>
            <a:chOff x="170244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244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AD75A98A-CA96-46AB-B16D-3B270E32F459}"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Jorge Lara</cp:lastModifiedBy>
  <dcterms:modified xsi:type="dcterms:W3CDTF">2007-08-30T16:39:48Z</dcterms:modified>
  <cp:revision>45</cp:revision>
  <dc:subject>Chapter 5</dc:subject>
  <dc:title>Strategic Management 7e.</dc:title>
</cp:coreProperties>
</file>