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E1D8-0E21-49DB-BBE2-A4CA552F5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89ED-2AE8-473C-9F14-9F937511D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DAA9-91E2-486D-8E39-06697DEF5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7155-0B5E-4262-858A-891EBC182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A61F-8F32-4CA2-88D4-A5CCCF309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D2C4-2C2F-4CD2-B109-6C06F4817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D2C2-0023-42B3-BF87-38BEF248B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26D7-CC53-423C-B4DC-522976327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6683-BA24-4CF8-A709-7359961CD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19BB-8142-4CF4-8CFE-783F7F41C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1742-6C3B-47F4-86BA-337474CC4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BFA4-AC45-40AA-A3D6-3EC734FC7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48D3-25D1-408B-BB7C-2F3781128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7AF4-6E7C-47A8-A141-186916BE3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6D78-B976-4242-96B3-2D33878C8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D6E8-77BB-4516-9EE0-EC305A4F3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4092-B60D-4AEF-9D14-E14180D3E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4D6A-3FFB-4575-A825-C7A2601F7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AD2D-E486-4872-A6E3-20DBDD670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699F-867A-4966-ADE7-57BBD16C4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70FD-137E-4076-ACF5-44DA37CF0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6379-3031-4C21-A868-962726D33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68AF-E601-4691-B827-71CEB527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09F1-4F00-422A-B923-8505D8DE9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166B-AE59-4AC8-AEA8-663DA4F36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781B-9A81-4DD7-BC78-8EA0CC878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714C-53AC-4CC9-A1BE-8E7636F80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C4F7-D46B-440E-B5E3-6226535BC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A7F6-79D7-4522-A431-52356BF52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F123-52E8-4448-892F-9FFE298E3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831A-8463-4228-A7BB-BFC6F3C1B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23A0-517C-4142-9E02-E83F58B8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CBDD-093E-41DD-9011-16E917E2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B027-41AC-4D8D-9680-432659C6F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ED9D-1363-4ECE-99E7-6F1DAD0D2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FCCE-A4D1-4D7C-9498-DF1FBC7D8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304D-5C01-407F-B0D2-EB266BFD7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A1DB-08E8-4E2A-B93A-C8B7A4C8D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D33B-F11D-44A7-BD56-D007490AE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FBD6-3DE2-4D16-9907-B98C57F82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779F-7A99-490B-9A84-577D38FB6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6CA3-CE66-419B-BECE-69EA419F2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E3BCCA-F014-4258-84F5-BA10B12E5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21374A-31D2-483A-96D1-9473D6B6E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CF7F16-1F73-4900-A1AF-340B996B69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E24EFD-6FA5-4DF1-8CD1-663A20106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051202-465F-4BB1-9E53-DF72B97AB5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07A13-0EBD-4BDE-ABFF-9438C0C79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447ED-95EF-4AA1-B323-4F8EF79E5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A12C68-3C98-4C40-80AB-36B035178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20E74A-68A0-4418-807A-A3B509EA6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AD295-5750-4045-BEFC-FFC27A6FC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9ED64-B8C7-4452-B952-60024872B6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D55188-8416-4CCC-8FE6-E3BBF5AEC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1D2BF8EF-F060-484E-B2AE-46683E24866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26788B41-3698-46FF-A8A3-6E7E5B05DFEA}"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002F381-9B43-4B24-9B82-646EA3FF0A53}"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81E58E-5863-4B70-A6EC-820812D36339}"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25AB35-0E12-4EF3-B51E-EA1744278022}"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2E3BE200-2CC1-47A1-97AE-A5F825A95FF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24CC179C-CB1F-4667-9241-A46E97C137AC}"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08EE4A0-ED7B-47CA-827D-80FEF68A761C}"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0AEF231-ADE1-4EB6-B0CB-E3F5AEA7EB0A}"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AA1531B-7AC7-40BC-AB8C-5600F5FA3C85}"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3C84A7-E64F-4052-A485-4455A51AB90A}"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EBFE8E-9945-4005-A94A-7EE0A63B423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E2BD734-26C0-47E4-8AD7-54B12CB4CCCA}"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D46FD34-B8F0-4D72-935F-9C67669E779A}"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2E2A49B7-5EFC-42FE-B1B1-2409B99B66CF}"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796CD6-71A6-4C3C-B0B7-951E720DB028}"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C4DC31-F851-4140-B662-ACF64EAB4749}"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4428E7-FD70-4C72-9E60-7472F7E021A8}"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D363D0-EAF2-44A2-B4B3-A6CCEADC1D7C}"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8193A7-CA6C-4912-8E11-7F7F7156983D}"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1F66AA-2B41-4A22-A221-501DAC115778}"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EF15B4-9398-459F-A49C-FA67D6968684}"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104727BF-4797-422B-A38F-52BBA1553ABC}"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9E5702E-665F-4218-9153-7C02F60BF52A}"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94ECDF6-7718-45CD-B73C-EA3BEA4377B3}"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7B50D8E8-FA73-4DD5-AAF2-09D41DF3D8C1}"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B47CE6-A96B-4EF3-8DBE-5684134B7478}"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D7C879-EEB2-41A9-B93E-BC41CAA71EC2}"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C18701-3EFE-4450-B96D-B93E06DA470B}"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7A90B0-7889-4E92-A8A3-91946DD6C774}"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DB67F4-8C40-49B7-95EE-0E5654DFF1D6}"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4867F68-96C4-4D2E-B18C-F7968855CDEF}"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DBBBFDB-6BDF-4A51-9358-F14B4BB1969C}"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26E5E61A-AEE0-4C50-BED2-2ABCE798E782}"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E61528-2127-43CB-B298-4F322196EF5B}"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5B2D9FC-EEC7-4AC7-9A28-8D6B630D2088}"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B6EC915-17AA-43F1-810B-3220E0069080}"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2F7EDE-8A2A-4FA0-AB24-1D43B031C8D3}"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063DBC-5A97-4D87-900D-63129DCB32C6}"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604AF0-8C4A-473B-8AE3-029A20E22A88}"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93B3E2-7E4C-4E19-B828-04289B498EEB}"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6F6B7B-90BA-4AE9-AAA1-0D568307BDC7}"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D6B1DA-EA52-44FF-9B2A-A2472956003E}"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FA08917-C9E0-48B0-BD10-73A24229759A}"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9908D6-A50C-4F59-8C79-BD6595A2A04A}"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257CB35-6663-4C0F-9366-4A218B536162}"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A8046409-6EC8-4FF6-873C-4D9224956735}"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D1C9E32-CD59-4BC7-8103-C359352F8A26}"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5:19Z</dcterms:modified>
  <cp:revision>46</cp:revision>
  <dc:subject>Chapter 4</dc:subject>
  <dc:title>Strategic Management 7e.</dc:title>
</cp:coreProperties>
</file>