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22D5-9340-4FCE-BE89-EBB086D02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9C81-325D-4367-973C-8B1E12C43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165F-0349-4084-868E-5759923FD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A04-33F1-482F-8124-28A041108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A6B2-00A7-4876-8A92-D263E1246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1604-A0AE-4A0F-81A1-7A78FA901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D48B-2655-4A79-8D72-0AD7F6101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1161-CBCF-4E40-A3AC-815FB2338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9527-B009-4CD7-BA18-6B905B5AD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33DD-6494-4595-8A74-F48CD49C6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26E2-43FC-4347-936D-F344AD802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379E-B5A8-494B-87F2-CB8223946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98EC-95C9-473E-9A63-CB046411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86CA-3E9A-4374-9EC5-D809E4540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3318-509D-4F43-9C50-57C5AE8DA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0D51-81A6-4F1C-B28D-A0F1D5BE7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41E9-2CA9-498C-9469-A369C5887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CCFD-CF2E-4E29-ABB5-551C9D62B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5E33-C2CF-4A55-A12F-7D0BF5E79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7BC1-DC7E-4E2A-A5D2-25B37D230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3831-CF2D-4B31-8ADC-FB412B0D5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94B9-113E-4A3A-9287-66F3A1BFF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708F-A5BE-41E9-A927-BB47BBC35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D15F-B02B-40FF-8037-AA2872890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061A-7203-46FC-BAC7-BA8DF1963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9121-6DD9-4A41-9862-F643217D1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F8A4-BEF1-44EF-95C1-C7D09DFFA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6F6B-661B-4912-912E-54C9E00C8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5A0E-F1D1-4B14-96F7-62B1ECDBD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366D-B146-4CBC-9E27-B5982C2C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C7A6-6796-4C0F-BAAB-377976598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5BDB-27CF-43A8-8C63-572D6D6CB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DEFC-DA0A-4B58-B393-2CA3D844C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AE5A-5C3F-4B81-B3CD-BD451043D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4A6E-BB0C-404E-A839-98B114A0C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0248-8942-4047-BE34-35DB0F0B1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FB17-DBF5-4EB5-8B7C-1B22665DF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3F0B-39F5-4AE7-BC7A-B96D5D2BC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7F90-1F12-45AA-84E6-1B007EAAF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7CDA-8BBA-4586-914D-A2CC42D28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4ED3-55CC-4BAE-BF20-7641935E3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AAD4-58E4-4D94-8790-69C80E859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2D0A61-9BCE-4CB1-B8C6-367D09420F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1A9340-B50A-400E-9BD0-1EEB8CFC41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13FAD9-7785-4438-ADBF-9CF484177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73EC7F-0F0B-4B63-909A-6AFB78F3EB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2DEBF8-887D-4CDD-AAD6-F072BAA08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C5C34-5EA7-41A3-8494-F8504ED88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FBDEB2-D687-48D2-8D30-197EEAB73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E78B6-2F88-4BC1-B3B1-260E873E3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BAD88F-9E57-4F81-A6DB-EF890FE40F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9873B-52D3-4607-BD0C-78A075C37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0EB94-03B3-43D6-B434-EC0276976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9113BB-66D2-4D00-A9B9-00ACF50E0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810C0D53-9550-4592-871E-C4EF60B4968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E53724E6-C022-4FA4-8923-E9E3722D1B53}"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3738945-2E11-4D5C-BB18-424EC41A6FAF}"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CCD044F-276F-4DE4-8993-FE19B122B67F}"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2B6198D-8801-420A-B8A1-6B78A4BA14F5}"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FC1CB3F6-A7FD-4301-A9AE-D9F6A566A1FD}"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23C0C460-33E6-4C4F-B060-EBD57FE77D80}"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F016FF2-116B-4F03-BB15-09C581F6D333}"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5F2CB51-92FF-4A29-879A-320EAC1464CE}"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616D960-4B6F-47E9-B930-E04C41532695}"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41E813-8685-454A-8442-E1C2501E6070}"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5C44C1-4E9C-4FD4-AA29-048E37002E3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1838336-3A96-4BA3-8CA4-C5E06327A5AF}"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A39F3FC8-6B86-433F-9C65-146AF43E9DFC}"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2A7FD8CA-973B-436A-AA9F-E339CC5D373A}"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A885F7-7DA6-4731-8E39-097772E61644}"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D2FC7B-2151-4902-93C7-D7550D72A9C0}"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84299F-902E-4714-9F55-406B04D431B4}"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149834-8B65-428B-B988-5AA46C1A5D04}"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0F9D50-5BCE-495D-88E3-BA20A36136FA}"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30BFDCE-B781-41AB-BA20-2E5C86BF73DE}"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410F1C-E5B1-4BE8-A6D0-CED2817ED26F}"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40449DC-3F82-480B-B8AD-804FD631677F}"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C288272-56F6-4054-837A-0F3D16CD89ED}"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2F5BA595-ACE1-4AD2-B551-78EF6BC5E4D3}"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F9CB81C-66B1-4C8E-952E-E5BE528CD5A6}"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F538C3-C454-4800-9F7A-8F1CCC4F564E}"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BFFD5B-9738-4811-A560-1185F5E58785}"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E6FACA-A75D-4009-921D-88A26DEB48B6}"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946221-7B90-481D-A608-9CD9281D447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0C5985-DC99-4357-84F0-8D664EFFAFE0}"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F3FDDC9-A2EB-4E3D-9E69-661C2C68B1BE}"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3176CD-CFFC-4A7C-AC0B-F46D0A592907}"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CE4A2466-E337-41C6-8608-7F6BAEC67DB4}"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8636EDC-A5CC-4471-AC6B-51AE16703CB9}"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7581406-1C62-497D-A65A-CA20469EEDE6}"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8C0EAF3-F2F4-4BC7-9410-02FF80A3F25A}"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BAB3446-1F8B-45B1-921A-DFEB538C7395}"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EFFD32-FC67-4EEE-AEFA-FE512F3EEDCF}"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0AA8D5A-F0F0-4A34-AF7C-73780A9B150A}"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36EA59A-2BAE-41CA-AFB1-872EF508D5DD}"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B351AE-48BA-42D9-9E38-E73E0EE133B9}"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323784-1F55-4774-B5A3-065ECAD8E876}"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7686923-D5A1-4F80-B6C4-F19AF7EC94C5}"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0FB0C5-D35D-47B8-8DE2-9F2EDE56D0BC}"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D154356-36F4-4EBC-8E9B-DF20758BE82C}"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8B046AB1-30AB-46E6-A595-39EB1E8D8489}"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C02403A-F060-4372-820A-85DF2E66BE64}"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5:19Z</dcterms:modified>
  <cp:revision>46</cp:revision>
  <dc:subject>Chapter 4</dc:subject>
  <dc:title>Strategic Management 7e.</dc:title>
</cp:coreProperties>
</file>