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275C2-985F-4A54-A749-AC7C4CAC0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EB694-C5B9-40C5-82A6-1C2ABB7998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B1E9-DD27-4E07-BCAB-544E183AF3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07042-0C02-4F53-8392-31A662B7BE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9C7A3-7ACE-4F0C-9820-C78572DC11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CF75-02FB-454C-A2BF-219FAFF60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C4E00-BB76-468C-8438-E13102D70A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3F6BD-77FC-47E2-8FA9-E0DBA1D48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8454-E4FA-4448-91DA-58EDE9FDA4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099F-C611-455B-80D0-242B45C229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1DB1E-AB52-42C0-B6BE-FCBE9C2FE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193E5-4AEA-4FB1-A9C9-B4825DED5C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9DEE5-78DC-4E14-9140-103D16084A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B03D-411A-459E-8589-99F2C13A43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34DB5-AFAE-4EFB-A20C-56532868F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C22A2-0E09-46F5-A21F-BB6489A91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D91C2-1F24-4B36-A29B-2CD73BDB3D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9A6C3-0E90-4469-A9E3-0415A4F33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72B97-1A69-4A0D-8E5C-9CBAFA753A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812E7-CE9B-4C71-9F3A-6D84C3BADB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43A7-D9C8-444B-996B-9B18205000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F756-2DD1-4A92-8CCA-BD8992735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E32C-2AAB-4F26-8277-A05B68C5D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3D849-B5C0-444C-B17A-C0FF4808CE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228F5-48D1-43DF-B72F-75B2E708E8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D567-D020-4897-B672-C90653972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3A55-AA10-4D92-B396-F8481B1087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4DD24-8CEC-4CCE-B006-EA43A2982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05CE-3776-4E55-90A8-1E05970F2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490B8-672A-4728-AFA7-83DC157D58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0EABB-ADE1-4330-BD33-E4671F1271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01128-3329-4ADC-87F0-89FDE73FD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6527F-CCDD-44B6-9C3E-7605C936B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C99FC-E7AE-4BE6-B6B4-E82F486AEA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D0F8-A770-40A5-AF28-7288615AE3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A7998-2624-4EB3-92A8-729223ABDE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9089F-1968-46EE-9EDA-5C119EE58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CED2-5F2C-4522-BC74-D795089CDF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1D29-FD3B-4E56-B150-FE77E2F72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CBAC1-859B-4633-ADB4-42DC710D3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10E7-26DA-4A4C-B1C1-3B570EEEF8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A058-6B1D-4E23-9E1D-1339153212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1AB00DE-4D15-41F8-9CBF-609D313EAB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11CEBE-458A-4D73-BA56-6DB98794E7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B85650-712B-4A9D-9410-123F1178F6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C04041-7359-4238-B14C-022D0F15CF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B0DFC1-1E6A-4D12-B142-6AD4782A2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79057E-3158-41E5-8360-C52D1163226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1A968A-F5C7-4A24-B2C2-D3D93986B2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D15C6A-A253-48AA-89A4-C3F28C4C5C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1853EC-9D97-48C9-AF2B-788554E052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F6F4BA-599B-4E00-ADF9-80C844507D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845C46-D9B7-403B-818D-40AC7A08F2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FC7B46-BCF9-45D2-B6B2-300D01DC75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38E1227E-2533-41C5-9592-C8E2A9FB07FE}"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2DC10A9F-B6CA-4188-BDAB-F6086D996F6A}"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6A1DFE26-F785-4180-948B-7D26672365FE}"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F7D9AB6-BE67-417E-9644-9FA711F3F90F}"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A5F1313-7F21-4E7A-BCE0-C36D621B639B}"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6CF35691-21D1-484A-9DD4-28B4DF68E8B9}"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EEB308C3-A992-4F6B-B1AE-EB4461B0C38D}"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08F2712B-D81B-4376-8D31-2147ADCC69EA}"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BFADB856-1F91-499C-AA2A-887C1B88525F}"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8C31FA9-ED9B-4665-84CA-2997977B9603}"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7F6C6E2-3CFD-447E-B1D1-28DC52E22ED2}"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C938984-FB1D-4D65-A401-B5BA2A5AFC72}"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863B57B6-6D8B-499F-85A3-2F70468EF18C}"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F10C73FF-C289-4B7A-AB75-7E3046654082}"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6663DB00-8DF4-45B6-9D52-0A7FA2143503}"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2AFECFF-8AC1-43C6-B324-CE3447693A95}"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6AF6A33-4547-4B74-9ADA-081CA45C752F}"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B2FAF1-C266-4A7C-9AB9-2CFEB4AA0AD3}"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E0D52A7-90E5-4DD2-B43A-8481387C3AFE}"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1CAE1F7-6426-443F-9EB6-7FCFE9550D62}"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0F3005F-4E39-4E4A-8C27-2B592164F11C}"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2E19BDB-FB13-42E2-9D92-5E9A1531991E}"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6687540A-8ACF-4EEB-8C89-E32F444053D0}"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3063D87-00FC-4E69-B4ED-843A134DFE2B}"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B5A866B9-5B33-477F-B92D-9BFB910763A4}"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9F846B92-83A9-4446-B16D-C0FBE4C4277F}"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EDC44E0-720E-4940-A79D-384EA22E7C45}"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F47A30-D580-4BB2-8933-10E5A4F6BFCA}"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343383F-CDF3-41C3-9ECD-2872B9F0284D}"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E20F9B0-4E1B-45A9-8BAF-008081813303}"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EFB0D0-0267-468F-85C5-525791A9AEDC}"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1812D899-6E5A-416F-8F27-14CAC171103E}"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D965044-5BE3-476D-B575-FC9FEECC98E8}"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2E2FF262-618A-45FB-885E-786F50E37D03}"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E23D0AB-89A1-411F-8810-2AF9C1EF8360}"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60A0BFFF-4F44-49B6-83F3-A1B52DFF380C}"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640D432-7CDB-4198-9E2D-AB0F4C0C3168}"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15692AC-7A66-4C82-820A-F3BE87DD05B2}"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5960457-40B1-469B-9B58-A008BD70A80E}"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CB2DDE4-F424-4007-BF3C-FC040C9FECA3}"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DB808FB-3C23-43B0-82C5-7908CDDCED1E}"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59E1E4-C861-4D84-8F7C-1F0AA263DF20}"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1FA732-B90D-4E3B-A15C-D52FD33AE84D}"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5DD9AE2-A348-4B40-BD29-E80A6653435F}"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7E700DF-5F77-4CF6-8415-104365F01F11}"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127E246-3AD3-4FD6-927A-2F48262DC224}"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B2CFFDB9-0343-4734-AF12-594B015E50BF}"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542D04A-FDB3-4345-BAA7-BC7A1F2E237C}"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Teodoro Wigodski</cp:lastModifiedBy>
  <dcterms:modified xsi:type="dcterms:W3CDTF">2006-07-29T17:25:19Z</dcterms:modified>
  <cp:revision>46</cp:revision>
  <dc:subject>Chapter 4</dc:subject>
  <dc:title>Strategic Management 7e.</dc:title>
</cp:coreProperties>
</file>