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FCF8-0BAB-4AFF-823C-28F3F65C5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9BC6-7638-4695-9808-D63A92DB4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577E-C2D7-4FE8-9C97-83629F250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37E9-B129-49A7-BA5D-B2F383311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1D16-4BC1-40F5-8750-246A887BD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D332-EB08-48C6-B5BB-56A00307D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1FCE-806E-4FB1-8EDB-EF875E3B9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F4B3-00A1-4D8A-8018-559BB16E2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FE0E-D893-4924-8D55-26EA17994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6CD4-6238-42BE-9899-CA83AF5E5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D9B2-2DD2-410F-A12B-2B47C80A9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21DA-E2B9-4B96-A702-94FDA4466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7DFA-A4FB-4E1D-B859-F6D3A064B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960F-E10A-41C0-A8DA-244C1C602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BCB3-4945-40C1-8A09-99CCEE449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B074-06E7-4DEA-AF48-572357F1E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A562-B317-4B0B-9CB0-180D6232E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761F-47D8-4B9D-8A2B-5DBBA2F9A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C138-EAD7-4601-865D-DACFB075A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C25E-E287-4273-A4BC-F972F05ED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5A80-368F-43F6-8690-874F83847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CB19-7171-4228-AC66-5EE285B93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A374-9FA8-48E2-9660-3739072C6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F12F-0E20-41E0-BC23-B77C2E07F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BDCE-3977-4022-83FA-E6AEE15D9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2D29F-E78A-4CC7-9515-C08C62A77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A44A-5FD3-4C41-9A1D-E6F5C7BE3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7767-BF6E-4B9A-8664-BF22B173D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EBC4-B932-4264-BE2D-DE331AF0D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8420-3646-4DFC-991A-A1423F695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EBB2-7765-4F24-B4F7-2A3961512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9F61-A181-4255-A6CC-A88A0CD76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A7B9-5C3B-4450-AA8F-E10365129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99A3-10B0-4962-8D6F-876B33AE8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8917-D20F-41C1-9428-F186DCC5F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1845-EFFB-4658-9827-D8B77D556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DF18-16B3-451E-9FD9-9CD3BFAE3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EA0B-EEB8-4C0B-B02E-A6AD5D894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6922-451F-4D61-A8DF-979501BE7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D90E-CB69-44A4-BF1C-99039364A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DA2D-A61E-41A1-BA4B-6486BB2FE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CFF2-5523-495F-A741-CF8188FBA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7E2A01-F211-407C-A7BF-3395239438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E8E3F4-4D14-4E09-9E6B-E1042E2122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6AF5F9-D461-44BB-823F-8111D23F94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9C0231-2F87-4957-937B-9C8D194A71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FC4DC4-A695-412B-948F-966887EBF5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D137F1-6EF5-4CDF-9BD9-1690EB4735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7BAA50-8EAB-4806-8C15-CADA911558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D64D69-F154-446D-8C3B-4AEFAA179F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009E95-6FBA-4379-BAEC-659378D3C4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8F587C-F1D2-4920-A708-A65CC1098A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E7E903-9AC4-4363-86CD-14BC86B09A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948658-CCBA-439E-AA77-3900E81D1C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C6F80257-BB06-4D2A-8D3A-0141B504E2C9}"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D221EA6E-9895-434F-9B13-A39E5BBEC65D}"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89CA6FE-6EE2-43FE-8298-C3EA236D2B6D}"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4431472-D097-4222-A257-41D24C94EA79}"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B38044B-F520-49F4-BA61-C3390E9DD559}"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6F56974F-49D5-4F81-8CCF-D6CBC26CE55F}"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98ACBC88-54E9-49D6-B1DA-76911DC9E388}"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9FFDDBD-AF80-4D55-800B-007C91155620}"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168CFC6-5BF0-444F-B28D-CA2420E948DC}"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4BA43D8-B9E5-4E26-A4CA-9003FF35F12D}"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F6414DF-1488-46A4-8340-D485DB8B7D57}"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244450-58D9-409E-B913-D68A5A15AB84}"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31A8DC3-A97E-4B86-A4D9-8FBF9EDE9C28}"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58D94B45-11C7-4342-9E06-7D98F749FF4D}"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60FF6FD5-7B3A-44B9-8FFC-6AF9DE1FFBFD}"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AA1243-0E1A-4FC2-8602-CAF9A5D84509}"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268EBC-F2E9-4053-831E-99EEA306C8B2}"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71F6F4-0A3A-40BF-AC8B-FAEA46B3B94F}"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3AA18B-2748-4B4F-9C2F-89A049C93C00}"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EA8FB5-0A0B-482A-BFA2-9D7817CC2BC6}"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FC33C22-9361-4C7E-A729-E2E415491CD9}"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33E7D09-EDA4-4ACF-B80C-6695B693F5CD}"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1B0DFEA5-965E-48E7-BC18-6F6DCA9C9C39}"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448E76AB-CDC7-4096-9EAB-02A48C10A376}"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0CB7D537-57B9-409F-9357-79F5D4DED51B}"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D10726F4-63B4-428D-969E-DE1C2D298203}"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9E26A9-39DC-4672-8028-C334ED82703F}"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A8BE72-DB5D-41C6-9F8D-02AFC59EB8EB}"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280144-4E70-47A8-9AEA-CCC1707D5142}"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1D4966-F1E6-4F88-987E-0F9AE9E8FB44}"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A69B95-C94F-41B3-B07A-035530949269}"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6DF16207-69F6-4B6E-AAC3-450654C9E15B}"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E0924A4-C66E-4DDB-80AD-201C54453ECF}"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67D5314F-5D34-4500-949B-0FC52D9D9D8A}"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B29C917-3274-481C-A69D-BB4634B3DF5A}"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78C42B52-9056-4C62-8EB9-E7A62D071402}"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32395ADA-C96E-4999-9706-7A8779AC3B51}"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98EBE32-6B72-4EE4-AECA-6A7F1546728A}"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5B8F8FE-3AF5-46F2-B0B6-1B886A76E1CC}"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52293AC-2523-4E1F-AE3A-93BB4196980A}"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2AB27B2-B3C9-44EF-B4E9-3D3154B55F52}"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F9431A8-44FB-4035-8BFE-559E44200B76}"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3CB0131-D511-4EFB-9129-9F612B94246F}"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B8C38F2-6D91-4AE9-9018-CEE79FB38706}"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94FF401-A09B-4071-A183-9D78FEF2E71E}"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9F50762-7277-411E-A9D1-DC4673ED1355}"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27B0F407-84B4-45BC-B670-94EF30351BDF}"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3AA44CE-AE52-40C4-93DF-949D838E4D3C}"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Teodoro Wigodski</cp:lastModifiedBy>
  <dcterms:modified xsi:type="dcterms:W3CDTF">2006-07-29T17:25:19Z</dcterms:modified>
  <cp:revision>46</cp:revision>
  <dc:subject>Chapter 4</dc:subject>
  <dc:title>Strategic Management 7e.</dc:title>
</cp:coreProperties>
</file>