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B7EA-3723-4723-A3A9-1578D57C9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DA8A-6C00-4AE7-9B9C-098E3A80A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91CF-0580-44CC-A8D1-4CA756703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CAF1-236D-4937-8EC7-3C29B55DB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3E08-3D1C-49DA-99FF-DB7F233C7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E935-D78E-4C66-8771-4BA958473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07BF-CF17-448A-A216-A0920A020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D081-525A-4CA7-BEB6-2E8FA1E0F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FE89-8D34-458D-B98B-9C750B3DB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4E7F-A769-4421-AC5F-40DDAC704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AE44-4074-4187-89E9-D11F5079E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49BB-8035-4D6A-9128-A5751466C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A098-DDC4-4A9C-BE43-952590C65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0018-B7EE-458E-BB35-3213C5E3D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763A-7A0B-48B2-8A6E-F869F4AE5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C240-E374-495E-8DD2-935BC7296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467B-FC06-444E-8AC8-F9EBE9141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8F64-2B0F-4B1B-9231-1CBFCAB34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4645-6DFC-44F4-B93F-310A42A12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6D8C-397C-4446-808C-E216741BE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290B-5AB0-4165-8398-3583D3714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EE56-D538-42E0-95F0-A3F9B801C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2C66-EE70-4004-9026-B1C310BE2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B9A0-B865-4594-BE90-F7BAFC1D7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9269-B0C7-4686-80BB-F22D8DD8A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A2BE-8F18-4416-987A-88263414E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9BA9-F3E6-47FF-A54E-C14FC0950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3BD5-EF5C-4585-A055-50A104BE7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AB59-AC13-42EA-9706-FE62D5D91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5081-D76D-49B7-9AD0-7874A0A45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BD3A-DE38-47F8-A37C-25A588073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74B2-3557-4B44-AE15-5D7622A17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B542-1E7D-4E93-B408-0CD738A99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6662-794B-49B5-A41D-499B3340A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AF2E-6CBF-4214-A142-0F7877F0A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6E7D-D190-4717-92C6-216B33977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DEB0-B43C-4378-AA8B-18E13BCA0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02B8-8E22-4D1F-B394-C1100800B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BC6A-B168-43DC-9E2C-79CC0174B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30C3-3867-4F67-A2F7-FB14F50CE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49B4-3F94-4E8D-AFDF-E581E62A7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DF8E-1277-49F2-B51C-22BCD5808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9E8E2E-5C05-40D8-A9C5-20BC0F43A7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B71FA4-17F8-4D58-A1D8-81C25D34EA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170D17-18E4-45C8-BAE7-FE569B2A8B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3A6EEF-D778-4CCF-9CBE-DE2B71CDF0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2C83A3-C5E2-4B62-8434-80E95A51F2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DA3FA8-637E-48CC-ABFC-81ECD688C0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7E9C72-BC3B-44CA-8210-110861AFCC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D192F4-F7CA-470A-BCB6-7DEA900066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4DFD8C-1C9D-4907-B5F1-D6FCDEE03C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1CEFAA-AD66-4C55-BF8B-87F8BE05D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2BFFF-9AC1-41E2-9112-8B68D41157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E68FF8-852B-44F5-99EF-722BBC7DC1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B37BAC8E-1616-4ECB-BEBC-E86CABFA4EE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13D79F7E-5606-4C6F-ACC8-EA7DC6832724}"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C9E13BA-4B13-4B3A-950F-5FEB3DC5321D}"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D84C00D-91F2-477D-AB90-5664C9AC9120}"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DC69074-C5EE-4DDF-A618-2EA694842349}"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65C3721E-1428-481B-93E1-C1D0F8AB4A4B}"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F0491795-61E3-47FA-84DF-328A63D0FD0A}"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0CEBBF3-234D-428D-849C-4B095C4CA063}"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CABA83C-7FEC-41D5-9C1B-5438ED00259D}"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070C29D-623D-4F4D-A283-2EE3C40661EA}"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4B5E2A6-333B-494F-BCD3-650A59CC0D1D}"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E3AAC4-3E48-462D-9232-811D0955CFF2}"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68D2207-F9F9-4583-850F-BF214A0A2F61}"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48BC55D5-87BE-4580-B4B6-6E9BE1ACC828}"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34F3C263-EBAF-4541-A442-ECE3BE64B802}"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217F45-6D6D-4F62-A94B-C9A2AFB933F4}"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B2E6AB-5B64-4441-B3FE-2BB4CFCDF6C9}"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3562CC-AA8C-4921-B93A-FEAAD7C03DA1}"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DAF3C6-1782-4F29-9772-89285F070188}"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4635A9-831B-4CE9-86BA-8EFBB54D89B0}"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E776DA4-A265-4E02-8D84-8F1CA0DD297A}"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A3FA7B-6375-46A2-9441-1841C329E297}"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43E9C0F5-854E-4632-827D-BF43D5E4CC47}"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7BB4306-A557-404C-B7BC-88CCC185291D}"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BF43B43D-F829-4F74-92BA-1B52422E7D1A}"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4EB3422A-CCE6-4242-A22F-DDA8BDB7F7B4}"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72EA4C-5035-4283-AA72-23B11BCF9687}"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24CE26-3BE1-4798-BBC6-BFF0F63B0766}"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6A19D1-6581-4230-AC5C-8321B8A8CAC6}"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C735F6-0CE4-43AC-BF67-FDFF1CE43BEF}"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2BF24C-9A5F-4306-93D9-2C2D74AA2712}"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0C5D8EBF-70DA-4D82-B06D-2D8F70162528}"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7E8FAF2-6B96-43F6-99D0-E9D8A6AADD95}"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58C9E656-E474-49CA-94CF-969A0FF518C7}"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94D87D9-60DF-42E9-B6C7-5B58411AA145}"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E5ED41BE-943A-44C4-90DF-09E2405A0854}"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D7A39A3F-5679-43DE-94F4-77B7DA0633AC}"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1D2ECCA-B357-446A-A91F-E32C5A7EFF27}"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5A2BBDD-9A0E-40A3-A3FE-B63D1F9AF7F8}"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E85E407-5AD3-43B7-82C2-62BAE3D6ECD8}"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9628E38-5E26-4CAF-AC63-507EAA09FCCC}"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F3CD183-5911-4EB9-B5A6-11DA03A3FC4C}"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244C923-E7CC-4B9A-8193-ACF673442568}"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406A1F2-21D9-4392-AF3B-82B42612179D}"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76C42C-F8EC-4247-9BE2-434D7C130DBF}"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FA96FC9-B420-470E-BC69-5D79A8351026}"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8D46D386-8D47-4D39-BA5B-A1A45E901D29}"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BEB93DD-FD7A-46BD-92AA-F150F3405902}"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Teodoro Wigodski</cp:lastModifiedBy>
  <dcterms:modified xsi:type="dcterms:W3CDTF">2006-07-29T17:25:19Z</dcterms:modified>
  <cp:revision>46</cp:revision>
  <dc:subject>Chapter 4</dc:subject>
  <dc:title>Strategic Management 7e.</dc:title>
</cp:coreProperties>
</file>