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4FDB-A8C0-43E5-A803-701F6F915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7C8F-EA5B-4184-81F6-D883B2C8D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6E24-2389-49F8-A5D0-8A56D7AAB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42C3-A5F4-4A16-A7D0-1EBB8D05E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16E4-AF0B-41AF-8E3C-906468A89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3802-E37E-4C66-8551-CE68B53C2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B40D-55C9-4D7F-916B-657D24730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7477-68F3-4991-9147-264103D21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83E0-8A6E-4E6B-B4C7-FA4F98D3B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E68E-7FCF-4B45-9E93-65D6D7539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6140-1B6D-4F82-9086-E0A4DF584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6136-BDE2-4FF2-B7F0-98C98076C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A89A-2A5D-4236-A255-2FE278839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6958-3765-4A3F-9D83-1EEDB6BDF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9D0B-88D8-4FAF-90A8-DEE00E933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9FE3-99F3-4228-A8BF-3D2EA53DB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6A87-1074-45F7-9427-0A29B8246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79FA-B937-4DFD-A954-95FDD211E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C1DE-07CC-47CC-A2F4-032757760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F00B-D079-4884-BBA1-E96D87604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B34B-7E19-4943-8AD7-7144B8597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250E-BDE6-4EB5-9A48-08D9E16C1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D22B-9689-4FD4-9F2D-99B369E89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ED09-A3AC-4AC6-964C-E892EEB39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B890-86F3-4AC0-BA3A-8451C5FC6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B5A4-A0A2-434D-ABE7-0E5D1FB5D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994D-9D39-4F88-BE43-C1CD8E0A5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07DE-3F0A-4E72-95D4-215D558DE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10AC-128A-49AB-B1E2-1788F56DD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2B43-5C9F-4E35-A14F-0258CC5F8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8AEF-0A3F-4993-8130-B7896A6C0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4143-57DE-4D40-9E93-76B1E2BD7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C988-9CA8-4B67-9F37-D34092845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01F4-7FA3-419E-8216-7E48D4406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0386-4365-48A0-A5A1-FAB28977A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F495BC-4181-4F1D-9854-C3876B056A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FF3F17-4AA3-4031-840D-2B83B491BC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EFA724-14F2-4EBF-8CC7-92C1A70F9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994239-535F-43E4-AD06-D7B999352A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7F2613-EC7D-4A37-B09D-06D8613AE1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612191-B8EF-4289-AC17-2D9097F08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819076-6F6E-4508-B28A-D40C86962D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16D488-1946-4915-9AD4-FFC53462D1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04A280-6C60-4CA5-97D8-B4B3DEFB4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1DBC34-2913-4BC1-B947-9B830D636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8A963B-B61E-4B76-B9D0-CF7DBBC3AB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F4E589-ED18-4146-896D-6A0E8D1B3E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DF7E5B48-EC2F-4E85-8291-5C39081A292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FA69745-87F9-4698-8F43-566EF648CBB3}"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97916AF-EF17-47A1-89D2-A4BDEB6DC3EF}"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A05DD2C-B6F9-47AB-88CD-681E9F32DA21}"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1E25C41-9217-48A4-B080-723DE7E5A786}"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C101639-BD97-4491-B747-659A0ABE6130}"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5D82C3E-0FD5-4B3B-9551-238587CE8539}"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FF3E28C9-DF33-4DE6-BFF7-CB9818DB4E4F}"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C618AAA-E3D6-4D18-A874-7465E6F8D7B2}"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3CC04C0-7B55-47F7-A77F-4A4194F586F5}"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2D3631A-1075-4111-AEB3-C85F6A19CAD5}"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F90B62-802C-46C3-86E9-EBBF379177FB}"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CD94229-D107-4F9A-B09E-D15E21AF5DCC}"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896FA78-2C16-4421-9F1E-6925C4BF250A}"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B7BB194-AFC5-43E7-8642-E68487BEEC66}"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193EAAD-E1AF-414E-905A-56F06BC1493E}"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7CD1FC4-CF39-4F62-8675-15B5DBA47E14}"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27C3866-C9C6-4858-9D68-46AFE647CF76}"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9EEC3B9-C33C-488D-92F8-62FEBDDE050C}"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B85BA4A-6879-4CE6-883B-836D52DDC469}"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B832B5F-0A3E-414C-BB5F-9C67780C6F66}"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E4E54C2-5BA1-4BDB-A7C6-5E6F384C26C4}"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F403D3-D9C4-458B-AA58-A5C9D02CF262}"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E71267C-B70E-4991-AF19-014E97E5AA1D}"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8F66FAD6-062B-4784-887D-14D4CA57832E}"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925D710-D4AD-430D-BFFD-CBEF6AC63A4E}"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65C08A5-39F1-4360-82CE-E5C206046AD2}"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454F99-3D57-48F8-9D30-50069165E6CB}"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8F723AC-FCD4-4B43-9AD0-0C916B28F2E1}"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ED135FA-7C5F-4046-B1A9-5AA0C4EF7D8A}"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04B5639-120D-41B5-AEAA-540BF6FF725D}"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5577A0C-BF60-49B0-A7E5-9598D648F64B}"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E2E458CA-DEA6-4BE9-9B7E-245E6F6DB7F8}"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D17DACB-9C48-48A8-BEDB-80E9058D4CA8}"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06B1AB6-7483-4C44-BE5A-80126961C608}"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F1A7C29-9FA5-4262-906D-B7B92AD07E47}"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1B31363D-6C21-4931-BBAF-78B571556BC4}"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4487C02-B98D-4EE5-B09B-F920060DF39D}"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95D9328F-5D5C-4FF7-A0AE-058DFA105A18}"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7C2FA05-7C50-4264-8BDD-48EC8B9A1D2C}"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910449A-30C5-475C-8F91-05FA07BEDD99}"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701FB3C-6C56-4E8F-A627-DE90A77217FF}"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AB0ABFC-DFD0-4C58-A7A0-48F5936BC338}"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0D4F9FE-2EB7-4CD4-B571-C2E6E0567DA4}"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7B04BA7-00AB-4DBD-887D-00A161F5575B}"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37AD61C9-EE77-4FF8-A869-5EE55B2EAD3B}"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A9B75C3D-42E1-4D8F-A1AC-6C9637F4F114}"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7524FE2-F62E-41CB-B5E3-8767CB37C031}"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B4E445A8-37DC-4C1E-846F-176B0071161B}"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Teodoro Wigodski</cp:lastModifiedBy>
  <dcterms:modified xsi:type="dcterms:W3CDTF">2006-07-14T03:21:10Z</dcterms:modified>
  <cp:revision>49</cp:revision>
  <dc:subject>Chapter 3</dc:subject>
  <dc:title>Strategic Management 7e.</dc:title>
</cp:coreProperties>
</file>