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B85F-1305-42CC-B367-DC18336BE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877B-AA3A-4EF7-BBCB-303F02578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180C-ED5C-4B9B-B6CB-1989277D4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0B7E-0AA9-4BC9-AC87-4AFD25205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794A-7FAE-4CEC-99E9-84160C4AC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27E4-EB08-483F-A6B4-B4E1D10C6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6710-0E91-4D64-AA5B-23DE8993C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03D2-7596-4844-A74B-E48B4F48C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FC69-318A-44BD-AF30-7B78BBDE2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4B6D-94CD-4436-9D89-9F6CFB2F9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3558-7AAC-4507-A9AE-CECC3EFE5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42D9-CACC-4990-A7A2-C759B2E02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E0B3-3051-4D7D-93F8-B1D7B0C00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0617-C051-444B-A8E3-E79EA9CBE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F29DC948-4B62-482F-97E7-1A04E6E76DB7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F554-4ECC-4682-9E2A-A9BDB1E0A976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245E-5247-454C-89A5-1234DE30D452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EB91-F4E6-48BE-8E97-2C9BDC91DF21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84B9E-EBEF-43C3-917F-31A265D2630C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5364-09BB-45EA-9356-5D99B6E099D9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A396-311B-4A2F-909B-07DFA029943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D017-76ED-4D36-9CBA-6196E680CF81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C404-DEAB-43E3-87EE-7598448D2AB3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BCBE-A4CE-46C9-BF09-81F45137A45A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A328-7CB1-40EF-BA6F-6D75A4CAE1BE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48EF-63CD-4119-B227-B50C55968F6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8D2B-3D53-40FF-B31C-AF3BF9CD37C4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0A0B-831F-4388-A953-99855280C483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35E9-8EF0-4F61-ACC3-712EB76E3468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D45BC-51E4-44CB-97D5-387FDB72B33F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8D29-16AC-4977-BEDA-57CB0A008AFF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5EA5-D22A-4C80-AA80-DE208F214E3E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35B3-4C89-4D50-94AA-D1269FBB6096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1C4FB-640D-48DD-89C8-951FC2762ED1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51EE-0E32-40F2-9726-BD9D8F42D149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388A-1B7C-4997-B05A-D7C817CF523A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9022-BD49-4DF8-89BC-8917982F7B8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63D4-F3EB-439A-A4C4-E793585BBC30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BF75-E9B7-4A0E-B91A-EB9DBDB425A5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B587-C5F7-42EC-9A2A-119744E75DB2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7EC7-E694-45E4-B219-A919B9AA0BD8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D7C8-4323-4C88-8E97-268BBAF2DF4D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DEAB-2714-4F67-B8BC-59A132799B21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FC1C-B903-4BA3-BF6E-07E6EF87568B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D147-0110-4332-9703-D8725115239C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823B-E3D6-4F0E-9DBC-8075DD19DE36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8A00-D711-4EB8-B335-DEBAF1F9EE34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4E5C-23D6-4D3D-99FA-6E06FFB8A7FE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B580-7EA1-4520-A8FB-D042169B49E0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9B61-BAA8-4E6C-B0DF-104F6464F8BE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B34C-FF36-4104-815B-3786AFD1C953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806C6-3196-4B01-8CA4-934D544E8D82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FB9D-F854-4945-959C-A724C9B8FD5A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395A-712D-4BAE-82A6-9E9519A7388E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65F9-6CCB-43B1-9DCA-AEB93C30FE82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D153-4990-4A87-8321-54FFBA1B4BF2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0B45-C785-4440-B489-B6E9CE9310B7}" type="slidenum">
              <a:t>48</a:t>
            </a:fld>
          </a:p>
        </p:txBody>
      </p:sp>
    </p:spTree>
  </p:cSld>
  <p:transition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F33CA-0AAB-48FF-A9A8-C980CE8EE9C7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639D-387A-43B1-ABFD-DB4C5BFC5AFA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72A5-9F16-408B-BB93-70A283D8F576}" type="slidenum">
              <a:t>50</a:t>
            </a:fld>
          </a:p>
        </p:txBody>
      </p: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8AD0-0BD2-4915-87DC-D582A8A1AC23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8140-B003-494E-8DDC-594272917696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EAAB-038F-4935-A29F-824B6BF6ADF5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ECB0-EBAF-474E-84C4-97D8362CAE27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B387-4CDD-4520-B681-1CA1B532E1D9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EFE7-B91C-4E51-9280-45478B527FF7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0B6C-3B40-4876-B3DD-05B0383B1A53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mplement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4DFEA-629C-473C-8728-56064DCF9BE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3352-F899-4BFA-B651-E117F4254C40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Teodoro Wigodski</cp:lastModifiedBy>
  <dcterms:modified xsi:type="dcterms:W3CDTF">2006-07-14T03:20:02Z</dcterms:modified>
  <cp:revision>53</cp:revision>
  <dc:subject>Chapter 1</dc:subject>
  <dc:title>Strategic Management 7e.</dc:title>
</cp:coreProperties>
</file>